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980F-3698-4D68-929A-E69181B58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4638-6219-47C8-BB5B-DF64FB3C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DA24-8840-46B3-8E66-F5547CE20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A10E-E04A-480E-93BD-33F92C577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696A-763F-4EE5-B6C4-8CDA7A52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A7AC-5671-40D9-9C10-CB3D913A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0BD8-4624-49B2-B00F-38018603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A442-25F5-47F7-822B-1C292F6C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111E-8CE5-4F7F-AB54-A4B62DBD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8D07-9F37-45F8-8DAD-CF92744E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6430-E543-4B69-A258-75752605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7EC9-CAF6-4B0E-8880-FBB91EDA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9F29-3779-48B3-9041-AF4A91C5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1DF7-057E-4CC6-8E7C-7CE97D8C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A68C-E7FE-40FA-B228-7372F67E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61DB-530B-4E9A-A3ED-80987CAFB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C10B-85F0-4F96-A3DA-01DED2AE6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9ECB-A12F-4C33-9939-BC58C510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78A3-3469-4E41-B62F-1E0E312B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C1A0-CB27-46BE-8156-EE6C9251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0AE5-27CB-48F0-B0AE-48FA241B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7D4A-DAD5-49B0-9512-5A3E0754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40E6-428A-48F3-95B4-8198A370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0ECA-D3C7-4104-A190-A81E6F75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6B26-4F50-4178-A98F-47C911335A4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11C8-4D4F-42EA-941D-012EA716A2F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d/d8/UDP_encapsulation.png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.bustos@inf.udp.c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ld Wide Web (WWW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parece antes los usuarios como un repositorio gigantesco de docum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ctura electrónica en Ch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uchos contribuyentes y compr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nte centralizado (SI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ack-office distribui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conomí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en capacidad de procesa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licaciones inherentemente distribu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cidad de creci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iabilidad y disponibilida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 y dat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s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de la complej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 de administr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llas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 frecue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d, Latencia, p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rdida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teroper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lta de estándares ún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gur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Implicancias de distribuir los sistema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Concurrenci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cursos compartidos. Acceso concurr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croniz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Sin tiempo global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da computador tiene su propio reloj loc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ordin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Fallas independient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osibilidad permanente de fallas en cada compon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tección de fallas y tolera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Desafíos de los Sistemas Distribuido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sabilidad (abiert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al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mpartir recurs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objetivo básico de los sistema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rios deben tener acceso fácil a recursos compartidos y compartir sus propios recursos de forma control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mpreso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uta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pacio de almacena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rchivos, datos, páginas Web, red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orqué compartir recursos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, capacidad, escala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onder el hecho que los recursos y procesos están físicamente distribuidos en diferentes máqui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n sistema distribuido que se presenta hacia el usuario como una sola máquina se dice ser transparen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, transparencia se aplica a varios aspectos de sistemas distribuidos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s diferencias entre las distintas representaciones de datos y la formas en que éstos son accedidos por los usuari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representación de un entero en una máquina SPARC (big endian) y una INTEL (little endi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 ubicación física de donde está situado un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 particular se suele usar nombres lógicos en vez de direcciones reales. Ejemplo, la URL en el We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igr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el hecho que recursos puedan migrar de una ubicación física a otra sin afectar el modo en que se acce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las tareas ;-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-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caso aún más fuerte de migración. Los recursos son movidos de una ubicación a otra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mientra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stán en uso y sin que el usuario note 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uso típico es para balancear carg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que un recurso pueda estar replicado varias veces para mejorar su rendimiento y/o disponibili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bviamente exige transparencia de ubic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 Web de Goo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curr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de que distintos usuarios están “compitiendo” en paralelo por acceder o usar recursos, o que un recurso está siendo compartido con otros usu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xige que el sistema se mantenga en un estado cohere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bases de da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bje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tender los conceptos básicos de sistemas distribuidos y sus problemátic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render el uso de técnicas de diseño de sistemas en forma distribuid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struir sistemas computacionales básicos en ambiente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ocer diferentes sistemas distribuidos de mayor u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usuario no nota (inclusive nunca supo) que un recurso ha dejado de funcionar (o se ha recuperad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 uno de los aspectos más duros en sistemas distribuidos por la dificultad de detectar que un recurso ha muer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arreglos de discos RAID, Google File Syst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sist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si un recurso de software está en disco o en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plicable a distintos sistemas, no sólo distribui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es cache, proxy; conexiones persistentes a bases de da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 transparencia tiene límites y gra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 siempre es posible esconder to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desfase temporal de comunicación entre puntos muy distantes (delay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empre hay un trade-off entre transparencia y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Bases de datos replicadas world-wide. Un caso particular son los servidores DNS que pueden tomar días en actualizarse, lo cual no se oculta al usua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Us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os recursos y servicios son ofrecidos de acuerdo a reglas estándares describiendo la semántica y sintax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lmente estas reglas son descritas vía protocolos o interfa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face Definition Languages (ID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eb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aspectos muy releva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letit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eutr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cal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refiere a la capacidad de crecer de un sist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escalabilidad se puede dimensionar desde tres asp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amaño: la capacidad de agregar fácilmente más recursos y usuarios al siste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ográfica: la capacidad de que usuarios y recursos se encuentren a distancias consider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dministración: La capacidad de mantener una administración fácil a pesar del creci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fortunadamente los sistemas son escalables en alguna de las dimensiones sacrificando rendimiento en las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 forma general todo sistema distribuido consiste en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ltiple CP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compartida (multi-proces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CPU comparten el mism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independiente (multi-comput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da CPU tiene su propi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unic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vía B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nal comparti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unicación vía Swit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nal exclus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371600" y="1981080"/>
            <a:ext cx="1981080" cy="1067040"/>
            <a:chOff x="1371600" y="1981080"/>
            <a:chExt cx="1981080" cy="1067040"/>
          </a:xfrm>
        </p:grpSpPr>
        <p:sp>
          <p:nvSpPr>
            <p:cNvPr id="139" name=""/>
            <p:cNvSpPr/>
            <p:nvPr/>
          </p:nvSpPr>
          <p:spPr>
            <a:xfrm>
              <a:off x="16765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79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60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954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108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1460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481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71600" y="251460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002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3372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688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004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288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257800" y="1981080"/>
            <a:ext cx="2209680" cy="1067040"/>
            <a:chOff x="5257800" y="1981080"/>
            <a:chExt cx="2209680" cy="1067040"/>
          </a:xfrm>
        </p:grpSpPr>
        <p:sp>
          <p:nvSpPr>
            <p:cNvPr id="155" name=""/>
            <p:cNvSpPr/>
            <p:nvPr/>
          </p:nvSpPr>
          <p:spPr>
            <a:xfrm>
              <a:off x="54100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4360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77120" y="25146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00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436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771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102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627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5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294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29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2940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95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27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57800" y="304812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00200" y="4191120"/>
            <a:ext cx="1905120" cy="1523880"/>
            <a:chOff x="1600200" y="4191120"/>
            <a:chExt cx="1905120" cy="1523880"/>
          </a:xfrm>
        </p:grpSpPr>
        <p:sp>
          <p:nvSpPr>
            <p:cNvPr id="173" name=""/>
            <p:cNvSpPr/>
            <p:nvPr/>
          </p:nvSpPr>
          <p:spPr>
            <a:xfrm>
              <a:off x="2438640" y="487692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002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3372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67240" y="541008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004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623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7180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1" name=""/>
            <p:cNvCxnSpPr>
              <a:stCxn id="178" idx="2"/>
              <a:endCxn id="173" idx="1"/>
            </p:cNvCxnSpPr>
            <p:nvPr/>
          </p:nvCxnSpPr>
          <p:spPr>
            <a:xfrm>
              <a:off x="1828800" y="4495320"/>
              <a:ext cx="64332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"/>
            <p:cNvCxnSpPr>
              <a:stCxn id="173" idx="0"/>
              <a:endCxn id="179" idx="2"/>
            </p:cNvCxnSpPr>
            <p:nvPr/>
          </p:nvCxnSpPr>
          <p:spPr>
            <a:xfrm flipH="1" flipV="1">
              <a:off x="2514240" y="4494960"/>
              <a:ext cx="38880" cy="38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"/>
            <p:cNvCxnSpPr>
              <a:stCxn id="173" idx="7"/>
              <a:endCxn id="180" idx="2"/>
            </p:cNvCxnSpPr>
            <p:nvPr/>
          </p:nvCxnSpPr>
          <p:spPr>
            <a:xfrm flipV="1">
              <a:off x="2633400" y="4494960"/>
              <a:ext cx="49140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"/>
            <p:cNvCxnSpPr>
              <a:stCxn id="173" idx="5"/>
              <a:endCxn id="176" idx="0"/>
            </p:cNvCxnSpPr>
            <p:nvPr/>
          </p:nvCxnSpPr>
          <p:spPr>
            <a:xfrm>
              <a:off x="263376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"/>
            <p:cNvCxnSpPr>
              <a:stCxn id="173" idx="3"/>
              <a:endCxn id="175" idx="0"/>
            </p:cNvCxnSpPr>
            <p:nvPr/>
          </p:nvCxnSpPr>
          <p:spPr>
            <a:xfrm flipH="1">
              <a:off x="228564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"/>
            <p:cNvCxnSpPr>
              <a:stCxn id="173" idx="2"/>
              <a:endCxn id="174" idx="0"/>
            </p:cNvCxnSpPr>
            <p:nvPr/>
          </p:nvCxnSpPr>
          <p:spPr>
            <a:xfrm flipH="1">
              <a:off x="175212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>
              <a:stCxn id="173" idx="6"/>
              <a:endCxn id="177" idx="0"/>
            </p:cNvCxnSpPr>
            <p:nvPr/>
          </p:nvCxnSpPr>
          <p:spPr>
            <a:xfrm>
              <a:off x="266688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88" name=""/>
          <p:cNvGrpSpPr/>
          <p:nvPr/>
        </p:nvGrpSpPr>
        <p:grpSpPr>
          <a:xfrm>
            <a:off x="5410080" y="4267080"/>
            <a:ext cx="1905120" cy="1600200"/>
            <a:chOff x="5410080" y="4267080"/>
            <a:chExt cx="1905120" cy="1600200"/>
          </a:xfrm>
        </p:grpSpPr>
        <p:sp>
          <p:nvSpPr>
            <p:cNvPr id="189" name=""/>
            <p:cNvSpPr/>
            <p:nvPr/>
          </p:nvSpPr>
          <p:spPr>
            <a:xfrm>
              <a:off x="6248520" y="56386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100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4360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77120" y="4800600"/>
              <a:ext cx="30456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102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100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4360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77120" y="4267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102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627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958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294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629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2" name=""/>
            <p:cNvCxnSpPr>
              <a:stCxn id="190" idx="2"/>
              <a:endCxn id="189" idx="2"/>
            </p:cNvCxnSpPr>
            <p:nvPr/>
          </p:nvCxnSpPr>
          <p:spPr>
            <a:xfrm flipH="1" rot="16200000">
              <a:off x="558072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3" name=""/>
            <p:cNvCxnSpPr>
              <a:stCxn id="191" idx="2"/>
              <a:endCxn id="189" idx="1"/>
            </p:cNvCxnSpPr>
            <p:nvPr/>
          </p:nvCxnSpPr>
          <p:spPr>
            <a:xfrm flipH="1" rot="16200000">
              <a:off x="5905080" y="529524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4" name=""/>
            <p:cNvCxnSpPr>
              <a:stCxn id="193" idx="2"/>
              <a:endCxn id="189" idx="6"/>
            </p:cNvCxnSpPr>
            <p:nvPr/>
          </p:nvCxnSpPr>
          <p:spPr>
            <a:xfrm rot="5400000">
              <a:off x="649548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5" name=""/>
            <p:cNvCxnSpPr>
              <a:stCxn id="192" idx="2"/>
              <a:endCxn id="189" idx="7"/>
            </p:cNvCxnSpPr>
            <p:nvPr/>
          </p:nvCxnSpPr>
          <p:spPr>
            <a:xfrm rot="5400000">
              <a:off x="6252480" y="529560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06" name=""/>
          <p:cNvSpPr/>
          <p:nvPr/>
        </p:nvSpPr>
        <p:spPr>
          <a:xfrm>
            <a:off x="865440" y="3214800"/>
            <a:ext cx="30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1720" y="595800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39320" y="3214800"/>
            <a:ext cx="34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77920" y="5958000"/>
            <a:ext cx="36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Proces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dos los CPU tienen acceso a una memoria compart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jemplo es Symetric Multiprocesing (SMP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ge coherencia en el estado de la memor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la medida que aumentan los CPUs mantener la coherencia afecta fuertemente el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 poco escalable y la escalabilidad es ca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comput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subdividen en dos categor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omogé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arquitectura y memoria es igual o similar en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neralmente conectados a trav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s de una única, usualmente de alto rendimiento, interfaz de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 típico: cluster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Heterog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tiples arquitectu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comunica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formas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 t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pico: GR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oft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ncuentran tres variantes de plataformas de software par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e 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ddle-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ono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os compartiendo recursos sobre una máquina, gracias a un microkernel que implemente una máquina virtu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56960" y="3689280"/>
            <a:ext cx="9007920" cy="3007800"/>
            <a:chOff x="156960" y="3689280"/>
            <a:chExt cx="9007920" cy="3007800"/>
          </a:xfrm>
        </p:grpSpPr>
        <p:grpSp>
          <p:nvGrpSpPr>
            <p:cNvPr id="219" name=""/>
            <p:cNvGrpSpPr/>
            <p:nvPr/>
          </p:nvGrpSpPr>
          <p:grpSpPr>
            <a:xfrm>
              <a:off x="1219320" y="4114800"/>
              <a:ext cx="6781680" cy="2438280"/>
              <a:chOff x="1219320" y="4114800"/>
              <a:chExt cx="6781680" cy="2438280"/>
            </a:xfrm>
          </p:grpSpPr>
          <p:sp>
            <p:nvSpPr>
              <p:cNvPr id="220" name=""/>
              <p:cNvSpPr/>
              <p:nvPr/>
            </p:nvSpPr>
            <p:spPr>
              <a:xfrm>
                <a:off x="1219320" y="518148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44792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Aplicaci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n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De usua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12444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memor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8006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proces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4008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archiv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52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35304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292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6294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19320" y="4114800"/>
                <a:ext cx="678168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9320" y="601956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142880" y="612756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Hardwa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910680" y="5652720"/>
                <a:ext cx="1540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icro-kern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438640" y="495288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438640" y="54100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3886200" y="495252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21004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10040" y="548604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556272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98144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981440" y="563868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716292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279000" y="6054480"/>
              <a:ext cx="142740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lamada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990720" y="5597280"/>
              <a:ext cx="99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6960" y="3692520"/>
              <a:ext cx="21146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Interfaz 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66680" y="434340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11240" y="3689280"/>
              <a:ext cx="47484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No hay intercambio directo entre 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dul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666520" y="40384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0988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6272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8660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77320" y="419076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077320" y="5181480"/>
              <a:ext cx="152280" cy="8380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70200" y="431136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usu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73080" y="5257800"/>
              <a:ext cx="85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gend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roducción 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cronización de proces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gramación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istribuidos típic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archiv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des de senso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compartiendo datos a través de memoria comparti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atos deben ser protegidos para garantizar consiste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deben ser transparentes para la aplic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itivas de sincronización: semáforos, locks, monit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comput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computadores conectados por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ador tiene su propia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unicación únicamente a través de paso de mensaj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ncronización basada en semánticas particulares de paso de mensaj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057400" y="3900600"/>
            <a:ext cx="5090400" cy="2806560"/>
            <a:chOff x="2057400" y="3900600"/>
            <a:chExt cx="5090400" cy="2806560"/>
          </a:xfrm>
        </p:grpSpPr>
        <p:sp>
          <p:nvSpPr>
            <p:cNvPr id="260" name=""/>
            <p:cNvSpPr/>
            <p:nvPr/>
          </p:nvSpPr>
          <p:spPr>
            <a:xfrm>
              <a:off x="52578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574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33720" y="43578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33720" y="50436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 distribu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8600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098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100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09680" y="65674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195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197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199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55600" y="63388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18680" y="3917880"/>
              <a:ext cx="13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81000" y="390060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61120" y="390060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Memoria Compartida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procesadores, cada uno con su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emoria compartida virtual sobre multicomputa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blema de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false sharing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 (memoria de dos procesos en la misma p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gin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828800" y="3841920"/>
            <a:ext cx="6683400" cy="2406600"/>
            <a:chOff x="1828800" y="3841920"/>
            <a:chExt cx="6683400" cy="2406600"/>
          </a:xfrm>
        </p:grpSpPr>
        <p:sp>
          <p:nvSpPr>
            <p:cNvPr id="279" name=""/>
            <p:cNvSpPr/>
            <p:nvPr/>
          </p:nvSpPr>
          <p:spPr>
            <a:xfrm>
              <a:off x="3189960" y="3841920"/>
              <a:ext cx="261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 virtual 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828800" y="4876920"/>
              <a:ext cx="1218960" cy="1068120"/>
              <a:chOff x="1828800" y="4876920"/>
              <a:chExt cx="1218960" cy="1068120"/>
            </a:xfrm>
          </p:grpSpPr>
          <p:sp>
            <p:nvSpPr>
              <p:cNvPr id="281" name=""/>
              <p:cNvSpPr/>
              <p:nvPr/>
            </p:nvSpPr>
            <p:spPr>
              <a:xfrm>
                <a:off x="18288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8288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047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2856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047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6665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466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3200400" y="4876920"/>
              <a:ext cx="1218960" cy="1068120"/>
              <a:chOff x="3200400" y="4876920"/>
              <a:chExt cx="1218960" cy="1068120"/>
            </a:xfrm>
          </p:grpSpPr>
          <p:sp>
            <p:nvSpPr>
              <p:cNvPr id="289" name=""/>
              <p:cNvSpPr/>
              <p:nvPr/>
            </p:nvSpPr>
            <p:spPr>
              <a:xfrm>
                <a:off x="32004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004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763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6572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763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0381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6572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4182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4572000" y="4876920"/>
              <a:ext cx="1218960" cy="1068120"/>
              <a:chOff x="4572000" y="4876920"/>
              <a:chExt cx="1218960" cy="1068120"/>
            </a:xfrm>
          </p:grpSpPr>
          <p:sp>
            <p:nvSpPr>
              <p:cNvPr id="298" name=""/>
              <p:cNvSpPr/>
              <p:nvPr/>
            </p:nvSpPr>
            <p:spPr>
              <a:xfrm>
                <a:off x="45720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720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4796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0288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1008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4796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0288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898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943600" y="4876920"/>
              <a:ext cx="1218960" cy="1068120"/>
              <a:chOff x="5943600" y="4876920"/>
              <a:chExt cx="1218960" cy="1068120"/>
            </a:xfrm>
          </p:grpSpPr>
          <p:sp>
            <p:nvSpPr>
              <p:cNvPr id="307" name=""/>
              <p:cNvSpPr/>
              <p:nvPr/>
            </p:nvSpPr>
            <p:spPr>
              <a:xfrm>
                <a:off x="59436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9436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019560" y="4952880"/>
                <a:ext cx="30492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40080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16176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057400" y="4191120"/>
              <a:ext cx="4876200" cy="228600"/>
              <a:chOff x="2057400" y="4191120"/>
              <a:chExt cx="4876200" cy="228600"/>
            </a:xfrm>
          </p:grpSpPr>
          <p:sp>
            <p:nvSpPr>
              <p:cNvPr id="313" name=""/>
              <p:cNvSpPr/>
              <p:nvPr/>
            </p:nvSpPr>
            <p:spPr>
              <a:xfrm>
                <a:off x="205740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3619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6668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714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2763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8002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4956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907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858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812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1051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100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7146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0195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244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6290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1904760" y="6248520"/>
              <a:ext cx="5181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382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098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814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530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2057040" y="441972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14600" y="441972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2285640" y="4419720"/>
              <a:ext cx="53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240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29000" y="441972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2590200" y="441972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365760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43400" y="44197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886200" y="44197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2971440" y="4419720"/>
              <a:ext cx="1981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267080" y="441972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51814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5333760" y="441972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7220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5562360" y="441972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6705360" y="441972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15200" y="4876920"/>
              <a:ext cx="75960" cy="6094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54440" y="496728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e R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o más 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mputador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conectados por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arten los diferentes recursos y la información del sistema mediante la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vell Netware, Personal Netware,Windows NT Server, UNIX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2057400" y="3809880"/>
            <a:ext cx="5090400" cy="2820960"/>
            <a:chOff x="2057400" y="3809880"/>
            <a:chExt cx="5090400" cy="2820960"/>
          </a:xfrm>
        </p:grpSpPr>
        <p:sp>
          <p:nvSpPr>
            <p:cNvPr id="355" name=""/>
            <p:cNvSpPr/>
            <p:nvPr/>
          </p:nvSpPr>
          <p:spPr>
            <a:xfrm>
              <a:off x="52578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576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0574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133720" y="428148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098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4100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09680" y="649116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195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4197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199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555600" y="62625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158560" y="38275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620520" y="38098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301000" y="38098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1337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339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341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iddle-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apa de software que ejecuta sobre el sistema operativo local de cada computador ofreciendo uno servicios distribui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bstrae la complejidad y heterogeneidad de los computadores del siste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roporciona una API para la programación y manejo de aplicaciones distribui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286000" y="3273480"/>
            <a:ext cx="5090400" cy="3662280"/>
            <a:chOff x="2286000" y="3273480"/>
            <a:chExt cx="5090400" cy="3662280"/>
          </a:xfrm>
        </p:grpSpPr>
        <p:sp>
          <p:nvSpPr>
            <p:cNvPr id="376" name=""/>
            <p:cNvSpPr/>
            <p:nvPr/>
          </p:nvSpPr>
          <p:spPr>
            <a:xfrm>
              <a:off x="54864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8862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2860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62320" y="45864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cios del Middle-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51460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0384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386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438280" y="67960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0481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6483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2485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784200" y="65674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87160" y="32911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849120" y="32734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29600" y="32734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3623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625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627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62320" y="381024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abla Comparativ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609480" y="1828800"/>
          <a:ext cx="8229600" cy="4818240"/>
        </p:xfrm>
        <a:graphic>
          <a:graphicData uri="http://schemas.openxmlformats.org/drawingml/2006/table">
            <a:tbl>
              <a:tblPr/>
              <a:tblGrid>
                <a:gridCol w="1828800"/>
                <a:gridCol w="1524240"/>
                <a:gridCol w="1600200"/>
                <a:gridCol w="1447560"/>
                <a:gridCol w="1828800"/>
              </a:tblGrid>
              <a:tr h="450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e 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ddle-W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pro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com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o de Transpar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y 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smo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pias del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unicaci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oria compart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ch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c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fico al mode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ejo de rec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cent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cal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munic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epaso de red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98" name="" descr="The OSI Mode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590920"/>
            <a:ext cx="4038480" cy="36385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4724280" y="3809880"/>
            <a:ext cx="4114800" cy="23338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684400" y="3062160"/>
            <a:ext cx="22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odelo d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tocol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 de Red: Internet Protocol (I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1371600" y="2819520"/>
            <a:ext cx="68166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tocol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pa de Transporte: Transmission Control Protocol (TC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1293840" y="2602080"/>
            <a:ext cx="7316640" cy="41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tocol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pa de Transporte: User Datagram Protocol (UD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2133720" y="2743200"/>
            <a:ext cx="52578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spectos Administra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valu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, tareas, porcentajes, dem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odelos de comunic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ipo de comunica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unto a punto (unicast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ultipunto (multicast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odelos de interac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liente/servido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Peer-to-pe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ódigo móvi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ecnologías de comunica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so de mensajes: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ocke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lamada a procedimientos remotos (RPC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vocación de métodos remotos (RMI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ecnologías de objetos distribuidos: CORBA, DCOM, EJ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rvicios web.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Bibliograf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A.Tanenbaum, M.Van Stee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, principles and paradigm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Ed. Prentice Hall, 2002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G.Coulouris, J.Dillmore, T.Kindberg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 - Concept and Desig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Addison-Wesley, Third Edition, 200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volución de los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s de microprocesad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45 a 1980’s. 1 instrucción/seg. US$ 10.000.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80’s hasta hoy. 1.000.000.000 instrucciones/seg. Menos de US$1.00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nancia precio/rendimiento º 101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 de re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N. 10-100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AN. 64 kpbs - 2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acilidad de interconex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net e Intran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to desarrollo del hardware ..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finicion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Distribuido es una colección de computadores independientes que aparecen ante los usuarios como un único sistema coherente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Andrew S. Tanenbau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en el cual tanto los componentes de hardware y software de un computador conectados en red se comunican y coordinan mediante paso de mensaj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G.Coulouris, J.Dollimore, T.Kindber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Aquel que le impide a uno continuar su trabajo cuando falla un computador del cual uno nunca ha oído hablar.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L.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d de estaciones de trabajo en una Univers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pacio cuenta es visible desde todos los comput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kflow de manejo automático de órde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do por múltiples usuarios, el flujo de las órenes es transparente para el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Javier Bustos Jiménez</cp:lastModifiedBy>
  <dcterms:modified xsi:type="dcterms:W3CDTF">2008-07-30T13:13:51Z</dcterms:modified>
  <cp:revision>125</cp:revision>
  <dc:subject/>
  <dc:title>Sistemas Distribuídos</dc:title>
</cp:coreProperties>
</file>