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BE777-E406-4E60-812A-A0EEAEE07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AE10B-6089-498D-B701-039F78CC9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B6B31-5068-4B6C-B5CA-DF0436D9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CC0BF-6E41-4B9F-8EE0-9C1BE07ED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31510-ECBA-4525-8186-469D17B6D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F57F39-7544-4E67-9205-A224C6CE5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679C4F-773C-4B3B-B1AB-F9EAC9333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54662-2AEA-4D0F-B25A-D64D6C111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1D164-D114-4701-BEFB-D7CD76D0A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FE578-096F-4CC9-BADC-4BC50518F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C4368-6645-4A21-925D-AC8142B8DB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AA7D0C-F2D3-436B-B666-6E2DC8FA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AF87D-2D64-40E5-A7AF-D9889B0C0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3DC8D-9BA7-4022-BF71-FEA5A5A2C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421EA-8FF1-414E-9FD9-9E763F8B7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FEC2D-71D7-4971-BD7C-C4C8F7B33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505E9-6DEF-4E92-8223-93837012E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D23F4-36DE-49F5-921A-26B63FA3E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2176E-152B-41B5-8B50-63FBE4F8F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C89BB-D844-4E81-9E71-48887F659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CDBF0-5645-492A-8B4C-CC16BDA23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065C5-5251-483B-B547-D970E618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179F-9A5D-4AA9-8C65-A62444E29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B080B-37DD-429A-A0E0-DD3B4C680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45FE-19E5-4E7A-BB99-EF2E6103D03E}"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2551-0FAA-4254-ABFC-5C6FE8CB6592}"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6105566-598A-4828-84E6-6FB7DCB98D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97C0318-029C-4741-863A-245A53B371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6E24A9D-2692-47EC-BD2C-7F331922B3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C7FCA52-3946-470E-8B0D-8C7111119C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04D876BE-255C-47FC-B16D-5D417FB8C9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F0E9459-6B3D-41FA-9E50-44738CBC50E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34FE3678-056E-4CBF-9A2E-92EDF98DFA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5FCF38B-F8F3-442F-90A2-593EEE830D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DD36512C-7652-4E7A-9899-6C6C696162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A6D8E48-8896-492C-98D3-910DCAC889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927088C-370E-4377-B3ED-D24D98B1F3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B589C09-295A-4A13-BBDA-56A45C4AD5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9168651-6BDB-4D25-A739-E2B1EE7CC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310C9D2-3166-4CD0-AF95-5345F97630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41FEB7CA-4F82-4B99-8E6C-6D39B4559B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6656135D-54D3-404B-99C5-6DC812E25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F7C6EB-8CDC-4891-9B57-4DF5652172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2A70676-B701-4AE4-9BD4-FA7F93802E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5901933-8C14-42D0-AEE1-4538017640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34CF4884-8323-44AC-8768-9746894887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B54E92BA-4ED2-4C01-B6FF-D5066C112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BC841CC-9A74-41E5-8BB4-7013345AE7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8DE3E982-4A34-48FB-B65B-A2BA4F33D2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1D00D74-FA70-4B31-9CAE-012FA8A005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2AF69D94-1724-4B58-8123-382779C15A29}"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784A752-80B0-4165-9F7D-03FAE01651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167C49F-F836-440D-BD13-DF3BDB79D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180421E-1F81-4C58-B62F-59E140D597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648F643-9CA6-424F-989A-5C37F980F690}"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E7345FC-D23E-4D63-A419-4845BEFAB6DE}"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3E292AC-5E8D-4F4F-A2B3-FC433594D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Munehiro Fukuda</dc:creator>
  <dc:description/>
  <dc:language>en-US</dc:language>
  <cp:lastModifiedBy>Javier Bustos Jiménez</cp:lastModifiedBy>
  <cp:lastPrinted>1999-11-27T07:19:44Z</cp:lastPrinted>
  <dcterms:modified xsi:type="dcterms:W3CDTF">2007-05-02T21:37:14Z</dcterms:modified>
  <cp:revision>893</cp:revision>
  <dc:subject>Process Migration</dc:subject>
  <dc:title>CSS434: Parallel &amp; Distributed Computing</dc:title>
</cp:coreProperties>
</file>