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C77E-1A22-47A1-A131-E3E1ABD872D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4B4-D8B4-4DE0-B559-0868F310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64E-06FC-496F-80B4-7472F829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9F6-0C85-436C-AB52-DE11E7FE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155-F0B6-474E-A559-3DF90A84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77BB-C9C4-4D9C-8167-D0D65DCD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D109-1C51-438D-A85B-AAB8923B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4B9-B6BF-40B5-88ED-A41F0B72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49BC-D7E1-44FA-A2F0-826B0814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09B9-BF21-465F-859B-ABA5EA9E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5108-FB64-4D73-AB20-294F30E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80CF-A855-4A53-ACAF-20C1A708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182-673C-4F75-9290-FEB4821E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38C7-2976-4916-B611-58D26E65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6A48-8D80-4971-8393-83CE4D1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8F79-6392-453C-9243-CE5FE25F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EC7A-A02D-4C79-9B2D-04D021F5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59A4-B116-4640-8343-F3D53399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5FE-FA0B-4AA2-893F-C1E21AB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78D-6581-4936-B48E-CBDCE78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690-C9ED-44EB-AC47-33C9C3A0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4B6-FD88-4875-A43C-63CC0093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493-003D-4DFD-9E93-1A3684D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F8C-7DD0-4A10-B1A3-F8AFF6E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4F8-7BCD-454F-A11C-9ACAAC07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E0DA-703A-4BE2-A2FA-9F6F1EFB48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C156-B9AE-45BE-985A-0F1E1B62AA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4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4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6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0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1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3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4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5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4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5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6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7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7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8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0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1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41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68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3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04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07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10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13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16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816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7008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084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30876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8348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8208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100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3280" y="4408560"/>
            <a:ext cx="612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3680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3680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098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8952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88952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771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8771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8771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606560"/>
            <a:ext cx="118116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e  patrón de envió , 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0872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7260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1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741480" y="3305160"/>
            <a:ext cx="4328280" cy="1826640"/>
            <a:chOff x="3741480" y="3305160"/>
            <a:chExt cx="4328280" cy="1826640"/>
          </a:xfrm>
        </p:grpSpPr>
        <p:sp>
          <p:nvSpPr>
            <p:cNvPr id="859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4148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8624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5440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70036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9772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8800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3724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2168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6980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94152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2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8-06T14:11:37Z</dcterms:modified>
  <cp:revision>127</cp:revision>
  <dc:subject/>
  <dc:title>Sistemas Distribuídos</dc:title>
</cp:coreProperties>
</file>