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F0E0-3CBF-4FA9-B895-3C2735649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2479-59F2-4EDD-95FE-9CE38222C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0AB5-CB67-4B69-AA1D-28416B207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8FE8-CF59-4DEE-815A-C94F41FF3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B9830-075E-49CD-AA01-AA5575E06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40BAF-C7B0-4543-A43E-4CD79590E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3F406-91BD-4150-9033-BB659BE8E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AAA54-96B9-43EC-87D1-CBA2C8BB3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55CEB-BE86-460C-831E-DECBA791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17180-CB11-487F-9BDD-4B6546DDA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2FB26-1B9E-4D0E-99F8-C94DFDA7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FCEF-3CA7-4538-9771-9B695BE2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F4D68-DAFC-45BB-9EDF-27E783BD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8963D-41A0-49F5-8E42-12F18756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0B2A9-A6AA-4311-8E43-D115C7990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D6C1F-24AB-42A0-9E8C-2C90CD382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0DAE8-8FA8-4123-884A-017C12DF0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D442-415C-4A87-B3FB-6BCC0B3DE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B3CC-1274-4E1C-8D50-3601AC861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240D-7418-465C-AF40-8723E910B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EAF7-893D-40C0-BAA5-488488932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5BE3-EC7B-4BFD-8186-2A128775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A824-5F67-4081-8C78-E94BBB2B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7DC6-D26C-4F7F-BF0D-3829D6C7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6960C-6A67-4AB1-8D3C-1F5D38F54AA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CFB2-1E94-4BD4-B860-FC61FCA7489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979640"/>
            <a:ext cx="914400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Distributed File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7280" y="3792600"/>
            <a:ext cx="858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5FBF-3E46-41C9-852F-9EB3A65DD17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al contents of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/etc/fsta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Edlab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0">
              <a:spcBef>
                <a:spcPts val="799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r1/mail@elux3.cs.umass.edu:/var/spool/mai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ers/users1@elsrv1:/users/users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courses/cs300@elsrv3:/courses/cs3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rcf/common@elsrv1:/exp/rcf/comm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1085-A2C4-40DF-81EB-1BCC14FB83B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471840" y="1959120"/>
            <a:ext cx="5164200" cy="451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D038-E2E3-4782-896D-62DE698935D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ing Strategies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lobal Name Spa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87640" indent="-287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 name spac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1911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S (CMU’s Andrew File Sys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1911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rite (Berkele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atter which node you are on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enames remain the s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: gets filename structure from server(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users access files, server sends copies to workstation, where they are ca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33F4-B648-4CE0-B5FD-16BA500B12E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lobal Name Space: Pros &amp; C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84400" indent="-2844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ing – consis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ll files are same regardless of where you log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te bind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names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oving them is eas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0">
              <a:spcBef>
                <a:spcPts val="601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for OS to keep files consistent (cach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name space may limit 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iss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2BBE-51B5-4B94-99E8-A983119D95F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tributed File Systems: Iss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Naming &amp; transpar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mote fil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with state or witho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F02B-0934-4D7A-87D8-C5EDDEB3D837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mote File Access &amp; Cach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5840" y="2041560"/>
            <a:ext cx="77709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97000" indent="-2970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ccess fi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ly: returns results using RPC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mote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part of file, perform local access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a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7000" indent="-2970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ing issu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&amp; when are file blocks cach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re modifications propagated back to remote fi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ppens when multiple clients cache same fi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D2CC-7D9B-44BE-A7DD-CDE6EF705DB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mote File Cach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3760" indent="-2937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cal dis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s access time (compared to remot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fe if node f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keep local copy consistent with remote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client to have disk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3760" indent="-2937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cal memor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ick access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ithout dis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keep local copy consistent with remote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cache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ault-toler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C6C4-0F3E-4AE2-98E6-29EA9AC0622C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che Update Polic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9600" indent="-309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rite-throug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write to remote di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-performance = remote service for all wr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0">
              <a:spcBef>
                <a:spcPts val="601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rite-bac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write only to cach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to disk on evictions, periodic sy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i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s network traffic (repeated writes to same blo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machine crashes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ata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0">
              <a:spcBef>
                <a:spcPts val="60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A5DC-C5CD-42D0-AB8F-BA5DBA26896A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che Consist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5840" y="2041560"/>
            <a:ext cx="77709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0240" indent="-300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ent-initiated consistenc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contacts server and checks consis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heck every access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given intervals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upon opening a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0240" indent="-300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rver-initiated consistenc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detects potential conflicts, invalidates ca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needs to know which clients have cached which parts of which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clients are readers &amp; which are wri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D44D-BA07-4F2D-BE84-316B2AE87C5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onsistency Maintenance in Various Storage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554040" y="2232000"/>
            <a:ext cx="7911360" cy="4076640"/>
            <a:chOff x="554040" y="2232000"/>
            <a:chExt cx="7911360" cy="4076640"/>
          </a:xfrm>
        </p:grpSpPr>
        <p:sp>
          <p:nvSpPr>
            <p:cNvPr id="178" name=""/>
            <p:cNvSpPr/>
            <p:nvPr/>
          </p:nvSpPr>
          <p:spPr>
            <a:xfrm>
              <a:off x="3115080" y="2346120"/>
              <a:ext cx="646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Sha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82600" y="234612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Persis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881880" y="2558880"/>
              <a:ext cx="42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t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88560" y="2346120"/>
              <a:ext cx="927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Distribu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588920" y="2558880"/>
              <a:ext cx="1186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cache/replic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826240" y="2346120"/>
              <a:ext cx="98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Consistenc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826240" y="2558880"/>
              <a:ext cx="1040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mainten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346120"/>
              <a:ext cx="71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4440" y="2984400"/>
              <a:ext cx="1154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Main mem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924600" y="304776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04080" y="3430440"/>
              <a:ext cx="930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927840" y="3430440"/>
              <a:ext cx="1441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UNIX file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6240" y="3792240"/>
              <a:ext cx="184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Distributed file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923880" y="3792240"/>
              <a:ext cx="739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Sun NF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01560" y="4195440"/>
              <a:ext cx="38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We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926040" y="4111200"/>
              <a:ext cx="930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Web 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6240" y="4600440"/>
              <a:ext cx="2221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Distributed shared mem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924960" y="4600440"/>
              <a:ext cx="999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Ivy (Ch. 16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520" y="5003640"/>
              <a:ext cx="2298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Remote objects (RMI/OR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923160" y="50036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ORB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05880" y="5408280"/>
              <a:ext cx="178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Persistent object sto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156000" y="54068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925320" y="5408280"/>
              <a:ext cx="1540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ORBA Persist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926760" y="5621040"/>
              <a:ext cx="1200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Object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4000" y="5981400"/>
              <a:ext cx="2544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Persistent distributed object sto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926400" y="5981400"/>
              <a:ext cx="1396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PerDiS, Khazan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3429000" y="3105000"/>
              <a:ext cx="117360" cy="126360"/>
              <a:chOff x="3429000" y="3105000"/>
              <a:chExt cx="117360" cy="126360"/>
            </a:xfrm>
          </p:grpSpPr>
          <p:sp>
            <p:nvSpPr>
              <p:cNvPr id="205" name=""/>
              <p:cNvSpPr/>
              <p:nvPr/>
            </p:nvSpPr>
            <p:spPr>
              <a:xfrm>
                <a:off x="3429000" y="3105000"/>
                <a:ext cx="117360" cy="126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3429000" y="3105000"/>
                <a:ext cx="117360" cy="126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4052880" y="3095280"/>
              <a:ext cx="115920" cy="126720"/>
              <a:chOff x="4052880" y="3095280"/>
              <a:chExt cx="115920" cy="126720"/>
            </a:xfrm>
          </p:grpSpPr>
          <p:sp>
            <p:nvSpPr>
              <p:cNvPr id="208" name=""/>
              <p:cNvSpPr/>
              <p:nvPr/>
            </p:nvSpPr>
            <p:spPr>
              <a:xfrm>
                <a:off x="4052880" y="3095280"/>
                <a:ext cx="11592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4052880" y="3095280"/>
                <a:ext cx="11592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4915080" y="3085920"/>
              <a:ext cx="117360" cy="126720"/>
              <a:chOff x="4915080" y="3085920"/>
              <a:chExt cx="117360" cy="126720"/>
            </a:xfrm>
          </p:grpSpPr>
          <p:sp>
            <p:nvSpPr>
              <p:cNvPr id="211" name=""/>
              <p:cNvSpPr/>
              <p:nvPr/>
            </p:nvSpPr>
            <p:spPr>
              <a:xfrm>
                <a:off x="4915080" y="30859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4915080" y="30859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3441240" y="3479400"/>
              <a:ext cx="118080" cy="126720"/>
              <a:chOff x="3441240" y="3479400"/>
              <a:chExt cx="118080" cy="126720"/>
            </a:xfrm>
          </p:grpSpPr>
          <p:sp>
            <p:nvSpPr>
              <p:cNvPr id="214" name=""/>
              <p:cNvSpPr/>
              <p:nvPr/>
            </p:nvSpPr>
            <p:spPr>
              <a:xfrm>
                <a:off x="3441600" y="3479400"/>
                <a:ext cx="11772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3441240" y="3479400"/>
                <a:ext cx="11772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4046400" y="3463560"/>
              <a:ext cx="117000" cy="133200"/>
              <a:chOff x="4046400" y="3463560"/>
              <a:chExt cx="117000" cy="133200"/>
            </a:xfrm>
          </p:grpSpPr>
          <p:sp>
            <p:nvSpPr>
              <p:cNvPr id="217" name=""/>
              <p:cNvSpPr/>
              <p:nvPr/>
            </p:nvSpPr>
            <p:spPr>
              <a:xfrm>
                <a:off x="4046400" y="354564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4063680" y="3463560"/>
                <a:ext cx="9972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4927680" y="3460320"/>
              <a:ext cx="117360" cy="126720"/>
              <a:chOff x="4927680" y="3460320"/>
              <a:chExt cx="117360" cy="126720"/>
            </a:xfrm>
          </p:grpSpPr>
          <p:sp>
            <p:nvSpPr>
              <p:cNvPr id="220" name=""/>
              <p:cNvSpPr/>
              <p:nvPr/>
            </p:nvSpPr>
            <p:spPr>
              <a:xfrm>
                <a:off x="4927680" y="34603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4927680" y="34603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4052880" y="3838320"/>
              <a:ext cx="115200" cy="132840"/>
              <a:chOff x="4052880" y="3838320"/>
              <a:chExt cx="115200" cy="132840"/>
            </a:xfrm>
          </p:grpSpPr>
          <p:sp>
            <p:nvSpPr>
              <p:cNvPr id="223" name=""/>
              <p:cNvSpPr/>
              <p:nvPr/>
            </p:nvSpPr>
            <p:spPr>
              <a:xfrm>
                <a:off x="4052880" y="392004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4069800" y="3838320"/>
                <a:ext cx="9828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3440160" y="3844800"/>
              <a:ext cx="117000" cy="132840"/>
              <a:chOff x="3440160" y="3844800"/>
              <a:chExt cx="117000" cy="132840"/>
            </a:xfrm>
          </p:grpSpPr>
          <p:sp>
            <p:nvSpPr>
              <p:cNvPr id="226" name=""/>
              <p:cNvSpPr/>
              <p:nvPr/>
            </p:nvSpPr>
            <p:spPr>
              <a:xfrm>
                <a:off x="3440160" y="39265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>
                <a:off x="3457800" y="384480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4911840" y="3850920"/>
              <a:ext cx="115200" cy="133200"/>
              <a:chOff x="4911840" y="3850920"/>
              <a:chExt cx="115200" cy="133200"/>
            </a:xfrm>
          </p:grpSpPr>
          <p:sp>
            <p:nvSpPr>
              <p:cNvPr id="229" name=""/>
              <p:cNvSpPr/>
              <p:nvPr/>
            </p:nvSpPr>
            <p:spPr>
              <a:xfrm>
                <a:off x="4911840" y="39330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4928760" y="3850920"/>
                <a:ext cx="9828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6145200" y="3857400"/>
              <a:ext cx="117000" cy="132840"/>
              <a:chOff x="6145200" y="3857400"/>
              <a:chExt cx="117000" cy="132840"/>
            </a:xfrm>
          </p:grpSpPr>
          <p:sp>
            <p:nvSpPr>
              <p:cNvPr id="232" name=""/>
              <p:cNvSpPr/>
              <p:nvPr/>
            </p:nvSpPr>
            <p:spPr>
              <a:xfrm>
                <a:off x="6145200" y="39391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6162840" y="385740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4057560" y="4238280"/>
              <a:ext cx="117000" cy="133200"/>
              <a:chOff x="4057560" y="4238280"/>
              <a:chExt cx="117000" cy="133200"/>
            </a:xfrm>
          </p:grpSpPr>
          <p:sp>
            <p:nvSpPr>
              <p:cNvPr id="235" name=""/>
              <p:cNvSpPr/>
              <p:nvPr/>
            </p:nvSpPr>
            <p:spPr>
              <a:xfrm>
                <a:off x="4057560" y="432036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4074840" y="4238280"/>
                <a:ext cx="9972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3444840" y="4244760"/>
              <a:ext cx="117000" cy="132840"/>
              <a:chOff x="3444840" y="4244760"/>
              <a:chExt cx="117000" cy="132840"/>
            </a:xfrm>
          </p:grpSpPr>
          <p:sp>
            <p:nvSpPr>
              <p:cNvPr id="238" name=""/>
              <p:cNvSpPr/>
              <p:nvPr/>
            </p:nvSpPr>
            <p:spPr>
              <a:xfrm>
                <a:off x="3444840" y="432648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3462120" y="4244760"/>
                <a:ext cx="9972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4916520" y="4251240"/>
              <a:ext cx="117000" cy="132840"/>
              <a:chOff x="4916520" y="4251240"/>
              <a:chExt cx="117000" cy="132840"/>
            </a:xfrm>
          </p:grpSpPr>
          <p:sp>
            <p:nvSpPr>
              <p:cNvPr id="241" name=""/>
              <p:cNvSpPr/>
              <p:nvPr/>
            </p:nvSpPr>
            <p:spPr>
              <a:xfrm>
                <a:off x="4916520" y="433296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4934160" y="425124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3451320" y="4644720"/>
              <a:ext cx="117000" cy="133200"/>
              <a:chOff x="3451320" y="4644720"/>
              <a:chExt cx="117000" cy="133200"/>
            </a:xfrm>
          </p:grpSpPr>
          <p:sp>
            <p:nvSpPr>
              <p:cNvPr id="244" name=""/>
              <p:cNvSpPr/>
              <p:nvPr/>
            </p:nvSpPr>
            <p:spPr>
              <a:xfrm>
                <a:off x="3451320" y="47268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3468960" y="4644720"/>
                <a:ext cx="9936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4923000" y="4651200"/>
              <a:ext cx="117000" cy="132840"/>
              <a:chOff x="4923000" y="4651200"/>
              <a:chExt cx="117000" cy="132840"/>
            </a:xfrm>
          </p:grpSpPr>
          <p:sp>
            <p:nvSpPr>
              <p:cNvPr id="247" name=""/>
              <p:cNvSpPr/>
              <p:nvPr/>
            </p:nvSpPr>
            <p:spPr>
              <a:xfrm>
                <a:off x="4923000" y="47329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4940640" y="465120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6145200" y="4657320"/>
              <a:ext cx="117000" cy="133200"/>
              <a:chOff x="6145200" y="4657320"/>
              <a:chExt cx="117000" cy="133200"/>
            </a:xfrm>
          </p:grpSpPr>
          <p:sp>
            <p:nvSpPr>
              <p:cNvPr id="250" name=""/>
              <p:cNvSpPr/>
              <p:nvPr/>
            </p:nvSpPr>
            <p:spPr>
              <a:xfrm>
                <a:off x="6145200" y="47394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6162840" y="4657320"/>
                <a:ext cx="9936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3457440" y="5044680"/>
              <a:ext cx="117000" cy="133200"/>
              <a:chOff x="3457440" y="5044680"/>
              <a:chExt cx="117000" cy="133200"/>
            </a:xfrm>
          </p:grpSpPr>
          <p:sp>
            <p:nvSpPr>
              <p:cNvPr id="253" name=""/>
              <p:cNvSpPr/>
              <p:nvPr/>
            </p:nvSpPr>
            <p:spPr>
              <a:xfrm>
                <a:off x="3457440" y="512676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3474720" y="5044680"/>
                <a:ext cx="9972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4075200" y="5438520"/>
              <a:ext cx="117000" cy="132840"/>
              <a:chOff x="4075200" y="5438520"/>
              <a:chExt cx="117000" cy="132840"/>
            </a:xfrm>
          </p:grpSpPr>
          <p:sp>
            <p:nvSpPr>
              <p:cNvPr id="256" name=""/>
              <p:cNvSpPr/>
              <p:nvPr/>
            </p:nvSpPr>
            <p:spPr>
              <a:xfrm>
                <a:off x="4075200" y="552024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4092840" y="543852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3463920" y="5445000"/>
              <a:ext cx="115200" cy="132840"/>
              <a:chOff x="3463920" y="5445000"/>
              <a:chExt cx="115200" cy="132840"/>
            </a:xfrm>
          </p:grpSpPr>
          <p:sp>
            <p:nvSpPr>
              <p:cNvPr id="259" name=""/>
              <p:cNvSpPr/>
              <p:nvPr/>
            </p:nvSpPr>
            <p:spPr>
              <a:xfrm>
                <a:off x="3463920" y="55267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3480840" y="5445000"/>
                <a:ext cx="9828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4081680" y="6028920"/>
              <a:ext cx="117000" cy="133200"/>
              <a:chOff x="4081680" y="6028920"/>
              <a:chExt cx="117000" cy="133200"/>
            </a:xfrm>
          </p:grpSpPr>
          <p:sp>
            <p:nvSpPr>
              <p:cNvPr id="262" name=""/>
              <p:cNvSpPr/>
              <p:nvPr/>
            </p:nvSpPr>
            <p:spPr>
              <a:xfrm>
                <a:off x="4081680" y="61110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4099320" y="6028920"/>
                <a:ext cx="9936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468600" y="6035400"/>
              <a:ext cx="117000" cy="132840"/>
              <a:chOff x="3468600" y="6035400"/>
              <a:chExt cx="117000" cy="132840"/>
            </a:xfrm>
          </p:grpSpPr>
          <p:sp>
            <p:nvSpPr>
              <p:cNvPr id="265" name=""/>
              <p:cNvSpPr/>
              <p:nvPr/>
            </p:nvSpPr>
            <p:spPr>
              <a:xfrm>
                <a:off x="3468600" y="61171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3485880" y="6035400"/>
                <a:ext cx="9972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4940280" y="6041880"/>
              <a:ext cx="117000" cy="132840"/>
              <a:chOff x="4940280" y="6041880"/>
              <a:chExt cx="117000" cy="132840"/>
            </a:xfrm>
          </p:grpSpPr>
          <p:sp>
            <p:nvSpPr>
              <p:cNvPr id="268" name=""/>
              <p:cNvSpPr/>
              <p:nvPr/>
            </p:nvSpPr>
            <p:spPr>
              <a:xfrm>
                <a:off x="4940280" y="61236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4957920" y="604188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6145200" y="6048000"/>
              <a:ext cx="117000" cy="133200"/>
              <a:chOff x="6145200" y="6048000"/>
              <a:chExt cx="117000" cy="133200"/>
            </a:xfrm>
          </p:grpSpPr>
          <p:sp>
            <p:nvSpPr>
              <p:cNvPr id="271" name=""/>
              <p:cNvSpPr/>
              <p:nvPr/>
            </p:nvSpPr>
            <p:spPr>
              <a:xfrm>
                <a:off x="6145200" y="613008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>
                <a:off x="6162840" y="6048000"/>
                <a:ext cx="9936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4915080" y="5460840"/>
              <a:ext cx="117360" cy="126720"/>
              <a:chOff x="4915080" y="5460840"/>
              <a:chExt cx="117360" cy="126720"/>
            </a:xfrm>
          </p:grpSpPr>
          <p:sp>
            <p:nvSpPr>
              <p:cNvPr id="274" name=""/>
              <p:cNvSpPr/>
              <p:nvPr/>
            </p:nvSpPr>
            <p:spPr>
              <a:xfrm>
                <a:off x="4915080" y="546084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4915080" y="546084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4044960" y="4647960"/>
              <a:ext cx="117360" cy="126720"/>
              <a:chOff x="4044960" y="4647960"/>
              <a:chExt cx="117360" cy="126720"/>
            </a:xfrm>
          </p:grpSpPr>
          <p:sp>
            <p:nvSpPr>
              <p:cNvPr id="277" name=""/>
              <p:cNvSpPr/>
              <p:nvPr/>
            </p:nvSpPr>
            <p:spPr>
              <a:xfrm>
                <a:off x="4044960" y="464796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>
                <a:off x="4044960" y="464796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4051440" y="5047920"/>
              <a:ext cx="117360" cy="126720"/>
              <a:chOff x="4051440" y="5047920"/>
              <a:chExt cx="117360" cy="126720"/>
            </a:xfrm>
          </p:grpSpPr>
          <p:sp>
            <p:nvSpPr>
              <p:cNvPr id="280" name=""/>
              <p:cNvSpPr/>
              <p:nvPr/>
            </p:nvSpPr>
            <p:spPr>
              <a:xfrm>
                <a:off x="4051440" y="50479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4051440" y="50479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4915080" y="5060520"/>
              <a:ext cx="117360" cy="126720"/>
              <a:chOff x="4915080" y="5060520"/>
              <a:chExt cx="117360" cy="126720"/>
            </a:xfrm>
          </p:grpSpPr>
          <p:sp>
            <p:nvSpPr>
              <p:cNvPr id="283" name=""/>
              <p:cNvSpPr/>
              <p:nvPr/>
            </p:nvSpPr>
            <p:spPr>
              <a:xfrm>
                <a:off x="4915080" y="50605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4915080" y="50605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6145200" y="4248000"/>
              <a:ext cx="117360" cy="126360"/>
              <a:chOff x="6145200" y="4248000"/>
              <a:chExt cx="117360" cy="126360"/>
            </a:xfrm>
          </p:grpSpPr>
          <p:sp>
            <p:nvSpPr>
              <p:cNvPr id="286" name=""/>
              <p:cNvSpPr/>
              <p:nvPr/>
            </p:nvSpPr>
            <p:spPr>
              <a:xfrm>
                <a:off x="6145200" y="4248000"/>
                <a:ext cx="117360" cy="126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6145200" y="4248000"/>
                <a:ext cx="117360" cy="126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6156000" y="50227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56000" y="34207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156000" y="3041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54040" y="6308640"/>
              <a:ext cx="787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54040" y="2232000"/>
              <a:ext cx="787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54040" y="2866680"/>
              <a:ext cx="787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194E-4C02-43A6-8E96-971C069A225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File Servic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860400" y="2279520"/>
            <a:ext cx="7432200" cy="3725640"/>
            <a:chOff x="860400" y="2279520"/>
            <a:chExt cx="7432200" cy="3725640"/>
          </a:xfrm>
        </p:grpSpPr>
        <p:sp>
          <p:nvSpPr>
            <p:cNvPr id="102" name=""/>
            <p:cNvSpPr/>
            <p:nvPr/>
          </p:nvSpPr>
          <p:spPr>
            <a:xfrm>
              <a:off x="5628600" y="2562120"/>
              <a:ext cx="2640600" cy="34192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628600" y="2562120"/>
              <a:ext cx="2664000" cy="3443040"/>
            </a:xfrm>
            <a:prstGeom prst="rect">
              <a:avLst/>
            </a:prstGeom>
            <a:noFill/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60400" y="2562120"/>
              <a:ext cx="2642040" cy="34192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400" y="2562120"/>
              <a:ext cx="2664000" cy="3443040"/>
            </a:xfrm>
            <a:prstGeom prst="rect">
              <a:avLst/>
            </a:prstGeom>
            <a:noFill/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95040" y="3749400"/>
              <a:ext cx="2394000" cy="21099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610640" y="2279520"/>
              <a:ext cx="1422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lient compu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89560" y="2279520"/>
              <a:ext cx="1500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erver compu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419600" y="5787720"/>
              <a:ext cx="6037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419600" y="5738400"/>
              <a:ext cx="603720" cy="12096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419600" y="5689440"/>
              <a:ext cx="603720" cy="9828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419600" y="5617800"/>
              <a:ext cx="6037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665840" y="5181480"/>
              <a:ext cx="89280" cy="4842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151520" y="2634840"/>
              <a:ext cx="849960" cy="3249720"/>
            </a:xfrm>
            <a:prstGeom prst="ellipse">
              <a:avLst/>
            </a:prstGeom>
            <a:solidFill>
              <a:srgbClr val="ffdc99"/>
            </a:solidFill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95040" y="2658960"/>
              <a:ext cx="984600" cy="10191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52640" y="2985840"/>
              <a:ext cx="995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155600" y="3203280"/>
              <a:ext cx="75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69280" y="2658960"/>
              <a:ext cx="1008000" cy="10191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40200" y="2985840"/>
              <a:ext cx="995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41720" y="3203280"/>
              <a:ext cx="75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744920" y="4633560"/>
              <a:ext cx="1242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lient modu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600" y="3338280"/>
              <a:ext cx="2394360" cy="21099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510960" y="4222440"/>
              <a:ext cx="1357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Flat file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63600" y="2658960"/>
              <a:ext cx="2394360" cy="6062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299640" y="2912760"/>
              <a:ext cx="1514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irectory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435120" y="4138200"/>
              <a:ext cx="2282760" cy="24300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58920" y="5787720"/>
              <a:ext cx="6037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658920" y="5738400"/>
              <a:ext cx="603720" cy="12096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658920" y="5689440"/>
              <a:ext cx="603720" cy="9828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58920" y="5617800"/>
              <a:ext cx="6037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905160" y="5181480"/>
              <a:ext cx="89280" cy="4842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896800" y="5787720"/>
              <a:ext cx="60516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96800" y="5738400"/>
              <a:ext cx="605160" cy="12096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896800" y="5689440"/>
              <a:ext cx="605160" cy="9828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896800" y="5617800"/>
              <a:ext cx="60516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166800" y="5181480"/>
              <a:ext cx="89280" cy="4842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1442880" y="5186520"/>
            <a:ext cx="14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File cach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69000" y="4869000"/>
            <a:ext cx="25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File caching/repl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30000" y="6049800"/>
            <a:ext cx="261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Consistency mainte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600880" y="5295600"/>
            <a:ext cx="304560" cy="85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3238200" y="5346720"/>
            <a:ext cx="444600" cy="79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468A-9553-4E72-850B-633E59D934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FS Servi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48760" y="2017800"/>
            <a:ext cx="870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</a:rPr>
              <a:t>Flat file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-accessing mechanism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iding a place to manage remote files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unit to transfer data (at server or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? file, block or byte?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-sharing semantics: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ing similar to Unix but weaker file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pdate semant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-caching mechanism: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ing performance/scal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-replication mechanism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ing performance/avail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</a:rPr>
              <a:t>Directory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ping between text file names and reference to files, (i.e. file I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DABD-AD00-4F75-AEC2-A61B9DC1D91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Flat File Service Op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620640" y="2766960"/>
            <a:ext cx="8265960" cy="2910600"/>
            <a:chOff x="620640" y="2766960"/>
            <a:chExt cx="8265960" cy="2910600"/>
          </a:xfrm>
        </p:grpSpPr>
        <p:sp>
          <p:nvSpPr>
            <p:cNvPr id="298" name=""/>
            <p:cNvSpPr/>
            <p:nvPr/>
          </p:nvSpPr>
          <p:spPr>
            <a:xfrm>
              <a:off x="649080" y="2892240"/>
              <a:ext cx="2526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Read(FileId, i, n) -&gt; Dat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613240" y="289224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50520" y="3146040"/>
              <a:ext cx="275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30240" y="3146040"/>
              <a:ext cx="655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504080" y="3146040"/>
              <a:ext cx="1253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BadPositio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348000" y="2892240"/>
              <a:ext cx="5538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1 ≤ i ≤ Length(File)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: Reads a sequence of up to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item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356640" y="3146040"/>
              <a:ext cx="484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from a file starting at item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and returns it in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20640" y="2766960"/>
              <a:ext cx="26884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329640" y="2766960"/>
              <a:ext cx="10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351600" y="2766960"/>
              <a:ext cx="507636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329640" y="2788920"/>
              <a:ext cx="21600" cy="60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49440" y="3493800"/>
              <a:ext cx="2079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Write(FileId, i, Data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441880" y="349380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50520" y="3747960"/>
              <a:ext cx="275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930240" y="3747960"/>
              <a:ext cx="655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503720" y="3747960"/>
              <a:ext cx="1253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BadPositio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348000" y="3493800"/>
              <a:ext cx="552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1 ≤ i ≤ Length(File)+1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: Writes a sequence of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to 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355560" y="3747960"/>
              <a:ext cx="5092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file, starting at item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, extending the file if necessary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329640" y="3390840"/>
              <a:ext cx="21600" cy="59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50520" y="4093920"/>
              <a:ext cx="177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Create() -&gt; FileId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358800" y="4093920"/>
              <a:ext cx="5461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Creates a new file of length 0 and delivers a UFID for it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181720" y="409392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329640" y="3990600"/>
              <a:ext cx="21600" cy="34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49800" y="4439880"/>
              <a:ext cx="1379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Delete(FileId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803600" y="44398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865880" y="44398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358800" y="4439880"/>
              <a:ext cx="3490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Removes the file from the file store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329640" y="4336920"/>
              <a:ext cx="21600" cy="34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49800" y="4787640"/>
              <a:ext cx="2789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GetAttributes(FileId) -&gt; Att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91520" y="47876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955240" y="47876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358440" y="4787640"/>
              <a:ext cx="3585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Returns the file attributes for the file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559200" y="478764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329640" y="4684320"/>
              <a:ext cx="21600" cy="34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48720" y="5133600"/>
              <a:ext cx="2492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SetAttributes(FileId, Attr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870280" y="51336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933280" y="51336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357720" y="5133600"/>
              <a:ext cx="5337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Sets the file attributes (only those attributes that are no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361320" y="5387760"/>
              <a:ext cx="1119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shaded in )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20640" y="5668920"/>
              <a:ext cx="26884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329640" y="5030640"/>
              <a:ext cx="2160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329640" y="5668920"/>
              <a:ext cx="10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351600" y="5668920"/>
              <a:ext cx="507636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E9F2-2DDC-41E5-80D1-241C3128A8E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irectory Service Op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539640" y="2098800"/>
            <a:ext cx="8177040" cy="2995560"/>
            <a:chOff x="539640" y="2098800"/>
            <a:chExt cx="8177040" cy="2995560"/>
          </a:xfrm>
        </p:grpSpPr>
        <p:sp>
          <p:nvSpPr>
            <p:cNvPr id="343" name=""/>
            <p:cNvSpPr/>
            <p:nvPr/>
          </p:nvSpPr>
          <p:spPr>
            <a:xfrm>
              <a:off x="562680" y="2214720"/>
              <a:ext cx="2563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Lookup(Dir, Name) -&gt; FileI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67000" y="244980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—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64280" y="24498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3320" y="2449800"/>
              <a:ext cx="58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352160" y="2449800"/>
              <a:ext cx="933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otFoun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200320" y="244980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788640" y="2214720"/>
              <a:ext cx="4606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Locates the text name in the directory and returns t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86120" y="2449800"/>
              <a:ext cx="4930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relevant UFID. 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not in the directory, throws a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793680" y="2684520"/>
              <a:ext cx="895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exception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602600" y="268452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39640" y="2098800"/>
              <a:ext cx="320796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66680" y="2121120"/>
              <a:ext cx="20520" cy="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766680" y="2098800"/>
              <a:ext cx="108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787200" y="2098800"/>
              <a:ext cx="466488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766680" y="2121120"/>
              <a:ext cx="20520" cy="78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61960" y="3003840"/>
              <a:ext cx="237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AddName(Dir, Name, File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692800" y="300384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66640" y="323856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3320" y="3238560"/>
              <a:ext cx="58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351800" y="3238560"/>
              <a:ext cx="1413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Duplica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612880" y="323856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787200" y="3003840"/>
              <a:ext cx="4816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not in the directory, adds (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) to t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790800" y="3238560"/>
              <a:ext cx="4110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directory and updates the file’s attribute record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787920" y="3473640"/>
              <a:ext cx="487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already in the directory: throws an exception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204760" y="347364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766680" y="2910240"/>
              <a:ext cx="20520" cy="78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62680" y="3792600"/>
              <a:ext cx="183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UnName(Dir, Name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200320" y="379260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66640" y="402768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23320" y="4027680"/>
              <a:ext cx="58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352160" y="4027680"/>
              <a:ext cx="933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otFoun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200320" y="402768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789360" y="3792600"/>
              <a:ext cx="4878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in the directory: the entry containing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791880" y="4027680"/>
              <a:ext cx="243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removed from the directory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961240" y="402768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789000" y="4262760"/>
              <a:ext cx="451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not in the directory: throws an exception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929360" y="426276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766680" y="3697560"/>
              <a:ext cx="20520" cy="78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61240" y="4581720"/>
              <a:ext cx="3249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GetNames(Dir, Pattern) -&gt; NameSeq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263400" y="45817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323160" y="45817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791160" y="4581720"/>
              <a:ext cx="4898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Returns all the text names in the directory that match t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792960" y="4816800"/>
              <a:ext cx="234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regular expression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Pattern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39640" y="5092920"/>
              <a:ext cx="32079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66680" y="4486320"/>
              <a:ext cx="20520" cy="55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766680" y="5092920"/>
              <a:ext cx="10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787200" y="5092920"/>
              <a:ext cx="46648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1625760" y="5219640"/>
            <a:ext cx="583920" cy="3556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host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133720" y="5994360"/>
            <a:ext cx="3073320" cy="520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492360" y="6058080"/>
            <a:ext cx="393840" cy="368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652480" y="6126120"/>
            <a:ext cx="4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D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365640" y="5207040"/>
            <a:ext cx="583920" cy="3556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hos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863960" y="5194440"/>
            <a:ext cx="584280" cy="355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host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994040" y="5587920"/>
            <a:ext cx="1485720" cy="55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708360" y="5562720"/>
            <a:ext cx="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3822480" y="5549760"/>
            <a:ext cx="1320840" cy="57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50280" y="5719680"/>
            <a:ext cx="26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addName( Dir, Name, fi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184120" y="5454720"/>
            <a:ext cx="69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200" spc="-1" strike="noStrike">
                <a:solidFill>
                  <a:srgbClr val="000000"/>
                </a:solidFill>
                <a:latin typeface="Tahoma"/>
              </a:rPr>
              <a:t>Nam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33560" y="5581800"/>
            <a:ext cx="69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200" spc="-1" strike="noStrike">
                <a:solidFill>
                  <a:srgbClr val="000000"/>
                </a:solidFill>
                <a:latin typeface="Tahoma"/>
              </a:rPr>
              <a:t>Name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2080" y="5556240"/>
            <a:ext cx="69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200" spc="-1" strike="noStrike">
                <a:solidFill>
                  <a:srgbClr val="000000"/>
                </a:solidFill>
                <a:latin typeface="Tahoma"/>
              </a:rPr>
              <a:t>Nam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816000" y="6087960"/>
            <a:ext cx="411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Ref count=3    if ref_count = 0, file 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D28A-D495-4ED9-83AA-53D78604966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Accessing Mod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076400" y="1875960"/>
            <a:ext cx="777240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essing Remote Fi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"/>
          <p:cNvSpPr/>
          <p:nvPr/>
        </p:nvSpPr>
        <p:spPr>
          <a:xfrm>
            <a:off x="6750000" y="3119400"/>
            <a:ext cx="20178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che consistency probl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735440" y="3119400"/>
            <a:ext cx="20145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ducing network traff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717640" y="3119400"/>
            <a:ext cx="20178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 a client that cached a file 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00200" y="3119400"/>
            <a:ext cx="20174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ta caching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750000" y="2557440"/>
            <a:ext cx="20178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unication overh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735440" y="2557440"/>
            <a:ext cx="201456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simple imple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17640" y="2557440"/>
            <a:ext cx="20178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 a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00200" y="2557440"/>
            <a:ext cx="20174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mote service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750000" y="2259000"/>
            <a:ext cx="2017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mer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735440" y="2259000"/>
            <a:ext cx="20145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r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717640" y="2259000"/>
            <a:ext cx="2017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00200" y="2259000"/>
            <a:ext cx="20174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00200" y="2557440"/>
            <a:ext cx="806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0200" y="3119400"/>
            <a:ext cx="806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00200" y="3625920"/>
            <a:ext cx="80676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00200" y="2259000"/>
            <a:ext cx="0" cy="1366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17640" y="2259000"/>
            <a:ext cx="0" cy="136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735440" y="2259000"/>
            <a:ext cx="0" cy="136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50000" y="2259000"/>
            <a:ext cx="0" cy="136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8767800" y="2259000"/>
            <a:ext cx="0" cy="29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750000" y="2259000"/>
            <a:ext cx="2017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00200" y="2259000"/>
            <a:ext cx="60498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767800" y="2557440"/>
            <a:ext cx="0" cy="10684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571680" y="3967200"/>
          <a:ext cx="8319960" cy="2556000"/>
        </p:xfrm>
        <a:graphic>
          <a:graphicData uri="http://schemas.openxmlformats.org/drawingml/2006/table">
            <a:tbl>
              <a:tblPr/>
              <a:tblGrid>
                <a:gridCol w="1542960"/>
                <a:gridCol w="3299040"/>
                <a:gridCol w="3477960"/>
              </a:tblGrid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fer lev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r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mer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mple, less communication overhead, and immune to ser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client required to have large storage sp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lo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client not required to have large storage sp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re network traffic/overhe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y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lexibility maximiz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fficult cache management to handle the variable-length d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co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ndling structured and indexed fi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re network traff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re overhead to re-construct a fil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0" name=""/>
          <p:cNvSpPr/>
          <p:nvPr/>
        </p:nvSpPr>
        <p:spPr>
          <a:xfrm>
            <a:off x="1119240" y="3641760"/>
            <a:ext cx="7772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it of Data Trans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193680" y="3137040"/>
            <a:ext cx="2409840" cy="2260440"/>
            <a:chOff x="193680" y="3137040"/>
            <a:chExt cx="2409840" cy="2260440"/>
          </a:xfrm>
        </p:grpSpPr>
        <p:sp>
          <p:nvSpPr>
            <p:cNvPr id="432" name=""/>
            <p:cNvSpPr/>
            <p:nvPr/>
          </p:nvSpPr>
          <p:spPr>
            <a:xfrm>
              <a:off x="698400" y="3137040"/>
              <a:ext cx="1905120" cy="495000"/>
            </a:xfrm>
            <a:prstGeom prst="ellipse">
              <a:avLst/>
            </a:prstGeom>
            <a:solidFill>
              <a:srgbClr val="ccccff">
                <a:alpha val="1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09480" y="4863960"/>
              <a:ext cx="1397160" cy="533520"/>
            </a:xfrm>
            <a:prstGeom prst="ellipse">
              <a:avLst/>
            </a:prstGeom>
            <a:solidFill>
              <a:srgbClr val="ccccff">
                <a:alpha val="1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93680" y="3560760"/>
              <a:ext cx="55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ahoma"/>
                </a:rPr>
                <a:t>NF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419040" y="3505320"/>
              <a:ext cx="38124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95360" y="3822840"/>
              <a:ext cx="469800" cy="10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22B2-4D85-441A-8FFC-F6B34A68BC9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44720" y="617040"/>
            <a:ext cx="788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8" name=""/>
          <p:cNvSpPr/>
          <p:nvPr/>
        </p:nvSpPr>
        <p:spPr>
          <a:xfrm>
            <a:off x="519120" y="2357280"/>
            <a:ext cx="8283600" cy="35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when modifications of the file data made by a user are observable by other 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x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utable shared-files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-like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5E6F-A2C5-4605-AEC1-1C56215CF7E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Unix Semantics (One-copy Update Semantics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0" name=""/>
          <p:cNvSpPr/>
          <p:nvPr/>
        </p:nvSpPr>
        <p:spPr>
          <a:xfrm>
            <a:off x="684360" y="2025720"/>
            <a:ext cx="829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olute Ordering (seen to all clients as if only a single copy exis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is updated immediate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447120" y="3809880"/>
            <a:ext cx="8087040" cy="823320"/>
            <a:chOff x="447120" y="3809880"/>
            <a:chExt cx="8087040" cy="823320"/>
          </a:xfrm>
        </p:grpSpPr>
        <p:sp>
          <p:nvSpPr>
            <p:cNvPr id="442" name=""/>
            <p:cNvSpPr/>
            <p:nvPr/>
          </p:nvSpPr>
          <p:spPr>
            <a:xfrm flipV="1">
              <a:off x="682200" y="4071600"/>
              <a:ext cx="785196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447120" y="3836880"/>
              <a:ext cx="369720" cy="788040"/>
              <a:chOff x="447120" y="3836880"/>
              <a:chExt cx="369720" cy="788040"/>
            </a:xfrm>
          </p:grpSpPr>
          <p:sp>
            <p:nvSpPr>
              <p:cNvPr id="444" name=""/>
              <p:cNvSpPr/>
              <p:nvPr/>
            </p:nvSpPr>
            <p:spPr>
              <a:xfrm>
                <a:off x="684000" y="383688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47120" y="428760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1872720" y="3845160"/>
              <a:ext cx="369720" cy="788040"/>
              <a:chOff x="1872720" y="3845160"/>
              <a:chExt cx="369720" cy="788040"/>
            </a:xfrm>
          </p:grpSpPr>
          <p:sp>
            <p:nvSpPr>
              <p:cNvPr id="447" name=""/>
              <p:cNvSpPr/>
              <p:nvPr/>
            </p:nvSpPr>
            <p:spPr>
              <a:xfrm>
                <a:off x="2109600" y="384516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872720" y="429588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3413160" y="3835440"/>
              <a:ext cx="369720" cy="788040"/>
              <a:chOff x="3413160" y="3835440"/>
              <a:chExt cx="369720" cy="788040"/>
            </a:xfrm>
          </p:grpSpPr>
          <p:sp>
            <p:nvSpPr>
              <p:cNvPr id="450" name=""/>
              <p:cNvSpPr/>
              <p:nvPr/>
            </p:nvSpPr>
            <p:spPr>
              <a:xfrm>
                <a:off x="3650040" y="383544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413160" y="428616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4906080" y="3827520"/>
              <a:ext cx="369720" cy="788040"/>
              <a:chOff x="4906080" y="3827520"/>
              <a:chExt cx="369720" cy="788040"/>
            </a:xfrm>
          </p:grpSpPr>
          <p:sp>
            <p:nvSpPr>
              <p:cNvPr id="453" name=""/>
              <p:cNvSpPr/>
              <p:nvPr/>
            </p:nvSpPr>
            <p:spPr>
              <a:xfrm>
                <a:off x="5142960" y="382752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906080" y="427824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6377040" y="3818160"/>
              <a:ext cx="369720" cy="788040"/>
              <a:chOff x="6377040" y="3818160"/>
              <a:chExt cx="369720" cy="788040"/>
            </a:xfrm>
          </p:grpSpPr>
          <p:sp>
            <p:nvSpPr>
              <p:cNvPr id="456" name=""/>
              <p:cNvSpPr/>
              <p:nvPr/>
            </p:nvSpPr>
            <p:spPr>
              <a:xfrm>
                <a:off x="6613920" y="381816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377040" y="426888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7823160" y="3809880"/>
              <a:ext cx="369720" cy="788040"/>
              <a:chOff x="7823160" y="3809880"/>
              <a:chExt cx="369720" cy="788040"/>
            </a:xfrm>
          </p:grpSpPr>
          <p:sp>
            <p:nvSpPr>
              <p:cNvPr id="459" name=""/>
              <p:cNvSpPr/>
              <p:nvPr/>
            </p:nvSpPr>
            <p:spPr>
              <a:xfrm>
                <a:off x="8060040" y="380988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823160" y="426060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1" name=""/>
          <p:cNvGrpSpPr/>
          <p:nvPr/>
        </p:nvGrpSpPr>
        <p:grpSpPr>
          <a:xfrm>
            <a:off x="412920" y="3549600"/>
            <a:ext cx="545400" cy="294840"/>
            <a:chOff x="412920" y="3549600"/>
            <a:chExt cx="545400" cy="294840"/>
          </a:xfrm>
        </p:grpSpPr>
        <p:sp>
          <p:nvSpPr>
            <p:cNvPr id="462" name=""/>
            <p:cNvSpPr/>
            <p:nvPr/>
          </p:nvSpPr>
          <p:spPr>
            <a:xfrm>
              <a:off x="412920" y="3549600"/>
              <a:ext cx="268200" cy="2869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0480" y="355716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1749600" y="357840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90800" y="35877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235240" y="359424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213000" y="3603600"/>
            <a:ext cx="26856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471840" y="361152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695760" y="3602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356080" y="3613320"/>
            <a:ext cx="26856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567320" y="3629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826160" y="362124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87880" y="361332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900760" y="362268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178680" y="36147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438960" y="362268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699240" y="36147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940440" y="3622680"/>
            <a:ext cx="26856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575480" y="3629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835760" y="3621240"/>
            <a:ext cx="26856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096400" y="3629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356680" y="361944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8597880" y="3629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19600" y="278136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49120" y="503244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489320" y="4517640"/>
            <a:ext cx="1143720" cy="626760"/>
            <a:chOff x="1489320" y="4517640"/>
            <a:chExt cx="1143720" cy="626760"/>
          </a:xfrm>
        </p:grpSpPr>
        <p:sp>
          <p:nvSpPr>
            <p:cNvPr id="487" name=""/>
            <p:cNvSpPr/>
            <p:nvPr/>
          </p:nvSpPr>
          <p:spPr>
            <a:xfrm flipV="1">
              <a:off x="2027160" y="4517640"/>
              <a:ext cx="1440" cy="41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489320" y="4807080"/>
              <a:ext cx="114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ppend(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4615920" y="481644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end(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5184720" y="4572000"/>
            <a:ext cx="0" cy="34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638760" y="319104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317760" y="2924280"/>
            <a:ext cx="6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737120" y="4853160"/>
            <a:ext cx="6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14960" y="2870280"/>
            <a:ext cx="116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Append(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053560" y="457200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3660840" y="315576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260720" y="5765760"/>
            <a:ext cx="682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ays (Inevitable to have a weaker semantic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160880" y="3943440"/>
            <a:ext cx="26820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384800" y="3933720"/>
            <a:ext cx="26820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1014480" y="3332160"/>
            <a:ext cx="3200400" cy="1563480"/>
            <a:chOff x="1014480" y="3332160"/>
            <a:chExt cx="3200400" cy="1563480"/>
          </a:xfrm>
        </p:grpSpPr>
        <p:sp>
          <p:nvSpPr>
            <p:cNvPr id="501" name=""/>
            <p:cNvSpPr/>
            <p:nvPr/>
          </p:nvSpPr>
          <p:spPr>
            <a:xfrm flipV="1">
              <a:off x="2170080" y="4212720"/>
              <a:ext cx="2044800" cy="682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678760" y="4538520"/>
              <a:ext cx="92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delay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902040" y="3935520"/>
              <a:ext cx="268200" cy="2872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193920" y="3443400"/>
              <a:ext cx="268560" cy="2872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452760" y="3451320"/>
              <a:ext cx="268200" cy="2872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1014480" y="3501720"/>
              <a:ext cx="2235240" cy="237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992960" y="3332160"/>
              <a:ext cx="92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delay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02C3-2F3A-432A-8F34-EFE8C545554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 flipH="1">
            <a:off x="2107800" y="2374920"/>
            <a:ext cx="5575320" cy="2030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803240" y="4508640"/>
            <a:ext cx="5600880" cy="13968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828800" y="2590920"/>
            <a:ext cx="0" cy="18795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ession Semantic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2" name=""/>
          <p:cNvSpPr/>
          <p:nvPr/>
        </p:nvSpPr>
        <p:spPr>
          <a:xfrm>
            <a:off x="1310400" y="186048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255840" y="187308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352120" y="1835280"/>
            <a:ext cx="95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1568520" y="2457360"/>
            <a:ext cx="546120" cy="287280"/>
            <a:chOff x="1568520" y="2457360"/>
            <a:chExt cx="546120" cy="287280"/>
          </a:xfrm>
        </p:grpSpPr>
        <p:sp>
          <p:nvSpPr>
            <p:cNvPr id="516" name=""/>
            <p:cNvSpPr/>
            <p:nvPr/>
          </p:nvSpPr>
          <p:spPr>
            <a:xfrm>
              <a:off x="1568520" y="24573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846080" y="246528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1542960" y="2914560"/>
            <a:ext cx="812880" cy="287280"/>
            <a:chOff x="1542960" y="2914560"/>
            <a:chExt cx="812880" cy="287280"/>
          </a:xfrm>
        </p:grpSpPr>
        <p:sp>
          <p:nvSpPr>
            <p:cNvPr id="519" name=""/>
            <p:cNvSpPr/>
            <p:nvPr/>
          </p:nvSpPr>
          <p:spPr>
            <a:xfrm>
              <a:off x="1542960" y="29145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820880" y="292248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087280" y="292248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1542960" y="3397320"/>
            <a:ext cx="1079280" cy="287280"/>
            <a:chOff x="1542960" y="3397320"/>
            <a:chExt cx="1079280" cy="287280"/>
          </a:xfrm>
        </p:grpSpPr>
        <p:sp>
          <p:nvSpPr>
            <p:cNvPr id="523" name=""/>
            <p:cNvSpPr/>
            <p:nvPr/>
          </p:nvSpPr>
          <p:spPr>
            <a:xfrm>
              <a:off x="1542960" y="339732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820520" y="340524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087280" y="340524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354040" y="340524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1542960" y="3905280"/>
            <a:ext cx="1346400" cy="287280"/>
            <a:chOff x="1542960" y="3905280"/>
            <a:chExt cx="1346400" cy="287280"/>
          </a:xfrm>
        </p:grpSpPr>
        <p:sp>
          <p:nvSpPr>
            <p:cNvPr id="528" name=""/>
            <p:cNvSpPr/>
            <p:nvPr/>
          </p:nvSpPr>
          <p:spPr>
            <a:xfrm>
              <a:off x="1542960" y="390528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820880" y="39132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087640" y="39132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354400" y="39132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620800" y="391320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1295280" y="256536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334120" y="391176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334120" y="444492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346720" y="494028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19840" y="244476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543920" y="377820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519800" y="4286160"/>
            <a:ext cx="91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544280" y="4781520"/>
            <a:ext cx="90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334120" y="539748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561200" y="527688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827360" y="22366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770280" y="22510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865840" y="22096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961400" y="22096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551000" y="1835280"/>
            <a:ext cx="83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7689960" y="2254320"/>
            <a:ext cx="546120" cy="287280"/>
            <a:chOff x="7689960" y="2254320"/>
            <a:chExt cx="546120" cy="287280"/>
          </a:xfrm>
        </p:grpSpPr>
        <p:sp>
          <p:nvSpPr>
            <p:cNvPr id="549" name=""/>
            <p:cNvSpPr/>
            <p:nvPr/>
          </p:nvSpPr>
          <p:spPr>
            <a:xfrm>
              <a:off x="7689960" y="225432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967520" y="226224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7410600" y="4489560"/>
            <a:ext cx="1345680" cy="287280"/>
            <a:chOff x="7410600" y="4489560"/>
            <a:chExt cx="1345680" cy="287280"/>
          </a:xfrm>
        </p:grpSpPr>
        <p:sp>
          <p:nvSpPr>
            <p:cNvPr id="552" name=""/>
            <p:cNvSpPr/>
            <p:nvPr/>
          </p:nvSpPr>
          <p:spPr>
            <a:xfrm>
              <a:off x="7410600" y="448956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688160" y="44974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954920" y="44974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221680" y="44974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488080" y="449748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7" name=""/>
          <p:cNvSpPr/>
          <p:nvPr/>
        </p:nvSpPr>
        <p:spPr>
          <a:xfrm>
            <a:off x="3251160" y="515772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424960" y="501012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5607000" y="3259080"/>
            <a:ext cx="546120" cy="287280"/>
            <a:chOff x="5607000" y="3259080"/>
            <a:chExt cx="546120" cy="287280"/>
          </a:xfrm>
        </p:grpSpPr>
        <p:sp>
          <p:nvSpPr>
            <p:cNvPr id="560" name=""/>
            <p:cNvSpPr/>
            <p:nvPr/>
          </p:nvSpPr>
          <p:spPr>
            <a:xfrm>
              <a:off x="5607000" y="325908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884560" y="326700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5334120" y="336708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507560" y="321948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3498840" y="5035680"/>
            <a:ext cx="1345680" cy="287280"/>
            <a:chOff x="3498840" y="5035680"/>
            <a:chExt cx="1345680" cy="287280"/>
          </a:xfrm>
        </p:grpSpPr>
        <p:sp>
          <p:nvSpPr>
            <p:cNvPr id="565" name=""/>
            <p:cNvSpPr/>
            <p:nvPr/>
          </p:nvSpPr>
          <p:spPr>
            <a:xfrm>
              <a:off x="3498840" y="503568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776400" y="504360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043160" y="504360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309920" y="504360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576320" y="50436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5594400" y="3790800"/>
            <a:ext cx="812880" cy="287640"/>
            <a:chOff x="5594400" y="3790800"/>
            <a:chExt cx="812880" cy="287640"/>
          </a:xfrm>
        </p:grpSpPr>
        <p:sp>
          <p:nvSpPr>
            <p:cNvPr id="571" name=""/>
            <p:cNvSpPr/>
            <p:nvPr/>
          </p:nvSpPr>
          <p:spPr>
            <a:xfrm>
              <a:off x="5594400" y="3790800"/>
              <a:ext cx="268200" cy="287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872320" y="3799080"/>
              <a:ext cx="26820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138720" y="3799080"/>
              <a:ext cx="26856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5594400" y="4260960"/>
            <a:ext cx="1079280" cy="287280"/>
            <a:chOff x="5594400" y="4260960"/>
            <a:chExt cx="1079280" cy="287280"/>
          </a:xfrm>
        </p:grpSpPr>
        <p:sp>
          <p:nvSpPr>
            <p:cNvPr id="575" name=""/>
            <p:cNvSpPr/>
            <p:nvPr/>
          </p:nvSpPr>
          <p:spPr>
            <a:xfrm>
              <a:off x="5594400" y="42609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71960" y="426888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138720" y="426888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405480" y="426888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5594400" y="4768920"/>
            <a:ext cx="1345680" cy="287280"/>
            <a:chOff x="5594400" y="4768920"/>
            <a:chExt cx="1345680" cy="287280"/>
          </a:xfrm>
        </p:grpSpPr>
        <p:sp>
          <p:nvSpPr>
            <p:cNvPr id="580" name=""/>
            <p:cNvSpPr/>
            <p:nvPr/>
          </p:nvSpPr>
          <p:spPr>
            <a:xfrm>
              <a:off x="5594400" y="476892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871960" y="47768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138720" y="47768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405480" y="47768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671880" y="477684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7423200" y="5403960"/>
            <a:ext cx="1345680" cy="287280"/>
            <a:chOff x="7423200" y="5403960"/>
            <a:chExt cx="1345680" cy="287280"/>
          </a:xfrm>
        </p:grpSpPr>
        <p:sp>
          <p:nvSpPr>
            <p:cNvPr id="586" name=""/>
            <p:cNvSpPr/>
            <p:nvPr/>
          </p:nvSpPr>
          <p:spPr>
            <a:xfrm>
              <a:off x="7423200" y="540396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700760" y="54118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967520" y="54118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234280" y="54118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500680" y="541188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238560" y="591804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465640" y="57974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263760" y="565308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329200" y="5530680"/>
            <a:ext cx="97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3511440" y="5530680"/>
            <a:ext cx="1346400" cy="287280"/>
            <a:chOff x="3511440" y="5530680"/>
            <a:chExt cx="1346400" cy="287280"/>
          </a:xfrm>
        </p:grpSpPr>
        <p:sp>
          <p:nvSpPr>
            <p:cNvPr id="596" name=""/>
            <p:cNvSpPr/>
            <p:nvPr/>
          </p:nvSpPr>
          <p:spPr>
            <a:xfrm>
              <a:off x="3511440" y="553068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789360" y="55386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056120" y="55386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322880" y="55386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589280" y="553860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4843440" y="5540400"/>
            <a:ext cx="268200" cy="2746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7391520" y="5924520"/>
            <a:ext cx="1345680" cy="287280"/>
            <a:chOff x="7391520" y="5924520"/>
            <a:chExt cx="1345680" cy="287280"/>
          </a:xfrm>
        </p:grpSpPr>
        <p:sp>
          <p:nvSpPr>
            <p:cNvPr id="603" name=""/>
            <p:cNvSpPr/>
            <p:nvPr/>
          </p:nvSpPr>
          <p:spPr>
            <a:xfrm>
              <a:off x="7391520" y="592452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669080" y="59324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935840" y="59324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202600" y="59324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469000" y="593244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>
            <a:off x="8723160" y="5934240"/>
            <a:ext cx="268560" cy="274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6159600" y="2451240"/>
            <a:ext cx="1549440" cy="8888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82680" y="303516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282680" y="356868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295280" y="406404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93200" y="2901960"/>
            <a:ext cx="90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64400" y="340992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92480" y="390528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282680" y="452124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10120" y="4400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867280" y="5397480"/>
            <a:ext cx="1549440" cy="1652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4838760" y="4699080"/>
            <a:ext cx="2565360" cy="469800"/>
          </a:xfrm>
          <a:prstGeom prst="line">
            <a:avLst/>
          </a:prstGeom>
          <a:ln w="28440">
            <a:solidFill>
              <a:srgbClr val="cc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784680" y="5931000"/>
            <a:ext cx="3619440" cy="127080"/>
          </a:xfrm>
          <a:prstGeom prst="line">
            <a:avLst/>
          </a:prstGeom>
          <a:ln w="28440">
            <a:solidFill>
              <a:srgbClr val="cc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5854320" y="3390840"/>
            <a:ext cx="25560" cy="19814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772080" y="5194440"/>
            <a:ext cx="0" cy="736560"/>
          </a:xfrm>
          <a:prstGeom prst="line">
            <a:avLst/>
          </a:prstGeom>
          <a:ln w="28440">
            <a:solidFill>
              <a:srgbClr val="cc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05200" y="6012000"/>
            <a:ext cx="44647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 writes may overwrite previous upda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 lock is needed to prevent this overwri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1B7C-26BE-4518-808E-ABAE6DC942A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 flipH="1">
            <a:off x="2107800" y="2374920"/>
            <a:ext cx="5575320" cy="2030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943280" y="5105520"/>
            <a:ext cx="5435280" cy="4190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828800" y="2590920"/>
            <a:ext cx="12600" cy="21333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ession Semantics with File Lock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8" name=""/>
          <p:cNvSpPr/>
          <p:nvPr/>
        </p:nvSpPr>
        <p:spPr>
          <a:xfrm>
            <a:off x="1310400" y="186048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385880" y="180972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1568520" y="2457360"/>
            <a:ext cx="546120" cy="287280"/>
            <a:chOff x="1568520" y="2457360"/>
            <a:chExt cx="546120" cy="287280"/>
          </a:xfrm>
        </p:grpSpPr>
        <p:sp>
          <p:nvSpPr>
            <p:cNvPr id="631" name=""/>
            <p:cNvSpPr/>
            <p:nvPr/>
          </p:nvSpPr>
          <p:spPr>
            <a:xfrm>
              <a:off x="1568520" y="24573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46080" y="246528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1542960" y="2914560"/>
            <a:ext cx="812880" cy="287280"/>
            <a:chOff x="1542960" y="2914560"/>
            <a:chExt cx="812880" cy="287280"/>
          </a:xfrm>
        </p:grpSpPr>
        <p:sp>
          <p:nvSpPr>
            <p:cNvPr id="634" name=""/>
            <p:cNvSpPr/>
            <p:nvPr/>
          </p:nvSpPr>
          <p:spPr>
            <a:xfrm>
              <a:off x="1542960" y="29145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0880" y="292248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087280" y="292248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>
            <a:off x="1295280" y="256536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19840" y="244476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502440" y="356220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745360" y="44258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839960" y="22114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811760" y="2162160"/>
            <a:ext cx="0" cy="429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961400" y="22096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551000" y="1835280"/>
            <a:ext cx="83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7689960" y="2254320"/>
            <a:ext cx="546120" cy="287280"/>
            <a:chOff x="7689960" y="2254320"/>
            <a:chExt cx="546120" cy="287280"/>
          </a:xfrm>
        </p:grpSpPr>
        <p:sp>
          <p:nvSpPr>
            <p:cNvPr id="646" name=""/>
            <p:cNvSpPr/>
            <p:nvPr/>
          </p:nvSpPr>
          <p:spPr>
            <a:xfrm>
              <a:off x="7689960" y="225432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67520" y="226224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8" name=""/>
          <p:cNvSpPr/>
          <p:nvPr/>
        </p:nvSpPr>
        <p:spPr>
          <a:xfrm>
            <a:off x="4280040" y="329076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479040" y="315612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517920" y="455940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292640" y="369720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5117760" y="2451240"/>
            <a:ext cx="2590920" cy="72360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2680" y="303516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93200" y="2901960"/>
            <a:ext cx="90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2336760" y="2413080"/>
            <a:ext cx="5321520" cy="596880"/>
          </a:xfrm>
          <a:prstGeom prst="line">
            <a:avLst/>
          </a:prstGeom>
          <a:ln w="28440">
            <a:solidFill>
              <a:srgbClr val="00e4a8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424320" y="2583000"/>
            <a:ext cx="63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loc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4552920" y="3156120"/>
            <a:ext cx="546120" cy="287280"/>
            <a:chOff x="4552920" y="3156120"/>
            <a:chExt cx="546120" cy="287280"/>
          </a:xfrm>
        </p:grpSpPr>
        <p:sp>
          <p:nvSpPr>
            <p:cNvPr id="658" name=""/>
            <p:cNvSpPr/>
            <p:nvPr/>
          </p:nvSpPr>
          <p:spPr>
            <a:xfrm>
              <a:off x="4552920" y="315612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830480" y="316404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4438800" y="4362480"/>
            <a:ext cx="812160" cy="287280"/>
            <a:chOff x="4438800" y="4362480"/>
            <a:chExt cx="812160" cy="287280"/>
          </a:xfrm>
        </p:grpSpPr>
        <p:sp>
          <p:nvSpPr>
            <p:cNvPr id="661" name=""/>
            <p:cNvSpPr/>
            <p:nvPr/>
          </p:nvSpPr>
          <p:spPr>
            <a:xfrm>
              <a:off x="4438800" y="436248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716360" y="4370400"/>
              <a:ext cx="26784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982760" y="437040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4451400" y="3498840"/>
            <a:ext cx="1753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User need to choo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uit, 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teal, or 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roc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3848040" y="3987720"/>
            <a:ext cx="990720" cy="3938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813200" y="3987720"/>
            <a:ext cx="978120" cy="35568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362320" y="3162240"/>
            <a:ext cx="2387520" cy="1193760"/>
          </a:xfrm>
          <a:prstGeom prst="line">
            <a:avLst/>
          </a:prstGeom>
          <a:ln w="28440">
            <a:solidFill>
              <a:srgbClr val="00e4a8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5416560" y="4362480"/>
            <a:ext cx="812880" cy="287280"/>
            <a:chOff x="5416560" y="4362480"/>
            <a:chExt cx="812880" cy="287280"/>
          </a:xfrm>
        </p:grpSpPr>
        <p:sp>
          <p:nvSpPr>
            <p:cNvPr id="669" name=""/>
            <p:cNvSpPr/>
            <p:nvPr/>
          </p:nvSpPr>
          <p:spPr>
            <a:xfrm>
              <a:off x="5416560" y="436248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694480" y="437040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960880" y="437040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"/>
          <p:cNvSpPr/>
          <p:nvPr/>
        </p:nvSpPr>
        <p:spPr>
          <a:xfrm>
            <a:off x="4902120" y="4660920"/>
            <a:ext cx="2514600" cy="33012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7435800" y="4705200"/>
            <a:ext cx="812880" cy="287640"/>
            <a:chOff x="7435800" y="4705200"/>
            <a:chExt cx="812880" cy="287640"/>
          </a:xfrm>
        </p:grpSpPr>
        <p:sp>
          <p:nvSpPr>
            <p:cNvPr id="674" name=""/>
            <p:cNvSpPr/>
            <p:nvPr/>
          </p:nvSpPr>
          <p:spPr>
            <a:xfrm>
              <a:off x="7435800" y="4705200"/>
              <a:ext cx="268200" cy="287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713720" y="4713480"/>
              <a:ext cx="26820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980120" y="4713480"/>
              <a:ext cx="26856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7" name=""/>
          <p:cNvSpPr/>
          <p:nvPr/>
        </p:nvSpPr>
        <p:spPr>
          <a:xfrm>
            <a:off x="4696920" y="4576680"/>
            <a:ext cx="61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^x^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235560" y="4368960"/>
            <a:ext cx="2514600" cy="3045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245280" y="4208400"/>
            <a:ext cx="67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^x^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8331120" y="4705200"/>
            <a:ext cx="812880" cy="287640"/>
            <a:chOff x="8331120" y="4705200"/>
            <a:chExt cx="812880" cy="287640"/>
          </a:xfrm>
        </p:grpSpPr>
        <p:sp>
          <p:nvSpPr>
            <p:cNvPr id="681" name=""/>
            <p:cNvSpPr/>
            <p:nvPr/>
          </p:nvSpPr>
          <p:spPr>
            <a:xfrm>
              <a:off x="8331120" y="4705200"/>
              <a:ext cx="268200" cy="287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609040" y="4713480"/>
              <a:ext cx="26820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875440" y="4713480"/>
              <a:ext cx="26856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4" name=""/>
          <p:cNvSpPr/>
          <p:nvPr/>
        </p:nvSpPr>
        <p:spPr>
          <a:xfrm>
            <a:off x="8279640" y="220176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593840" y="494496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327880" y="4932360"/>
            <a:ext cx="5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-7560" y="459108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65000" y="472428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7385040" y="5403960"/>
            <a:ext cx="812880" cy="287280"/>
            <a:chOff x="7385040" y="5403960"/>
            <a:chExt cx="812880" cy="287280"/>
          </a:xfrm>
        </p:grpSpPr>
        <p:sp>
          <p:nvSpPr>
            <p:cNvPr id="690" name=""/>
            <p:cNvSpPr/>
            <p:nvPr/>
          </p:nvSpPr>
          <p:spPr>
            <a:xfrm>
              <a:off x="7385040" y="54039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662960" y="541188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929360" y="541188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8331120" y="5365800"/>
            <a:ext cx="812880" cy="287280"/>
            <a:chOff x="8331120" y="5365800"/>
            <a:chExt cx="812880" cy="287280"/>
          </a:xfrm>
        </p:grpSpPr>
        <p:sp>
          <p:nvSpPr>
            <p:cNvPr id="694" name=""/>
            <p:cNvSpPr/>
            <p:nvPr/>
          </p:nvSpPr>
          <p:spPr>
            <a:xfrm>
              <a:off x="8331120" y="536580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609040" y="537372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875440" y="537372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797400" y="4692600"/>
            <a:ext cx="247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User need to choo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Quit, save anyway, or type ^x^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813200" y="3149640"/>
            <a:ext cx="12960" cy="11811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844720" y="5067360"/>
            <a:ext cx="6083280" cy="2793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8416800" y="5668920"/>
            <a:ext cx="5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711000" y="5092560"/>
            <a:ext cx="253800" cy="2160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21680" y="43228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33cc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83120" y="52498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02240" y="3497400"/>
            <a:ext cx="63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loc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805E-7D0A-4C42-BB84-A4D77E34649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5" name=""/>
          <p:cNvGrpSpPr/>
          <p:nvPr/>
        </p:nvGrpSpPr>
        <p:grpSpPr>
          <a:xfrm>
            <a:off x="7404120" y="5435640"/>
            <a:ext cx="368280" cy="520560"/>
            <a:chOff x="7404120" y="5435640"/>
            <a:chExt cx="368280" cy="520560"/>
          </a:xfrm>
        </p:grpSpPr>
        <p:sp>
          <p:nvSpPr>
            <p:cNvPr id="706" name=""/>
            <p:cNvSpPr/>
            <p:nvPr/>
          </p:nvSpPr>
          <p:spPr>
            <a:xfrm>
              <a:off x="7404120" y="5435640"/>
              <a:ext cx="368280" cy="2664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404120" y="5689440"/>
              <a:ext cx="368280" cy="2667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ransaction-Like Semantics (Concurrency Control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9" name=""/>
          <p:cNvSpPr/>
          <p:nvPr/>
        </p:nvSpPr>
        <p:spPr>
          <a:xfrm>
            <a:off x="4432320" y="2057400"/>
            <a:ext cx="0" cy="410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048320" y="1859040"/>
            <a:ext cx="210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ward valid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815800" y="180828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ward valid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609480" y="2629080"/>
            <a:ext cx="368280" cy="1663560"/>
            <a:chOff x="609480" y="2629080"/>
            <a:chExt cx="368280" cy="1663560"/>
          </a:xfrm>
        </p:grpSpPr>
        <p:sp>
          <p:nvSpPr>
            <p:cNvPr id="713" name=""/>
            <p:cNvSpPr/>
            <p:nvPr/>
          </p:nvSpPr>
          <p:spPr>
            <a:xfrm>
              <a:off x="609480" y="2629080"/>
              <a:ext cx="36828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4" name=""/>
            <p:cNvGrpSpPr/>
            <p:nvPr/>
          </p:nvGrpSpPr>
          <p:grpSpPr>
            <a:xfrm>
              <a:off x="609480" y="3772080"/>
              <a:ext cx="368280" cy="520560"/>
              <a:chOff x="609480" y="3772080"/>
              <a:chExt cx="368280" cy="520560"/>
            </a:xfrm>
          </p:grpSpPr>
          <p:sp>
            <p:nvSpPr>
              <p:cNvPr id="715" name=""/>
              <p:cNvSpPr/>
              <p:nvPr/>
            </p:nvSpPr>
            <p:spPr>
              <a:xfrm>
                <a:off x="609480" y="3772080"/>
                <a:ext cx="368280" cy="2664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09480" y="4025880"/>
                <a:ext cx="368280" cy="26676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7" name=""/>
          <p:cNvGrpSpPr/>
          <p:nvPr/>
        </p:nvGrpSpPr>
        <p:grpSpPr>
          <a:xfrm>
            <a:off x="1333440" y="3213000"/>
            <a:ext cx="368280" cy="1650600"/>
            <a:chOff x="1333440" y="3213000"/>
            <a:chExt cx="368280" cy="1650600"/>
          </a:xfrm>
        </p:grpSpPr>
        <p:sp>
          <p:nvSpPr>
            <p:cNvPr id="718" name=""/>
            <p:cNvSpPr/>
            <p:nvPr/>
          </p:nvSpPr>
          <p:spPr>
            <a:xfrm>
              <a:off x="1333440" y="3213000"/>
              <a:ext cx="36828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9" name=""/>
            <p:cNvGrpSpPr/>
            <p:nvPr/>
          </p:nvGrpSpPr>
          <p:grpSpPr>
            <a:xfrm>
              <a:off x="1333440" y="4343040"/>
              <a:ext cx="368280" cy="520560"/>
              <a:chOff x="1333440" y="4343040"/>
              <a:chExt cx="368280" cy="520560"/>
            </a:xfrm>
          </p:grpSpPr>
          <p:sp>
            <p:nvSpPr>
              <p:cNvPr id="720" name=""/>
              <p:cNvSpPr/>
              <p:nvPr/>
            </p:nvSpPr>
            <p:spPr>
              <a:xfrm>
                <a:off x="1333440" y="4343040"/>
                <a:ext cx="368280" cy="2664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1333440" y="4596840"/>
                <a:ext cx="368280" cy="26676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2" name=""/>
          <p:cNvGrpSpPr/>
          <p:nvPr/>
        </p:nvGrpSpPr>
        <p:grpSpPr>
          <a:xfrm>
            <a:off x="2044800" y="3759120"/>
            <a:ext cx="368280" cy="1663560"/>
            <a:chOff x="2044800" y="3759120"/>
            <a:chExt cx="368280" cy="1663560"/>
          </a:xfrm>
        </p:grpSpPr>
        <p:sp>
          <p:nvSpPr>
            <p:cNvPr id="723" name=""/>
            <p:cNvSpPr/>
            <p:nvPr/>
          </p:nvSpPr>
          <p:spPr>
            <a:xfrm>
              <a:off x="2044800" y="3759120"/>
              <a:ext cx="36828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4" name=""/>
            <p:cNvGrpSpPr/>
            <p:nvPr/>
          </p:nvGrpSpPr>
          <p:grpSpPr>
            <a:xfrm>
              <a:off x="2044800" y="4902120"/>
              <a:ext cx="368280" cy="520560"/>
              <a:chOff x="2044800" y="4902120"/>
              <a:chExt cx="368280" cy="520560"/>
            </a:xfrm>
          </p:grpSpPr>
          <p:sp>
            <p:nvSpPr>
              <p:cNvPr id="725" name=""/>
              <p:cNvSpPr/>
              <p:nvPr/>
            </p:nvSpPr>
            <p:spPr>
              <a:xfrm>
                <a:off x="2044800" y="4902120"/>
                <a:ext cx="368280" cy="2664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2044800" y="5155920"/>
                <a:ext cx="368280" cy="26676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7" name=""/>
          <p:cNvSpPr/>
          <p:nvPr/>
        </p:nvSpPr>
        <p:spPr>
          <a:xfrm>
            <a:off x="2755800" y="4305240"/>
            <a:ext cx="368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755800" y="5448240"/>
            <a:ext cx="368280" cy="2667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H="1" flipV="1">
            <a:off x="977760" y="3505320"/>
            <a:ext cx="355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 flipV="1">
            <a:off x="977760" y="3048120"/>
            <a:ext cx="35568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 flipV="1">
            <a:off x="977760" y="2844720"/>
            <a:ext cx="355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 flipV="1">
            <a:off x="1689120" y="4051440"/>
            <a:ext cx="35568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1689120" y="3632040"/>
            <a:ext cx="3556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H="1" flipV="1">
            <a:off x="1689120" y="3416400"/>
            <a:ext cx="34272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H="1" flipV="1">
            <a:off x="2400480" y="3974760"/>
            <a:ext cx="34272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H="1" flipV="1">
            <a:off x="2413080" y="4203360"/>
            <a:ext cx="3556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H="1" flipV="1">
            <a:off x="1688760" y="3835080"/>
            <a:ext cx="1066680" cy="1041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H="1" flipV="1">
            <a:off x="2413080" y="4775040"/>
            <a:ext cx="355680" cy="317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755800" y="5994360"/>
            <a:ext cx="35568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25080" y="24321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049040" y="297828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772640" y="349884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509200" y="40831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75400" y="423540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037160" y="476892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735920" y="534024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516040" y="561960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ab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503440" y="5784840"/>
            <a:ext cx="112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re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23640" y="379080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al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48760" y="401940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mi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17960" y="224172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194120" y="2241720"/>
            <a:ext cx="77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969560" y="2254320"/>
            <a:ext cx="76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718360" y="2254320"/>
            <a:ext cx="78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5257800" y="2629080"/>
            <a:ext cx="368280" cy="1663560"/>
            <a:chOff x="5257800" y="2629080"/>
            <a:chExt cx="368280" cy="1663560"/>
          </a:xfrm>
        </p:grpSpPr>
        <p:sp>
          <p:nvSpPr>
            <p:cNvPr id="756" name=""/>
            <p:cNvSpPr/>
            <p:nvPr/>
          </p:nvSpPr>
          <p:spPr>
            <a:xfrm>
              <a:off x="5257800" y="2629080"/>
              <a:ext cx="36828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7" name=""/>
            <p:cNvGrpSpPr/>
            <p:nvPr/>
          </p:nvGrpSpPr>
          <p:grpSpPr>
            <a:xfrm>
              <a:off x="5257800" y="3772080"/>
              <a:ext cx="368280" cy="520560"/>
              <a:chOff x="5257800" y="3772080"/>
              <a:chExt cx="368280" cy="520560"/>
            </a:xfrm>
          </p:grpSpPr>
          <p:sp>
            <p:nvSpPr>
              <p:cNvPr id="758" name=""/>
              <p:cNvSpPr/>
              <p:nvPr/>
            </p:nvSpPr>
            <p:spPr>
              <a:xfrm>
                <a:off x="5257800" y="3772080"/>
                <a:ext cx="368280" cy="2664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257800" y="4025880"/>
                <a:ext cx="368280" cy="26676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0" name=""/>
          <p:cNvSpPr/>
          <p:nvPr/>
        </p:nvSpPr>
        <p:spPr>
          <a:xfrm>
            <a:off x="5981760" y="3213000"/>
            <a:ext cx="368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692760" y="3759120"/>
            <a:ext cx="368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404120" y="4305240"/>
            <a:ext cx="368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981760" y="4356000"/>
            <a:ext cx="368280" cy="2667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956200" y="4952880"/>
            <a:ext cx="355680" cy="109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973040" y="24321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697000" y="297828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420960" y="349884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157520" y="40831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923360" y="423540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082280" y="588636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627520" y="456552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ab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615280" y="4730760"/>
            <a:ext cx="112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re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971960" y="379080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al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896720" y="401940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mi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066280" y="224172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842440" y="2241720"/>
            <a:ext cx="77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617880" y="2254320"/>
            <a:ext cx="76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7366680" y="2254320"/>
            <a:ext cx="78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626080" y="3213000"/>
            <a:ext cx="190440" cy="3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638680" y="3619440"/>
            <a:ext cx="16524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337440" y="3797280"/>
            <a:ext cx="1066680" cy="1054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061040" y="4788000"/>
            <a:ext cx="355680" cy="291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362640" y="4229280"/>
            <a:ext cx="13968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061040" y="4317840"/>
            <a:ext cx="165240" cy="165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7772400" y="5334120"/>
            <a:ext cx="177840" cy="13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210040" y="2584440"/>
            <a:ext cx="163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are reads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rmer wr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076520" y="2546280"/>
            <a:ext cx="1591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are write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ter 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6692760" y="4902120"/>
            <a:ext cx="368280" cy="520560"/>
            <a:chOff x="6692760" y="4902120"/>
            <a:chExt cx="368280" cy="520560"/>
          </a:xfrm>
        </p:grpSpPr>
        <p:sp>
          <p:nvSpPr>
            <p:cNvPr id="789" name=""/>
            <p:cNvSpPr/>
            <p:nvPr/>
          </p:nvSpPr>
          <p:spPr>
            <a:xfrm>
              <a:off x="6692760" y="4902120"/>
              <a:ext cx="368280" cy="2664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692760" y="5155920"/>
              <a:ext cx="368280" cy="2667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1" name=""/>
          <p:cNvSpPr/>
          <p:nvPr/>
        </p:nvSpPr>
        <p:spPr>
          <a:xfrm>
            <a:off x="6396480" y="535320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2" name=""/>
          <p:cNvGrpSpPr/>
          <p:nvPr/>
        </p:nvGrpSpPr>
        <p:grpSpPr>
          <a:xfrm>
            <a:off x="7314840" y="5168880"/>
            <a:ext cx="609480" cy="1015920"/>
            <a:chOff x="7314840" y="5168880"/>
            <a:chExt cx="609480" cy="1015920"/>
          </a:xfrm>
        </p:grpSpPr>
        <p:sp>
          <p:nvSpPr>
            <p:cNvPr id="793" name=""/>
            <p:cNvSpPr/>
            <p:nvPr/>
          </p:nvSpPr>
          <p:spPr>
            <a:xfrm>
              <a:off x="7365960" y="5168880"/>
              <a:ext cx="520920" cy="101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7314840" y="5181480"/>
              <a:ext cx="60948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" name=""/>
          <p:cNvSpPr/>
          <p:nvPr/>
        </p:nvSpPr>
        <p:spPr>
          <a:xfrm>
            <a:off x="4922280" y="5505480"/>
            <a:ext cx="385056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bort itself or conflicting active transa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219480" y="6176880"/>
            <a:ext cx="288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ich validation is better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8AFC-EF75-4506-BBDE-9554F7D6FC2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Immutable Shared-Files Semantic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8" name=""/>
          <p:cNvSpPr/>
          <p:nvPr/>
        </p:nvSpPr>
        <p:spPr>
          <a:xfrm>
            <a:off x="6350040" y="2565360"/>
            <a:ext cx="558720" cy="584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048120" y="3263760"/>
            <a:ext cx="558720" cy="584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enta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ased 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622440" y="3225960"/>
            <a:ext cx="558720" cy="58392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enta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ased 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362640" y="3784680"/>
            <a:ext cx="558720" cy="584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3594240" y="3137040"/>
            <a:ext cx="27684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>
            <a:off x="1218960" y="2717640"/>
            <a:ext cx="5143320" cy="52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352680" y="3860640"/>
            <a:ext cx="3009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667560" y="3137040"/>
            <a:ext cx="0" cy="67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939960" y="3822840"/>
            <a:ext cx="5054400" cy="15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910480" y="4627440"/>
            <a:ext cx="175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Version confli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969160" y="5359320"/>
            <a:ext cx="558720" cy="58428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581960" y="5346720"/>
            <a:ext cx="558720" cy="584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466240" y="5897520"/>
            <a:ext cx="156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gnore confli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7496640" y="588492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990720" y="3809880"/>
            <a:ext cx="660384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654960" y="4356000"/>
            <a:ext cx="914400" cy="96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423440" y="4906800"/>
            <a:ext cx="71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b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876240" y="3809880"/>
            <a:ext cx="80028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317280" y="2176560"/>
            <a:ext cx="83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051000" y="221472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95720" y="223992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579960" y="5237280"/>
            <a:ext cx="4193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pend on each file syste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bortion is simple (later, the client A c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cide to overwrite it with its tentative 1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y changing the corresponding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FCB3-BF82-41FB-B1B6-A466D6A21E7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tributed File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75040" indent="-275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common use of distribute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5040" indent="-275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de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97600" indent="-230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set of disks attached to different nod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 as if all were attached to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ver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97600" indent="-230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9080" indent="-1828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dlab: one server, workstations on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9080" indent="-1828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eShare: nodes are servers with disk &amp;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6D3B-9E38-4A6E-9CCB-919413F2BFC2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Caching Scheme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ache Loc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1" name=""/>
          <p:cNvSpPr/>
          <p:nvPr/>
        </p:nvSpPr>
        <p:spPr>
          <a:xfrm>
            <a:off x="376200" y="4086360"/>
            <a:ext cx="879480" cy="95076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58920" y="2762280"/>
            <a:ext cx="914400" cy="7714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3" name=""/>
          <p:cNvGraphicFramePr/>
          <p:nvPr/>
        </p:nvGraphicFramePr>
        <p:xfrm>
          <a:off x="2957400" y="2081160"/>
          <a:ext cx="5970600" cy="4381560"/>
        </p:xfrm>
        <a:graphic>
          <a:graphicData uri="http://schemas.openxmlformats.org/drawingml/2006/table">
            <a:tbl>
              <a:tblPr/>
              <a:tblGrid>
                <a:gridCol w="1560600"/>
                <a:gridCol w="2170080"/>
                <a:gridCol w="2239920"/>
              </a:tblGrid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r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mer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cach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mod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Frequent disk access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Busy network traff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 server’s main 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One-time disk acces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asy implementation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ix-like file-sharing semant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Busy network traff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 client’s di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One-time network access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size restri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ache consistency problem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File access semantics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Frequent disk access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No Diskless works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 client’s main 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aximum performance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Diskless workstation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calab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ze restriction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Cache consistency problem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ile access semant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4" name=""/>
          <p:cNvSpPr/>
          <p:nvPr/>
        </p:nvSpPr>
        <p:spPr>
          <a:xfrm>
            <a:off x="1909800" y="4094280"/>
            <a:ext cx="879480" cy="95076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892160" y="2770200"/>
            <a:ext cx="914400" cy="7714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631880" y="2421000"/>
            <a:ext cx="0" cy="261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871920" y="1920960"/>
            <a:ext cx="167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de bound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61520" y="2205000"/>
            <a:ext cx="72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006640" y="22604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098800" y="4822920"/>
            <a:ext cx="412560" cy="37764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2455920" y="3763440"/>
            <a:ext cx="17928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H="1" flipV="1">
            <a:off x="1130400" y="2492280"/>
            <a:ext cx="1272960" cy="102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 flipV="1">
            <a:off x="1037880" y="2563560"/>
            <a:ext cx="1058760" cy="2276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039680" y="3406680"/>
            <a:ext cx="1198800" cy="1165320"/>
          </a:xfrm>
          <a:custGeom>
            <a:avLst/>
            <a:gdLst/>
            <a:ahLst/>
            <a:rect l="l" t="t" r="r" b="b"/>
            <a:pathLst>
              <a:path w="698" h="734">
                <a:moveTo>
                  <a:pt x="598" y="734"/>
                </a:moveTo>
                <a:cubicBezTo>
                  <a:pt x="648" y="401"/>
                  <a:pt x="698" y="68"/>
                  <a:pt x="598" y="34"/>
                </a:cubicBezTo>
                <a:cubicBezTo>
                  <a:pt x="498" y="0"/>
                  <a:pt x="249" y="265"/>
                  <a:pt x="0" y="531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465280" y="3451320"/>
            <a:ext cx="41292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38200" y="4213080"/>
            <a:ext cx="412560" cy="3780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816120" y="3395520"/>
            <a:ext cx="412560" cy="3780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 flipV="1">
            <a:off x="883800" y="2538000"/>
            <a:ext cx="179640" cy="824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 flipV="1">
            <a:off x="565200" y="2520720"/>
            <a:ext cx="179280" cy="1701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H="1" flipV="1">
            <a:off x="1218960" y="3728520"/>
            <a:ext cx="788760" cy="111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6364440" y="2527200"/>
            <a:ext cx="412560" cy="41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6203520" y="3084480"/>
            <a:ext cx="538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5504040" y="4822920"/>
            <a:ext cx="1272960" cy="78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5898960" y="5181480"/>
            <a:ext cx="842760" cy="77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841D-314C-4F67-AAB3-3053FC40C25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893960" y="227016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Caching Scheme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Modification Propag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3102120" y="1945800"/>
            <a:ext cx="58528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rite-through sche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Pro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Unix-like semantics and high reliab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Poor write performa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layed-write sche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ite on cache displac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riodic wri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ite on clo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Pro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ite accesses complete quickl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me writes may be omitted by the following writ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thering all writes mitigates network overhe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on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aying of write propagation results in fuzzier file-sharing semantic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8" name=""/>
          <p:cNvSpPr/>
          <p:nvPr/>
        </p:nvSpPr>
        <p:spPr>
          <a:xfrm>
            <a:off x="1282680" y="3090960"/>
            <a:ext cx="754200" cy="87948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471680" y="3747960"/>
            <a:ext cx="412560" cy="37800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57280" y="224316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941400" y="2732040"/>
            <a:ext cx="412560" cy="3780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2242800" y="2637000"/>
            <a:ext cx="579960" cy="805320"/>
            <a:chOff x="2242800" y="2637000"/>
            <a:chExt cx="579960" cy="805320"/>
          </a:xfrm>
        </p:grpSpPr>
        <p:grpSp>
          <p:nvGrpSpPr>
            <p:cNvPr id="853" name=""/>
            <p:cNvGrpSpPr/>
            <p:nvPr/>
          </p:nvGrpSpPr>
          <p:grpSpPr>
            <a:xfrm>
              <a:off x="2292480" y="2886120"/>
              <a:ext cx="452520" cy="556200"/>
              <a:chOff x="2292480" y="2886120"/>
              <a:chExt cx="452520" cy="556200"/>
            </a:xfrm>
          </p:grpSpPr>
          <p:sp>
            <p:nvSpPr>
              <p:cNvPr id="854" name=""/>
              <p:cNvSpPr/>
              <p:nvPr/>
            </p:nvSpPr>
            <p:spPr>
              <a:xfrm>
                <a:off x="2332440" y="2886120"/>
                <a:ext cx="412560" cy="377640"/>
              </a:xfrm>
              <a:prstGeom prst="flowChartDocument">
                <a:avLst/>
              </a:prstGeom>
              <a:solidFill>
                <a:srgbClr val="99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op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92480" y="310500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0000"/>
                    </a:solidFill>
                    <a:latin typeface="Tahoma"/>
                  </a:rPr>
                  <a:t>W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6" name=""/>
            <p:cNvSpPr/>
            <p:nvPr/>
          </p:nvSpPr>
          <p:spPr>
            <a:xfrm>
              <a:off x="2242800" y="2637000"/>
              <a:ext cx="57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7" name=""/>
          <p:cNvSpPr/>
          <p:nvPr/>
        </p:nvSpPr>
        <p:spPr>
          <a:xfrm>
            <a:off x="538920" y="1973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1855080" y="2000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9" name=""/>
          <p:cNvGrpSpPr/>
          <p:nvPr/>
        </p:nvGrpSpPr>
        <p:grpSpPr>
          <a:xfrm>
            <a:off x="-49320" y="2905200"/>
            <a:ext cx="1959120" cy="1332720"/>
            <a:chOff x="-49320" y="2905200"/>
            <a:chExt cx="1959120" cy="1332720"/>
          </a:xfrm>
        </p:grpSpPr>
        <p:sp>
          <p:nvSpPr>
            <p:cNvPr id="860" name=""/>
            <p:cNvSpPr/>
            <p:nvPr/>
          </p:nvSpPr>
          <p:spPr>
            <a:xfrm>
              <a:off x="857160" y="290520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547640" y="390060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111320" y="3137040"/>
              <a:ext cx="646200" cy="80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-49320" y="3300480"/>
              <a:ext cx="175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mmediate wri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4" name=""/>
          <p:cNvSpPr/>
          <p:nvPr/>
        </p:nvSpPr>
        <p:spPr>
          <a:xfrm>
            <a:off x="1893960" y="459432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282680" y="5415120"/>
            <a:ext cx="754200" cy="87948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471680" y="6072120"/>
            <a:ext cx="412560" cy="37800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57280" y="456732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941400" y="5056200"/>
            <a:ext cx="41256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857160" y="522936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332080" y="5210280"/>
            <a:ext cx="41256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242800" y="4960800"/>
            <a:ext cx="5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38920" y="429732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855080" y="432432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-40680" y="5624640"/>
            <a:ext cx="146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layed wr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22160" y="538164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9929-9403-4DEC-9E02-5189DE9B665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Caching Scheme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ache Validation Schemes – Client-Initiated Approach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3746160" y="2322000"/>
            <a:ext cx="54054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ing before every access (Unix-like semantics but too slow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ing periodically (better performance but fuzzy file-sharing semantic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ing on file open (simple, suitable for session-semantic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 High network traff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8" name=""/>
          <p:cNvSpPr/>
          <p:nvPr/>
        </p:nvSpPr>
        <p:spPr>
          <a:xfrm>
            <a:off x="2019240" y="227016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407960" y="3090960"/>
            <a:ext cx="754200" cy="87948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596960" y="3747960"/>
            <a:ext cx="412920" cy="37800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82560" y="224316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066680" y="2732040"/>
            <a:ext cx="412920" cy="3780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64560" y="1973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980360" y="2000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457360" y="2886120"/>
            <a:ext cx="41292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016000" y="453852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405080" y="5359320"/>
            <a:ext cx="753840" cy="87948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593720" y="6016680"/>
            <a:ext cx="412920" cy="37764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79320" y="4511520"/>
            <a:ext cx="80676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063800" y="5000760"/>
            <a:ext cx="41256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2490840" y="5245200"/>
            <a:ext cx="41256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015920" y="521352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61320" y="424188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977480" y="426888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"/>
          <p:cNvGrpSpPr/>
          <p:nvPr/>
        </p:nvGrpSpPr>
        <p:grpSpPr>
          <a:xfrm>
            <a:off x="1019160" y="2944800"/>
            <a:ext cx="1794960" cy="1313640"/>
            <a:chOff x="1019160" y="2944800"/>
            <a:chExt cx="1794960" cy="1313640"/>
          </a:xfrm>
        </p:grpSpPr>
        <p:sp>
          <p:nvSpPr>
            <p:cNvPr id="896" name=""/>
            <p:cNvSpPr/>
            <p:nvPr/>
          </p:nvSpPr>
          <p:spPr>
            <a:xfrm>
              <a:off x="1019160" y="294480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458720" y="392112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8" name=""/>
            <p:cNvGrpSpPr/>
            <p:nvPr/>
          </p:nvGrpSpPr>
          <p:grpSpPr>
            <a:xfrm>
              <a:off x="2552400" y="2967120"/>
              <a:ext cx="261720" cy="314280"/>
              <a:chOff x="2552400" y="2967120"/>
              <a:chExt cx="261720" cy="314280"/>
            </a:xfrm>
          </p:grpSpPr>
          <p:sp>
            <p:nvSpPr>
              <p:cNvPr id="899" name=""/>
              <p:cNvSpPr/>
              <p:nvPr/>
            </p:nvSpPr>
            <p:spPr>
              <a:xfrm>
                <a:off x="2580840" y="2976480"/>
                <a:ext cx="233280" cy="304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flipH="1">
                <a:off x="2552400" y="2967120"/>
                <a:ext cx="232920" cy="304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01" name=""/>
          <p:cNvSpPr/>
          <p:nvPr/>
        </p:nvSpPr>
        <p:spPr>
          <a:xfrm>
            <a:off x="1273320" y="3173400"/>
            <a:ext cx="1307880" cy="917640"/>
          </a:xfrm>
          <a:custGeom>
            <a:avLst/>
            <a:gdLst/>
            <a:ahLst/>
            <a:rect l="l" t="t" r="r" b="b"/>
            <a:pathLst>
              <a:path w="824" h="578">
                <a:moveTo>
                  <a:pt x="0" y="0"/>
                </a:moveTo>
                <a:cubicBezTo>
                  <a:pt x="61" y="276"/>
                  <a:pt x="123" y="552"/>
                  <a:pt x="260" y="565"/>
                </a:cubicBezTo>
                <a:cubicBezTo>
                  <a:pt x="397" y="578"/>
                  <a:pt x="610" y="328"/>
                  <a:pt x="824" y="79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290320" y="3427560"/>
            <a:ext cx="143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eck bef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very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73520" y="3311640"/>
            <a:ext cx="152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rite throu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-35280" y="3662280"/>
            <a:ext cx="168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Delayed writ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828360" y="53658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676080" y="5500800"/>
            <a:ext cx="1141560" cy="1026360"/>
            <a:chOff x="676080" y="5500800"/>
            <a:chExt cx="1141560" cy="1026360"/>
          </a:xfrm>
        </p:grpSpPr>
        <p:sp>
          <p:nvSpPr>
            <p:cNvPr id="907" name=""/>
            <p:cNvSpPr/>
            <p:nvPr/>
          </p:nvSpPr>
          <p:spPr>
            <a:xfrm>
              <a:off x="1455480" y="618984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76080" y="550080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9" name=""/>
          <p:cNvSpPr/>
          <p:nvPr/>
        </p:nvSpPr>
        <p:spPr>
          <a:xfrm>
            <a:off x="79560" y="5803920"/>
            <a:ext cx="155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rite-on-cl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253600" y="5792760"/>
            <a:ext cx="161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eck-on-o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236600" y="5468760"/>
            <a:ext cx="1398600" cy="893880"/>
          </a:xfrm>
          <a:custGeom>
            <a:avLst/>
            <a:gdLst/>
            <a:ahLst/>
            <a:rect l="l" t="t" r="r" b="b"/>
            <a:pathLst>
              <a:path w="881" h="563">
                <a:moveTo>
                  <a:pt x="0" y="0"/>
                </a:moveTo>
                <a:cubicBezTo>
                  <a:pt x="28" y="260"/>
                  <a:pt x="57" y="521"/>
                  <a:pt x="204" y="542"/>
                </a:cubicBezTo>
                <a:cubicBezTo>
                  <a:pt x="351" y="563"/>
                  <a:pt x="616" y="343"/>
                  <a:pt x="881" y="124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2423880" y="5024520"/>
            <a:ext cx="5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295000" y="5989680"/>
            <a:ext cx="178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Check-on-clos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1B3B-044F-4C8C-A549-27672AE439F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Caching Scheme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ache Validation Schemes – Server-Initiated Approach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19120" y="4247640"/>
            <a:ext cx="800568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eping track of clients having a co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nying a new request, queuing it, and disabling cac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ing all clients of any update on the original fi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5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olating client-server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5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eful serv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5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on-open still needed for th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ile open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6" name=""/>
          <p:cNvSpPr/>
          <p:nvPr/>
        </p:nvSpPr>
        <p:spPr>
          <a:xfrm>
            <a:off x="3235320" y="2063880"/>
            <a:ext cx="806400" cy="5299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160800" y="3208320"/>
            <a:ext cx="753840" cy="78732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3349800" y="3865680"/>
            <a:ext cx="412560" cy="33804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149560" y="2036880"/>
            <a:ext cx="806400" cy="530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533680" y="2525760"/>
            <a:ext cx="412560" cy="3380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621240" y="2554200"/>
            <a:ext cx="412560" cy="3384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485800" y="273852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131200" y="176688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96440" y="179388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211200" y="403848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298600" y="28908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145960" y="30258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319640" y="2071800"/>
            <a:ext cx="806400" cy="530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705200" y="2581200"/>
            <a:ext cx="412920" cy="3380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280760" y="180180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814480" y="2959200"/>
            <a:ext cx="503280" cy="86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V="1">
            <a:off x="3728880" y="2885760"/>
            <a:ext cx="90720" cy="81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V="1">
            <a:off x="3800520" y="2993760"/>
            <a:ext cx="1041480" cy="78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868920" y="321156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ify (invalidat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5" name=""/>
          <p:cNvGrpSpPr/>
          <p:nvPr/>
        </p:nvGrpSpPr>
        <p:grpSpPr>
          <a:xfrm>
            <a:off x="3700440" y="2610000"/>
            <a:ext cx="262080" cy="280440"/>
            <a:chOff x="3700440" y="2610000"/>
            <a:chExt cx="262080" cy="280440"/>
          </a:xfrm>
        </p:grpSpPr>
        <p:sp>
          <p:nvSpPr>
            <p:cNvPr id="936" name=""/>
            <p:cNvSpPr/>
            <p:nvPr/>
          </p:nvSpPr>
          <p:spPr>
            <a:xfrm>
              <a:off x="3728880" y="2618280"/>
              <a:ext cx="233640" cy="272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>
              <a:off x="3700440" y="2610000"/>
              <a:ext cx="233280" cy="272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"/>
          <p:cNvGrpSpPr/>
          <p:nvPr/>
        </p:nvGrpSpPr>
        <p:grpSpPr>
          <a:xfrm>
            <a:off x="4802040" y="2652840"/>
            <a:ext cx="262080" cy="280440"/>
            <a:chOff x="4802040" y="2652840"/>
            <a:chExt cx="262080" cy="280440"/>
          </a:xfrm>
        </p:grpSpPr>
        <p:sp>
          <p:nvSpPr>
            <p:cNvPr id="939" name=""/>
            <p:cNvSpPr/>
            <p:nvPr/>
          </p:nvSpPr>
          <p:spPr>
            <a:xfrm>
              <a:off x="4830480" y="2661120"/>
              <a:ext cx="233640" cy="272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H="1">
              <a:off x="4802040" y="2652840"/>
              <a:ext cx="233280" cy="272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1" name=""/>
          <p:cNvSpPr/>
          <p:nvPr/>
        </p:nvSpPr>
        <p:spPr>
          <a:xfrm>
            <a:off x="5403960" y="2062080"/>
            <a:ext cx="806400" cy="530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65080" y="179244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890880" y="2689200"/>
            <a:ext cx="2232000" cy="1157400"/>
          </a:xfrm>
          <a:custGeom>
            <a:avLst/>
            <a:gdLst/>
            <a:ahLst/>
            <a:rect l="l" t="t" r="r" b="b"/>
            <a:pathLst>
              <a:path w="1406" h="813">
                <a:moveTo>
                  <a:pt x="0" y="813"/>
                </a:moveTo>
                <a:cubicBezTo>
                  <a:pt x="472" y="796"/>
                  <a:pt x="944" y="779"/>
                  <a:pt x="1175" y="644"/>
                </a:cubicBezTo>
                <a:cubicBezTo>
                  <a:pt x="1406" y="509"/>
                  <a:pt x="1353" y="107"/>
                  <a:pt x="1389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5526360" y="2871720"/>
            <a:ext cx="21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ny for a new o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638360" y="3220920"/>
            <a:ext cx="157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rite throu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layed writ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9EF0-2A22-42E0-AC73-000513765CB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se Study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n’s Network File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0240" indent="-3002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FS: standard for distributed UNIX file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ed to run on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0240" indent="-3002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are both servers &amp;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0240" indent="-3002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s have no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0240" indent="-3002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mount protocol to make global name lo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etc/export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lists local names server willing to ex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etc/fsta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lists global names that local nodes im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2600" indent="-1994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rresponding global name must be in /etc/exports on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9019-805C-464A-987E-3C82CFE543BD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185840" y="2041560"/>
            <a:ext cx="77709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FS defines set of RPC operations for remote file acces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ory search, reading directory ent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ipulating links &amp; directo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ing file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ing/writing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52600" indent="-5526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rely on node homogene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terogeneous nodes support NFS mount &amp; remote access protocols using R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52600" indent="-5526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may need to know different names depending upon which node they log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E9BD-D183-48C2-92EC-35E3A97E7919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51" name="" descr=""/>
          <p:cNvPicPr/>
          <p:nvPr/>
        </p:nvPicPr>
        <p:blipFill>
          <a:blip r:embed="rId1"/>
          <a:stretch/>
        </p:blipFill>
        <p:spPr>
          <a:xfrm>
            <a:off x="846000" y="2122560"/>
            <a:ext cx="8150400" cy="348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15C3-69BA-425C-816A-2D7F6B015350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"/>
          <p:cNvSpPr/>
          <p:nvPr/>
        </p:nvSpPr>
        <p:spPr>
          <a:xfrm>
            <a:off x="1779480" y="3348000"/>
            <a:ext cx="898560" cy="1274760"/>
          </a:xfrm>
          <a:custGeom>
            <a:avLst/>
            <a:gdLst/>
            <a:ahLst/>
            <a:rect l="l" t="t" r="r" b="b"/>
            <a:pathLst>
              <a:path w="566" h="803">
                <a:moveTo>
                  <a:pt x="447" y="91"/>
                </a:moveTo>
                <a:cubicBezTo>
                  <a:pt x="408" y="0"/>
                  <a:pt x="331" y="66"/>
                  <a:pt x="263" y="163"/>
                </a:cubicBezTo>
                <a:cubicBezTo>
                  <a:pt x="195" y="260"/>
                  <a:pt x="0" y="584"/>
                  <a:pt x="39" y="675"/>
                </a:cubicBezTo>
                <a:cubicBezTo>
                  <a:pt x="78" y="766"/>
                  <a:pt x="424" y="803"/>
                  <a:pt x="495" y="707"/>
                </a:cubicBezTo>
                <a:cubicBezTo>
                  <a:pt x="566" y="611"/>
                  <a:pt x="486" y="182"/>
                  <a:pt x="447" y="91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4" name=""/>
          <p:cNvSpPr/>
          <p:nvPr/>
        </p:nvSpPr>
        <p:spPr>
          <a:xfrm>
            <a:off x="711360" y="6146640"/>
            <a:ext cx="770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901800" y="2425680"/>
            <a:ext cx="181584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638360" y="2552760"/>
            <a:ext cx="19044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1917720" y="2971800"/>
            <a:ext cx="19044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320840" y="2997360"/>
            <a:ext cx="190440" cy="215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273400" y="360684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054080" y="3556080"/>
            <a:ext cx="241200" cy="2538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460520" y="3568680"/>
            <a:ext cx="24120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854360" y="3581280"/>
            <a:ext cx="24120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311560" y="4140360"/>
            <a:ext cx="24120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943280" y="411480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flipH="1">
            <a:off x="1486080" y="2755800"/>
            <a:ext cx="13968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828800" y="2768760"/>
            <a:ext cx="889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H="1">
            <a:off x="1193400" y="3213000"/>
            <a:ext cx="152280" cy="3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031840" y="3187800"/>
            <a:ext cx="25416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flipH="1">
            <a:off x="1638360" y="3187800"/>
            <a:ext cx="342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994040" y="318780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349360" y="3822840"/>
            <a:ext cx="7632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2107800" y="3835440"/>
            <a:ext cx="22860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193760" y="4622760"/>
            <a:ext cx="1066680" cy="203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990720" y="5003640"/>
            <a:ext cx="583920" cy="2541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cal 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778040" y="4991040"/>
            <a:ext cx="698400" cy="254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FS 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155600" y="5448240"/>
            <a:ext cx="368280" cy="39384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752480" y="5499000"/>
            <a:ext cx="736560" cy="254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PC st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H="1">
            <a:off x="1257120" y="4813200"/>
            <a:ext cx="368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295280" y="52578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841400" y="4826160"/>
            <a:ext cx="2667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108160" y="5232240"/>
            <a:ext cx="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380360" y="3360600"/>
            <a:ext cx="898560" cy="1274760"/>
          </a:xfrm>
          <a:custGeom>
            <a:avLst/>
            <a:gdLst/>
            <a:ahLst/>
            <a:rect l="l" t="t" r="r" b="b"/>
            <a:pathLst>
              <a:path w="566" h="803">
                <a:moveTo>
                  <a:pt x="447" y="91"/>
                </a:moveTo>
                <a:cubicBezTo>
                  <a:pt x="408" y="0"/>
                  <a:pt x="331" y="66"/>
                  <a:pt x="263" y="163"/>
                </a:cubicBezTo>
                <a:cubicBezTo>
                  <a:pt x="195" y="260"/>
                  <a:pt x="0" y="584"/>
                  <a:pt x="39" y="675"/>
                </a:cubicBezTo>
                <a:cubicBezTo>
                  <a:pt x="78" y="766"/>
                  <a:pt x="424" y="803"/>
                  <a:pt x="495" y="707"/>
                </a:cubicBezTo>
                <a:cubicBezTo>
                  <a:pt x="566" y="611"/>
                  <a:pt x="486" y="182"/>
                  <a:pt x="447" y="91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502320" y="2438280"/>
            <a:ext cx="181620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7238880" y="2565360"/>
            <a:ext cx="19080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518240" y="2984400"/>
            <a:ext cx="19080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921360" y="3009960"/>
            <a:ext cx="19080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7873920" y="361944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654960" y="3568680"/>
            <a:ext cx="24120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7061040" y="3581280"/>
            <a:ext cx="24156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7454880" y="3594240"/>
            <a:ext cx="241200" cy="2538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912080" y="4152960"/>
            <a:ext cx="24120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7543800" y="412740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H="1">
            <a:off x="7086600" y="2768760"/>
            <a:ext cx="139680" cy="20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429680" y="2781360"/>
            <a:ext cx="885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H="1">
            <a:off x="6794280" y="3225960"/>
            <a:ext cx="15228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7632720" y="3200400"/>
            <a:ext cx="25416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H="1">
            <a:off x="7238520" y="3200400"/>
            <a:ext cx="343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7594560" y="320040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7950240" y="3835440"/>
            <a:ext cx="7632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H="1">
            <a:off x="7708680" y="3848040"/>
            <a:ext cx="22860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794640" y="4635360"/>
            <a:ext cx="1066680" cy="203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591240" y="5016600"/>
            <a:ext cx="584280" cy="253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cal 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378560" y="5003640"/>
            <a:ext cx="698760" cy="254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FS 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756480" y="5460840"/>
            <a:ext cx="368280" cy="39384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7353360" y="5511960"/>
            <a:ext cx="736560" cy="2538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PC st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 flipH="1">
            <a:off x="6857640" y="4826160"/>
            <a:ext cx="3682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896160" y="52704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7442280" y="4838760"/>
            <a:ext cx="2667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7709040" y="5245200"/>
            <a:ext cx="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4611600" y="3335400"/>
            <a:ext cx="898560" cy="1274760"/>
          </a:xfrm>
          <a:custGeom>
            <a:avLst/>
            <a:gdLst/>
            <a:ahLst/>
            <a:rect l="l" t="t" r="r" b="b"/>
            <a:pathLst>
              <a:path w="566" h="803">
                <a:moveTo>
                  <a:pt x="447" y="91"/>
                </a:moveTo>
                <a:cubicBezTo>
                  <a:pt x="408" y="0"/>
                  <a:pt x="331" y="66"/>
                  <a:pt x="263" y="163"/>
                </a:cubicBezTo>
                <a:cubicBezTo>
                  <a:pt x="195" y="260"/>
                  <a:pt x="0" y="584"/>
                  <a:pt x="39" y="675"/>
                </a:cubicBezTo>
                <a:cubicBezTo>
                  <a:pt x="78" y="766"/>
                  <a:pt x="424" y="803"/>
                  <a:pt x="495" y="707"/>
                </a:cubicBezTo>
                <a:cubicBezTo>
                  <a:pt x="566" y="611"/>
                  <a:pt x="486" y="182"/>
                  <a:pt x="447" y="91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733920" y="2413080"/>
            <a:ext cx="1815840" cy="350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470480" y="2540160"/>
            <a:ext cx="190440" cy="215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749840" y="2959200"/>
            <a:ext cx="190440" cy="215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4152960" y="2984400"/>
            <a:ext cx="19044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5105520" y="3594240"/>
            <a:ext cx="190440" cy="215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3886200" y="3543480"/>
            <a:ext cx="241200" cy="2538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4292640" y="3556080"/>
            <a:ext cx="241200" cy="2538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686480" y="3568680"/>
            <a:ext cx="24120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143680" y="412740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775040" y="4102200"/>
            <a:ext cx="24156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H="1">
            <a:off x="4317480" y="2743200"/>
            <a:ext cx="140040" cy="20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4660920" y="2755800"/>
            <a:ext cx="88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H="1">
            <a:off x="4025520" y="3200400"/>
            <a:ext cx="15228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863960" y="3174840"/>
            <a:ext cx="25416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H="1">
            <a:off x="4470480" y="3174840"/>
            <a:ext cx="3427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826160" y="317484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181480" y="3809880"/>
            <a:ext cx="7632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H="1">
            <a:off x="4939920" y="3822840"/>
            <a:ext cx="22860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025880" y="4610160"/>
            <a:ext cx="1066680" cy="2030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822840" y="4991040"/>
            <a:ext cx="583920" cy="254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cal 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4610160" y="4978440"/>
            <a:ext cx="698400" cy="2538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FS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987720" y="5435640"/>
            <a:ext cx="368280" cy="39384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4584600" y="5486400"/>
            <a:ext cx="736560" cy="254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PC st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flipH="1">
            <a:off x="4089240" y="4800600"/>
            <a:ext cx="368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127400" y="52452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4673520" y="4813200"/>
            <a:ext cx="266760" cy="152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940280" y="5219640"/>
            <a:ext cx="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2082960" y="5740560"/>
            <a:ext cx="2806560" cy="291960"/>
          </a:xfrm>
          <a:custGeom>
            <a:avLst/>
            <a:gdLst/>
            <a:ahLst/>
            <a:rect l="l" t="t" r="r" b="b"/>
            <a:pathLst>
              <a:path w="1768" h="184">
                <a:moveTo>
                  <a:pt x="0" y="0"/>
                </a:moveTo>
                <a:lnTo>
                  <a:pt x="0" y="184"/>
                </a:lnTo>
                <a:lnTo>
                  <a:pt x="1768" y="184"/>
                </a:lnTo>
                <a:lnTo>
                  <a:pt x="1768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778040" y="59310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648320" y="5931000"/>
            <a:ext cx="0" cy="241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7442280" y="59310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016600" y="5740560"/>
            <a:ext cx="2705040" cy="317520"/>
          </a:xfrm>
          <a:custGeom>
            <a:avLst/>
            <a:gdLst/>
            <a:ahLst/>
            <a:rect l="l" t="t" r="r" b="b"/>
            <a:pathLst>
              <a:path w="1704" h="200">
                <a:moveTo>
                  <a:pt x="1704" y="16"/>
                </a:moveTo>
                <a:lnTo>
                  <a:pt x="1704" y="200"/>
                </a:lnTo>
                <a:lnTo>
                  <a:pt x="0" y="20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473800" y="4102200"/>
            <a:ext cx="1942920" cy="0"/>
          </a:xfrm>
          <a:prstGeom prst="line">
            <a:avLst/>
          </a:prstGeom>
          <a:ln w="28440">
            <a:solidFill>
              <a:srgbClr val="9999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H="1">
            <a:off x="2755800" y="4076640"/>
            <a:ext cx="1943280" cy="0"/>
          </a:xfrm>
          <a:prstGeom prst="line">
            <a:avLst/>
          </a:prstGeom>
          <a:ln w="28440">
            <a:solidFill>
              <a:srgbClr val="9999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4030920" y="20876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1375920" y="2100240"/>
            <a:ext cx="90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859800" y="208764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994480" y="3789360"/>
            <a:ext cx="80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750640" y="3801960"/>
            <a:ext cx="80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206360" y="3949560"/>
            <a:ext cx="533520" cy="4572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1574640" y="4406760"/>
            <a:ext cx="1400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591240" y="4089240"/>
            <a:ext cx="533520" cy="4572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7124760" y="4444920"/>
            <a:ext cx="1396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1206-486B-49DC-9740-721EAF53384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Sun NFS</a:t>
            </a:r>
            <a:br>
              <a:rPr sz="4400"/>
            </a:br>
            <a:r>
              <a:rPr b="0" lang="ja-JP" sz="2400" spc="-1" strike="noStrike">
                <a:solidFill>
                  <a:srgbClr val="333399"/>
                </a:solidFill>
                <a:latin typeface="Tahoma"/>
              </a:rPr>
              <a:t>Install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5" name=""/>
          <p:cNvSpPr/>
          <p:nvPr/>
        </p:nvSpPr>
        <p:spPr>
          <a:xfrm>
            <a:off x="598320" y="1700280"/>
            <a:ext cx="8572680" cy="38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eck if NFS is running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info –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 NSF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etc/rc.d/init.d/nfs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it /etc/exports file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dir/to/export client1(permissions), client2(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port dirs in /etc/exp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portfs –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eck exported directorie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owmount –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port a server’s directory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unt –o options server_name:/dir /my_d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g: continue working on importing upon a failure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r: a process will be interupted if its I/O request to the server dir is pend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ft: allowing a client to time out the connection after a number of re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w/ro: normal r/w or read on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derlying Connec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664240" y="5257800"/>
            <a:ext cx="146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7057080" y="5072040"/>
            <a:ext cx="133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rtmap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H="1">
            <a:off x="5702040" y="5346720"/>
            <a:ext cx="138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448600" y="5289480"/>
            <a:ext cx="186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FS mount service 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664240" y="5676840"/>
            <a:ext cx="146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7126560" y="5567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unt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H="1">
            <a:off x="5664240" y="5765760"/>
            <a:ext cx="1409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5955840" y="56959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er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626080" y="6032520"/>
            <a:ext cx="146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7069680" y="5923080"/>
            <a:ext cx="133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rtmap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H="1">
            <a:off x="5651280" y="6121440"/>
            <a:ext cx="140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174720" y="607680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0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842360" y="511020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5613480" y="6400800"/>
            <a:ext cx="146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H="1">
            <a:off x="5638680" y="6489720"/>
            <a:ext cx="1409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7174440" y="627840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f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185880" y="6318360"/>
            <a:ext cx="41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9197-9F9A-4C81-8B7E-DBCD7C3CC60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Sun NFS</a:t>
            </a:r>
            <a:br>
              <a:rPr sz="4400"/>
            </a:br>
            <a:r>
              <a:rPr b="0" lang="ja-JP" sz="2400" spc="-1" strike="noStrike">
                <a:solidFill>
                  <a:srgbClr val="333399"/>
                </a:solidFill>
                <a:latin typeface="Tahoma"/>
              </a:rPr>
              <a:t>Overview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826920" y="2017440"/>
            <a:ext cx="7772400" cy="39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: a compound proced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okup, Open, and R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stat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less: simple implementation in ver 3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full: allowing clients to cache files in ver 4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 call back from a server to invalidate a client’s cach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ssion semant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 Locking in ver 4: lock, lockt, locku, and rene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. Emacs: Tests with lockt when modifying buffer, locks a file with lockt, and unlock with locku after writing buffer contents to the fi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are reservation: specify how to share a file (with ro, wo, or r/w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4ED7-6F43-4B01-B53E-4CEB7A8BDCE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tributed File Systems: Iss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ing &amp; transpar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ote fil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with state or witho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275E-5634-4A6A-B9F9-CE8733175306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SUN NFS</a:t>
            </a:r>
            <a:br>
              <a:rPr sz="4400"/>
            </a:br>
            <a:r>
              <a:rPr b="0" lang="ja-JP" sz="2400" spc="-1" strike="noStrike">
                <a:solidFill>
                  <a:srgbClr val="333399"/>
                </a:solidFill>
                <a:latin typeface="Tahoma"/>
              </a:rPr>
              <a:t>Overviews (Cont’d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8269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ch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 client’s memo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ssion semant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validation of client’s cache upon re-opening the same fi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 delegation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server delegates a open decision to a writing client which can handle an open request from other clients on the same machin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server calls back the client when receiving an open request from another machin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 failure: use a duplicate-request cach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 locking failure: provide a grace period during which a client reclaim locks previously granted and the server builds up its previous stat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517E-B088-46AA-89E9-55F1CF37EF4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Sun NFS</a:t>
            </a:r>
            <a:br>
              <a:rPr sz="4400"/>
            </a:br>
            <a:r>
              <a:rPr b="0" lang="ja-JP" sz="2400" spc="-1" strike="noStrike">
                <a:solidFill>
                  <a:srgbClr val="333399"/>
                </a:solidFill>
                <a:latin typeface="Tahoma"/>
              </a:rPr>
              <a:t>Duplicate Request Cache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8" name=""/>
          <p:cNvSpPr/>
          <p:nvPr/>
        </p:nvSpPr>
        <p:spPr>
          <a:xfrm>
            <a:off x="321120" y="217656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1563120" y="21510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622440" y="2476440"/>
            <a:ext cx="0" cy="322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1981080" y="2451240"/>
            <a:ext cx="0" cy="32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622440" y="2806560"/>
            <a:ext cx="135864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94080" y="272412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22440" y="3213000"/>
            <a:ext cx="135864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H="1">
            <a:off x="622440" y="4444920"/>
            <a:ext cx="135864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1026000" y="4400640"/>
            <a:ext cx="5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197080" y="4419720"/>
            <a:ext cx="317520" cy="31752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1994040" y="3111480"/>
            <a:ext cx="203040" cy="1359000"/>
          </a:xfrm>
          <a:custGeom>
            <a:avLst/>
            <a:gdLst/>
            <a:ahLst/>
            <a:rect l="l" t="t" r="r" b="b"/>
            <a:pathLst>
              <a:path w="128" h="856">
                <a:moveTo>
                  <a:pt x="0" y="0"/>
                </a:moveTo>
                <a:cubicBezTo>
                  <a:pt x="64" y="80"/>
                  <a:pt x="128" y="161"/>
                  <a:pt x="128" y="304"/>
                </a:cubicBezTo>
                <a:cubicBezTo>
                  <a:pt x="128" y="447"/>
                  <a:pt x="64" y="651"/>
                  <a:pt x="0" y="85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2082960" y="4152960"/>
            <a:ext cx="266400" cy="279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19280" y="318132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1890720" y="3422520"/>
            <a:ext cx="139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oo soon, ign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127600" y="3790800"/>
            <a:ext cx="102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le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242160" y="217656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483800" y="21510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543480" y="2476440"/>
            <a:ext cx="0" cy="322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902120" y="2451240"/>
            <a:ext cx="0" cy="32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3543480" y="2806560"/>
            <a:ext cx="135864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3614760" y="272412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3568680" y="4317840"/>
            <a:ext cx="135900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flipH="1">
            <a:off x="3543480" y="4444920"/>
            <a:ext cx="135864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3947040" y="4400640"/>
            <a:ext cx="5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118120" y="4419720"/>
            <a:ext cx="317520" cy="31752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915080" y="3111480"/>
            <a:ext cx="203040" cy="1359000"/>
          </a:xfrm>
          <a:custGeom>
            <a:avLst/>
            <a:gdLst/>
            <a:ahLst/>
            <a:rect l="l" t="t" r="r" b="b"/>
            <a:pathLst>
              <a:path w="128" h="856">
                <a:moveTo>
                  <a:pt x="0" y="0"/>
                </a:moveTo>
                <a:cubicBezTo>
                  <a:pt x="64" y="80"/>
                  <a:pt x="128" y="161"/>
                  <a:pt x="128" y="304"/>
                </a:cubicBezTo>
                <a:cubicBezTo>
                  <a:pt x="128" y="447"/>
                  <a:pt x="64" y="651"/>
                  <a:pt x="0" y="85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5003640" y="415296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652920" y="412128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4296600" y="4819680"/>
            <a:ext cx="153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ust replied, ign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5048280" y="3790800"/>
            <a:ext cx="102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le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099840" y="218916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7341480" y="21636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6400800" y="2489040"/>
            <a:ext cx="0" cy="322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7759800" y="2463840"/>
            <a:ext cx="0" cy="32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6400800" y="2819520"/>
            <a:ext cx="1359000" cy="29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472440" y="273672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6426360" y="4952880"/>
            <a:ext cx="135864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H="1">
            <a:off x="6997320" y="4457880"/>
            <a:ext cx="762120" cy="16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7058520" y="4336920"/>
            <a:ext cx="5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7975440" y="4432320"/>
            <a:ext cx="317520" cy="31752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7772400" y="3124080"/>
            <a:ext cx="203040" cy="1359000"/>
          </a:xfrm>
          <a:custGeom>
            <a:avLst/>
            <a:gdLst/>
            <a:ahLst/>
            <a:rect l="l" t="t" r="r" b="b"/>
            <a:pathLst>
              <a:path w="128" h="856">
                <a:moveTo>
                  <a:pt x="0" y="0"/>
                </a:moveTo>
                <a:cubicBezTo>
                  <a:pt x="64" y="80"/>
                  <a:pt x="128" y="161"/>
                  <a:pt x="128" y="304"/>
                </a:cubicBezTo>
                <a:cubicBezTo>
                  <a:pt x="128" y="447"/>
                  <a:pt x="64" y="651"/>
                  <a:pt x="0" y="85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7861320" y="416556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612120" y="489600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7669440" y="3435480"/>
            <a:ext cx="139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oo soon, ign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7905960" y="3803760"/>
            <a:ext cx="102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le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flipH="1">
            <a:off x="6388200" y="5435640"/>
            <a:ext cx="135864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855480" y="5327640"/>
            <a:ext cx="5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858000" y="4546440"/>
            <a:ext cx="279360" cy="19080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7759800" y="4635360"/>
            <a:ext cx="419040" cy="800280"/>
          </a:xfrm>
          <a:custGeom>
            <a:avLst/>
            <a:gdLst/>
            <a:ahLst/>
            <a:rect l="l" t="t" r="r" b="b"/>
            <a:pathLst>
              <a:path w="264" h="504">
                <a:moveTo>
                  <a:pt x="264" y="0"/>
                </a:moveTo>
                <a:cubicBezTo>
                  <a:pt x="258" y="90"/>
                  <a:pt x="252" y="180"/>
                  <a:pt x="208" y="264"/>
                </a:cubicBezTo>
                <a:cubicBezTo>
                  <a:pt x="164" y="348"/>
                  <a:pt x="82" y="426"/>
                  <a:pt x="0" y="50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2525760" y="5973840"/>
            <a:ext cx="528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n, when does the server delete this cached resul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F45D-59C7-4A76-B587-C7C296B1D99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8" name="" descr=""/>
          <p:cNvPicPr/>
          <p:nvPr/>
        </p:nvPicPr>
        <p:blipFill>
          <a:blip r:embed="rId1"/>
          <a:stretch/>
        </p:blipFill>
        <p:spPr>
          <a:xfrm>
            <a:off x="1359000" y="1855800"/>
            <a:ext cx="6778440" cy="4846680"/>
          </a:xfrm>
          <a:prstGeom prst="rect">
            <a:avLst/>
          </a:prstGeom>
          <a:ln w="0">
            <a:noFill/>
          </a:ln>
        </p:spPr>
      </p:pic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FS Example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ndrew File System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7EFF-805C-45B8-B16B-34685513EED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/>
          <p:nvPr/>
        </p:nvSpPr>
        <p:spPr>
          <a:xfrm>
            <a:off x="1309680" y="2909880"/>
            <a:ext cx="1444680" cy="1428840"/>
          </a:xfrm>
          <a:custGeom>
            <a:avLst/>
            <a:gdLst/>
            <a:ahLst/>
            <a:rect l="l" t="t" r="r" b="b"/>
            <a:pathLst>
              <a:path w="910" h="900">
                <a:moveTo>
                  <a:pt x="631" y="63"/>
                </a:moveTo>
                <a:cubicBezTo>
                  <a:pt x="530" y="36"/>
                  <a:pt x="268" y="0"/>
                  <a:pt x="167" y="63"/>
                </a:cubicBezTo>
                <a:cubicBezTo>
                  <a:pt x="66" y="126"/>
                  <a:pt x="0" y="327"/>
                  <a:pt x="23" y="439"/>
                </a:cubicBezTo>
                <a:cubicBezTo>
                  <a:pt x="46" y="551"/>
                  <a:pt x="168" y="672"/>
                  <a:pt x="303" y="735"/>
                </a:cubicBezTo>
                <a:cubicBezTo>
                  <a:pt x="438" y="798"/>
                  <a:pt x="752" y="900"/>
                  <a:pt x="831" y="815"/>
                </a:cubicBezTo>
                <a:cubicBezTo>
                  <a:pt x="910" y="730"/>
                  <a:pt x="804" y="344"/>
                  <a:pt x="775" y="223"/>
                </a:cubicBezTo>
                <a:cubicBezTo>
                  <a:pt x="746" y="102"/>
                  <a:pt x="732" y="90"/>
                  <a:pt x="631" y="63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F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File Name Space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2" name=""/>
          <p:cNvSpPr/>
          <p:nvPr/>
        </p:nvSpPr>
        <p:spPr>
          <a:xfrm>
            <a:off x="711360" y="6451560"/>
            <a:ext cx="770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901800" y="2184480"/>
            <a:ext cx="1815840" cy="40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1638360" y="2273400"/>
            <a:ext cx="190440" cy="215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917720" y="2692440"/>
            <a:ext cx="190440" cy="21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1320840" y="2717640"/>
            <a:ext cx="190440" cy="21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273400" y="3327480"/>
            <a:ext cx="1904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054080" y="3276720"/>
            <a:ext cx="241200" cy="253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1460520" y="3289320"/>
            <a:ext cx="241200" cy="254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854360" y="3301920"/>
            <a:ext cx="241200" cy="254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311560" y="3860640"/>
            <a:ext cx="241200" cy="254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943280" y="3835440"/>
            <a:ext cx="241200" cy="253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H="1">
            <a:off x="1486080" y="2476440"/>
            <a:ext cx="13968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1828800" y="2489040"/>
            <a:ext cx="88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H="1">
            <a:off x="1193400" y="2933640"/>
            <a:ext cx="15228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2031840" y="2908440"/>
            <a:ext cx="25416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H="1">
            <a:off x="1638360" y="2908440"/>
            <a:ext cx="342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994040" y="290844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2349360" y="3543480"/>
            <a:ext cx="76320" cy="31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H="1">
            <a:off x="2107800" y="3556080"/>
            <a:ext cx="22860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092240" y="5791320"/>
            <a:ext cx="368280" cy="39348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1231920" y="5600880"/>
            <a:ext cx="0" cy="17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079640" y="5219640"/>
            <a:ext cx="106668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ix 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Unix F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778040" y="62355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981760" y="6235560"/>
            <a:ext cx="0" cy="241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1374480" y="1871640"/>
            <a:ext cx="72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342240" y="3486240"/>
            <a:ext cx="119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ymbolic li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1866960" y="4470480"/>
            <a:ext cx="812880" cy="60948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298600" y="5257800"/>
            <a:ext cx="368280" cy="39384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015920" y="4572000"/>
            <a:ext cx="533520" cy="4572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346040" y="501660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 flipV="1">
            <a:off x="1841400" y="5079960"/>
            <a:ext cx="190440" cy="13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614920" y="2922480"/>
            <a:ext cx="1444680" cy="1428840"/>
          </a:xfrm>
          <a:custGeom>
            <a:avLst/>
            <a:gdLst/>
            <a:ahLst/>
            <a:rect l="l" t="t" r="r" b="b"/>
            <a:pathLst>
              <a:path w="910" h="900">
                <a:moveTo>
                  <a:pt x="631" y="63"/>
                </a:moveTo>
                <a:cubicBezTo>
                  <a:pt x="530" y="36"/>
                  <a:pt x="268" y="0"/>
                  <a:pt x="167" y="63"/>
                </a:cubicBezTo>
                <a:cubicBezTo>
                  <a:pt x="66" y="126"/>
                  <a:pt x="0" y="327"/>
                  <a:pt x="23" y="439"/>
                </a:cubicBezTo>
                <a:cubicBezTo>
                  <a:pt x="46" y="551"/>
                  <a:pt x="168" y="672"/>
                  <a:pt x="303" y="735"/>
                </a:cubicBezTo>
                <a:cubicBezTo>
                  <a:pt x="438" y="798"/>
                  <a:pt x="752" y="900"/>
                  <a:pt x="831" y="815"/>
                </a:cubicBezTo>
                <a:cubicBezTo>
                  <a:pt x="910" y="730"/>
                  <a:pt x="804" y="344"/>
                  <a:pt x="775" y="223"/>
                </a:cubicBezTo>
                <a:cubicBezTo>
                  <a:pt x="746" y="102"/>
                  <a:pt x="732" y="90"/>
                  <a:pt x="631" y="63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5207040" y="2197080"/>
            <a:ext cx="1816200" cy="405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5943600" y="2286000"/>
            <a:ext cx="190440" cy="21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6222960" y="2705040"/>
            <a:ext cx="190440" cy="21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626080" y="2730600"/>
            <a:ext cx="190440" cy="215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6578640" y="33400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5359320" y="3289320"/>
            <a:ext cx="241560" cy="254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5765760" y="330192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159600" y="3314880"/>
            <a:ext cx="24120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6616800" y="3873600"/>
            <a:ext cx="24120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248520" y="384804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5791320" y="2489040"/>
            <a:ext cx="13968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134040" y="2502000"/>
            <a:ext cx="889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 flipH="1">
            <a:off x="5499000" y="2946240"/>
            <a:ext cx="152640" cy="3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6337440" y="2921040"/>
            <a:ext cx="25380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 flipH="1">
            <a:off x="5943240" y="2921040"/>
            <a:ext cx="343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6299280" y="292104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6654960" y="3556080"/>
            <a:ext cx="7596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6413040" y="3568680"/>
            <a:ext cx="22860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502320" y="5803920"/>
            <a:ext cx="368280" cy="39384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6642000" y="561348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5842080" y="5232240"/>
            <a:ext cx="106668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ix 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Unix F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681880" y="18842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5856840" y="4133880"/>
            <a:ext cx="119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ymbolic li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283360" y="4432320"/>
            <a:ext cx="812520" cy="60948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6083280" y="505476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2666880" y="4762440"/>
            <a:ext cx="2616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459160" y="4859280"/>
            <a:ext cx="4170240" cy="1058760"/>
          </a:xfrm>
          <a:custGeom>
            <a:avLst/>
            <a:gdLst/>
            <a:ahLst/>
            <a:rect l="l" t="t" r="r" b="b"/>
            <a:pathLst>
              <a:path w="2627" h="667">
                <a:moveTo>
                  <a:pt x="2627" y="667"/>
                </a:moveTo>
                <a:cubicBezTo>
                  <a:pt x="2547" y="593"/>
                  <a:pt x="2468" y="519"/>
                  <a:pt x="2363" y="419"/>
                </a:cubicBezTo>
                <a:cubicBezTo>
                  <a:pt x="2258" y="319"/>
                  <a:pt x="2311" y="134"/>
                  <a:pt x="1995" y="67"/>
                </a:cubicBezTo>
                <a:cubicBezTo>
                  <a:pt x="1679" y="0"/>
                  <a:pt x="787" y="7"/>
                  <a:pt x="467" y="19"/>
                </a:cubicBezTo>
                <a:cubicBezTo>
                  <a:pt x="147" y="31"/>
                  <a:pt x="150" y="94"/>
                  <a:pt x="75" y="139"/>
                </a:cubicBezTo>
                <a:cubicBezTo>
                  <a:pt x="0" y="184"/>
                  <a:pt x="9" y="237"/>
                  <a:pt x="19" y="291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1397160" y="4952880"/>
            <a:ext cx="977760" cy="443160"/>
          </a:xfrm>
          <a:custGeom>
            <a:avLst/>
            <a:gdLst/>
            <a:ahLst/>
            <a:rect l="l" t="t" r="r" b="b"/>
            <a:pathLst>
              <a:path w="616" h="279">
                <a:moveTo>
                  <a:pt x="616" y="224"/>
                </a:moveTo>
                <a:cubicBezTo>
                  <a:pt x="590" y="128"/>
                  <a:pt x="565" y="32"/>
                  <a:pt x="528" y="40"/>
                </a:cubicBezTo>
                <a:cubicBezTo>
                  <a:pt x="491" y="48"/>
                  <a:pt x="480" y="279"/>
                  <a:pt x="392" y="272"/>
                </a:cubicBezTo>
                <a:cubicBezTo>
                  <a:pt x="304" y="265"/>
                  <a:pt x="152" y="132"/>
                  <a:pt x="0" y="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2438280" y="3543480"/>
            <a:ext cx="4140360" cy="242640"/>
          </a:xfrm>
          <a:custGeom>
            <a:avLst/>
            <a:gdLst/>
            <a:ahLst/>
            <a:rect l="l" t="t" r="r" b="b"/>
            <a:pathLst>
              <a:path w="2608" h="153">
                <a:moveTo>
                  <a:pt x="0" y="0"/>
                </a:moveTo>
                <a:cubicBezTo>
                  <a:pt x="414" y="75"/>
                  <a:pt x="829" y="151"/>
                  <a:pt x="1264" y="152"/>
                </a:cubicBezTo>
                <a:cubicBezTo>
                  <a:pt x="1699" y="153"/>
                  <a:pt x="2153" y="80"/>
                  <a:pt x="2608" y="8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2502000" y="4076640"/>
            <a:ext cx="4114800" cy="344520"/>
          </a:xfrm>
          <a:custGeom>
            <a:avLst/>
            <a:gdLst/>
            <a:ahLst/>
            <a:rect l="l" t="t" r="r" b="b"/>
            <a:pathLst>
              <a:path w="2592" h="217">
                <a:moveTo>
                  <a:pt x="0" y="0"/>
                </a:moveTo>
                <a:cubicBezTo>
                  <a:pt x="372" y="107"/>
                  <a:pt x="744" y="215"/>
                  <a:pt x="1176" y="216"/>
                </a:cubicBezTo>
                <a:cubicBezTo>
                  <a:pt x="1608" y="217"/>
                  <a:pt x="2100" y="112"/>
                  <a:pt x="2592" y="8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2133720" y="3962520"/>
            <a:ext cx="4114800" cy="261720"/>
          </a:xfrm>
          <a:custGeom>
            <a:avLst/>
            <a:gdLst/>
            <a:ahLst/>
            <a:rect l="l" t="t" r="r" b="b"/>
            <a:pathLst>
              <a:path w="2592" h="165">
                <a:moveTo>
                  <a:pt x="0" y="0"/>
                </a:moveTo>
                <a:cubicBezTo>
                  <a:pt x="372" y="61"/>
                  <a:pt x="744" y="123"/>
                  <a:pt x="1096" y="144"/>
                </a:cubicBezTo>
                <a:cubicBezTo>
                  <a:pt x="1448" y="165"/>
                  <a:pt x="1863" y="147"/>
                  <a:pt x="2112" y="128"/>
                </a:cubicBezTo>
                <a:cubicBezTo>
                  <a:pt x="2361" y="109"/>
                  <a:pt x="2476" y="70"/>
                  <a:pt x="2592" y="3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2019240" y="3492360"/>
            <a:ext cx="4203720" cy="506520"/>
          </a:xfrm>
          <a:custGeom>
            <a:avLst/>
            <a:gdLst/>
            <a:ahLst/>
            <a:rect l="l" t="t" r="r" b="b"/>
            <a:pathLst>
              <a:path w="2648" h="319">
                <a:moveTo>
                  <a:pt x="0" y="0"/>
                </a:moveTo>
                <a:cubicBezTo>
                  <a:pt x="419" y="152"/>
                  <a:pt x="839" y="305"/>
                  <a:pt x="1280" y="312"/>
                </a:cubicBezTo>
                <a:cubicBezTo>
                  <a:pt x="1721" y="319"/>
                  <a:pt x="2184" y="179"/>
                  <a:pt x="2648" y="4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612800" y="3505320"/>
            <a:ext cx="4191120" cy="436320"/>
          </a:xfrm>
          <a:custGeom>
            <a:avLst/>
            <a:gdLst/>
            <a:ahLst/>
            <a:rect l="l" t="t" r="r" b="b"/>
            <a:pathLst>
              <a:path w="2640" h="275">
                <a:moveTo>
                  <a:pt x="0" y="16"/>
                </a:moveTo>
                <a:cubicBezTo>
                  <a:pt x="188" y="145"/>
                  <a:pt x="376" y="275"/>
                  <a:pt x="816" y="272"/>
                </a:cubicBezTo>
                <a:cubicBezTo>
                  <a:pt x="1256" y="269"/>
                  <a:pt x="1948" y="134"/>
                  <a:pt x="264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816200" y="2362320"/>
            <a:ext cx="4381560" cy="35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604440" y="2874960"/>
            <a:ext cx="67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285280" y="2849400"/>
            <a:ext cx="85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1350-E0A1-484A-ABD8-9E6D4B7C103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AFS</a:t>
            </a:r>
            <a:br>
              <a:rPr sz="4400"/>
            </a:b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ystem Call Intercep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01" name="" descr=""/>
          <p:cNvPicPr/>
          <p:nvPr/>
        </p:nvPicPr>
        <p:blipFill>
          <a:blip r:embed="rId1"/>
          <a:stretch/>
        </p:blipFill>
        <p:spPr>
          <a:xfrm>
            <a:off x="1041480" y="1847880"/>
            <a:ext cx="7242120" cy="4597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4BBC-1CBC-4863-889B-BA8C92315F1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"/>
          <p:cNvSpPr/>
          <p:nvPr/>
        </p:nvSpPr>
        <p:spPr>
          <a:xfrm>
            <a:off x="1612800" y="1625760"/>
            <a:ext cx="6477120" cy="523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09980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AFS</a:t>
            </a:r>
            <a:br>
              <a:rPr sz="4400"/>
            </a:b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Implementation of file system call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4" name=""/>
          <p:cNvSpPr/>
          <p:nvPr/>
        </p:nvSpPr>
        <p:spPr>
          <a:xfrm>
            <a:off x="2401920" y="6262560"/>
            <a:ext cx="4700520" cy="5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5" name="" descr=""/>
          <p:cNvPicPr/>
          <p:nvPr/>
        </p:nvPicPr>
        <p:blipFill>
          <a:blip r:embed="rId1"/>
          <a:stretch/>
        </p:blipFill>
        <p:spPr>
          <a:xfrm>
            <a:off x="1781280" y="1254240"/>
            <a:ext cx="5790960" cy="560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D5D8-6342-47F9-899B-D710FD6296A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FS Example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XF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7" name=""/>
          <p:cNvSpPr/>
          <p:nvPr/>
        </p:nvSpPr>
        <p:spPr>
          <a:xfrm>
            <a:off x="1038240" y="5145120"/>
            <a:ext cx="754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449360" y="388944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1434960" y="210168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ta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413160" y="389736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o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6970680" y="216684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ta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286240" y="214776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o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6999120" y="391464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o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5332320" y="395280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1271520" y="1917720"/>
            <a:ext cx="1416240" cy="295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3252960" y="1962000"/>
            <a:ext cx="1415880" cy="292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5108400" y="2006640"/>
            <a:ext cx="1416240" cy="288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6819840" y="2016000"/>
            <a:ext cx="1416240" cy="285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989000" y="487692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3935520" y="48848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5826240" y="491328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502400" y="490392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393840" y="5754600"/>
            <a:ext cx="3335040" cy="430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1506600" y="5127480"/>
            <a:ext cx="0" cy="64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-34920" y="4626000"/>
            <a:ext cx="1952640" cy="1398600"/>
            <a:chOff x="-34920" y="4626000"/>
            <a:chExt cx="1952640" cy="1398600"/>
          </a:xfrm>
        </p:grpSpPr>
        <p:sp>
          <p:nvSpPr>
            <p:cNvPr id="1226" name=""/>
            <p:cNvSpPr/>
            <p:nvPr/>
          </p:nvSpPr>
          <p:spPr>
            <a:xfrm>
              <a:off x="1260360" y="4626000"/>
              <a:ext cx="657360" cy="1398600"/>
            </a:xfrm>
            <a:custGeom>
              <a:avLst/>
              <a:gdLst/>
              <a:ahLst/>
              <a:rect l="l" t="t" r="r" b="b"/>
              <a:pathLst>
                <a:path w="414" h="881">
                  <a:moveTo>
                    <a:pt x="30" y="881"/>
                  </a:moveTo>
                  <a:cubicBezTo>
                    <a:pt x="15" y="637"/>
                    <a:pt x="0" y="393"/>
                    <a:pt x="53" y="282"/>
                  </a:cubicBezTo>
                  <a:cubicBezTo>
                    <a:pt x="106" y="171"/>
                    <a:pt x="287" y="261"/>
                    <a:pt x="347" y="214"/>
                  </a:cubicBezTo>
                  <a:cubicBezTo>
                    <a:pt x="407" y="167"/>
                    <a:pt x="403" y="36"/>
                    <a:pt x="414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-34920" y="4843440"/>
              <a:ext cx="180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1: Write reques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8" name=""/>
          <p:cNvGrpSpPr/>
          <p:nvPr/>
        </p:nvGrpSpPr>
        <p:grpSpPr>
          <a:xfrm>
            <a:off x="475200" y="2814480"/>
            <a:ext cx="1424880" cy="1076400"/>
            <a:chOff x="475200" y="2814480"/>
            <a:chExt cx="1424880" cy="1076400"/>
          </a:xfrm>
        </p:grpSpPr>
        <p:sp>
          <p:nvSpPr>
            <p:cNvPr id="1229" name=""/>
            <p:cNvSpPr/>
            <p:nvPr/>
          </p:nvSpPr>
          <p:spPr>
            <a:xfrm flipV="1">
              <a:off x="1900080" y="2814480"/>
              <a:ext cx="0" cy="10764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75200" y="3166920"/>
              <a:ext cx="1416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2: Log th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in a seg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1" name=""/>
          <p:cNvGrpSpPr/>
          <p:nvPr/>
        </p:nvGrpSpPr>
        <p:grpSpPr>
          <a:xfrm>
            <a:off x="2509920" y="2386080"/>
            <a:ext cx="6741360" cy="3592080"/>
            <a:chOff x="2509920" y="2386080"/>
            <a:chExt cx="6741360" cy="3592080"/>
          </a:xfrm>
        </p:grpSpPr>
        <p:sp>
          <p:nvSpPr>
            <p:cNvPr id="1232" name=""/>
            <p:cNvSpPr/>
            <p:nvPr/>
          </p:nvSpPr>
          <p:spPr>
            <a:xfrm>
              <a:off x="2509920" y="2386080"/>
              <a:ext cx="1326960" cy="3052800"/>
            </a:xfrm>
            <a:custGeom>
              <a:avLst/>
              <a:gdLst/>
              <a:ahLst/>
              <a:rect l="l" t="t" r="r" b="b"/>
              <a:pathLst>
                <a:path w="836" h="1923">
                  <a:moveTo>
                    <a:pt x="0" y="33"/>
                  </a:moveTo>
                  <a:cubicBezTo>
                    <a:pt x="60" y="16"/>
                    <a:pt x="120" y="0"/>
                    <a:pt x="158" y="169"/>
                  </a:cubicBezTo>
                  <a:cubicBezTo>
                    <a:pt x="196" y="338"/>
                    <a:pt x="209" y="782"/>
                    <a:pt x="226" y="1049"/>
                  </a:cubicBezTo>
                  <a:cubicBezTo>
                    <a:pt x="243" y="1316"/>
                    <a:pt x="181" y="1636"/>
                    <a:pt x="260" y="1772"/>
                  </a:cubicBezTo>
                  <a:cubicBezTo>
                    <a:pt x="339" y="1908"/>
                    <a:pt x="604" y="1923"/>
                    <a:pt x="700" y="1863"/>
                  </a:cubicBezTo>
                  <a:cubicBezTo>
                    <a:pt x="796" y="1803"/>
                    <a:pt x="813" y="1486"/>
                    <a:pt x="836" y="1411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568680" y="4643280"/>
              <a:ext cx="3925800" cy="765360"/>
            </a:xfrm>
            <a:custGeom>
              <a:avLst/>
              <a:gdLst/>
              <a:ahLst/>
              <a:rect l="l" t="t" r="r" b="b"/>
              <a:pathLst>
                <a:path w="2473" h="482">
                  <a:moveTo>
                    <a:pt x="0" y="452"/>
                  </a:moveTo>
                  <a:cubicBezTo>
                    <a:pt x="782" y="467"/>
                    <a:pt x="1564" y="482"/>
                    <a:pt x="1976" y="407"/>
                  </a:cubicBezTo>
                  <a:cubicBezTo>
                    <a:pt x="2388" y="332"/>
                    <a:pt x="2390" y="68"/>
                    <a:pt x="2473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159880" y="5397480"/>
              <a:ext cx="4091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3: Fragment a seg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and sent them to a strip group of serv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5" name=""/>
          <p:cNvGrpSpPr/>
          <p:nvPr/>
        </p:nvGrpSpPr>
        <p:grpSpPr>
          <a:xfrm>
            <a:off x="1469880" y="4697280"/>
            <a:ext cx="4213440" cy="1290600"/>
            <a:chOff x="1469880" y="4697280"/>
            <a:chExt cx="4213440" cy="1290600"/>
          </a:xfrm>
        </p:grpSpPr>
        <p:sp>
          <p:nvSpPr>
            <p:cNvPr id="1236" name=""/>
            <p:cNvSpPr/>
            <p:nvPr/>
          </p:nvSpPr>
          <p:spPr>
            <a:xfrm>
              <a:off x="1469880" y="4697280"/>
              <a:ext cx="4213440" cy="1290600"/>
            </a:xfrm>
            <a:custGeom>
              <a:avLst/>
              <a:gdLst/>
              <a:ahLst/>
              <a:rect l="l" t="t" r="r" b="b"/>
              <a:pathLst>
                <a:path w="2654" h="813">
                  <a:moveTo>
                    <a:pt x="68" y="813"/>
                  </a:moveTo>
                  <a:cubicBezTo>
                    <a:pt x="34" y="643"/>
                    <a:pt x="0" y="474"/>
                    <a:pt x="147" y="373"/>
                  </a:cubicBezTo>
                  <a:cubicBezTo>
                    <a:pt x="294" y="272"/>
                    <a:pt x="644" y="231"/>
                    <a:pt x="949" y="203"/>
                  </a:cubicBezTo>
                  <a:cubicBezTo>
                    <a:pt x="1254" y="175"/>
                    <a:pt x="1693" y="237"/>
                    <a:pt x="1977" y="203"/>
                  </a:cubicBezTo>
                  <a:cubicBezTo>
                    <a:pt x="2261" y="169"/>
                    <a:pt x="2541" y="34"/>
                    <a:pt x="2654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541880" y="5533920"/>
              <a:ext cx="167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1: Read requ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8" name=""/>
          <p:cNvGrpSpPr/>
          <p:nvPr/>
        </p:nvGrpSpPr>
        <p:grpSpPr>
          <a:xfrm>
            <a:off x="2384280" y="2851200"/>
            <a:ext cx="3424320" cy="2885040"/>
            <a:chOff x="2384280" y="2851200"/>
            <a:chExt cx="3424320" cy="2885040"/>
          </a:xfrm>
        </p:grpSpPr>
        <p:sp>
          <p:nvSpPr>
            <p:cNvPr id="1239" name=""/>
            <p:cNvSpPr/>
            <p:nvPr/>
          </p:nvSpPr>
          <p:spPr>
            <a:xfrm>
              <a:off x="2384280" y="2851200"/>
              <a:ext cx="3424320" cy="2870280"/>
            </a:xfrm>
            <a:custGeom>
              <a:avLst/>
              <a:gdLst/>
              <a:ahLst/>
              <a:rect l="l" t="t" r="r" b="b"/>
              <a:pathLst>
                <a:path w="2157" h="1808">
                  <a:moveTo>
                    <a:pt x="2157" y="1152"/>
                  </a:moveTo>
                  <a:cubicBezTo>
                    <a:pt x="2060" y="1388"/>
                    <a:pt x="1963" y="1624"/>
                    <a:pt x="1694" y="1716"/>
                  </a:cubicBezTo>
                  <a:cubicBezTo>
                    <a:pt x="1425" y="1808"/>
                    <a:pt x="802" y="1808"/>
                    <a:pt x="542" y="1705"/>
                  </a:cubicBezTo>
                  <a:cubicBezTo>
                    <a:pt x="282" y="1602"/>
                    <a:pt x="204" y="1321"/>
                    <a:pt x="136" y="1095"/>
                  </a:cubicBezTo>
                  <a:cubicBezTo>
                    <a:pt x="68" y="869"/>
                    <a:pt x="159" y="532"/>
                    <a:pt x="136" y="350"/>
                  </a:cubicBezTo>
                  <a:cubicBezTo>
                    <a:pt x="113" y="168"/>
                    <a:pt x="56" y="84"/>
                    <a:pt x="0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313080" y="5398920"/>
              <a:ext cx="207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2: Query a 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1" name=""/>
          <p:cNvGrpSpPr/>
          <p:nvPr/>
        </p:nvGrpSpPr>
        <p:grpSpPr>
          <a:xfrm>
            <a:off x="2120040" y="2814480"/>
            <a:ext cx="4172040" cy="1094040"/>
            <a:chOff x="2120040" y="2814480"/>
            <a:chExt cx="4172040" cy="1094040"/>
          </a:xfrm>
        </p:grpSpPr>
        <p:sp>
          <p:nvSpPr>
            <p:cNvPr id="1242" name=""/>
            <p:cNvSpPr/>
            <p:nvPr/>
          </p:nvSpPr>
          <p:spPr>
            <a:xfrm>
              <a:off x="2187720" y="2814480"/>
              <a:ext cx="0" cy="1094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120040" y="3238560"/>
              <a:ext cx="4172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3: Collaborative cach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(Read data from another client if possibl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5D45-92C6-42AF-9C3F-B96E05DCC96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/>
          <p:nvPr/>
        </p:nvSpPr>
        <p:spPr>
          <a:xfrm>
            <a:off x="3525840" y="2941560"/>
            <a:ext cx="722160" cy="1001880"/>
          </a:xfrm>
          <a:custGeom>
            <a:avLst/>
            <a:gdLst/>
            <a:ahLst/>
            <a:rect l="l" t="t" r="r" b="b"/>
            <a:pathLst>
              <a:path w="455" h="631">
                <a:moveTo>
                  <a:pt x="243" y="67"/>
                </a:moveTo>
                <a:cubicBezTo>
                  <a:pt x="192" y="0"/>
                  <a:pt x="147" y="76"/>
                  <a:pt x="115" y="155"/>
                </a:cubicBezTo>
                <a:cubicBezTo>
                  <a:pt x="83" y="234"/>
                  <a:pt x="0" y="472"/>
                  <a:pt x="51" y="539"/>
                </a:cubicBezTo>
                <a:cubicBezTo>
                  <a:pt x="102" y="606"/>
                  <a:pt x="383" y="631"/>
                  <a:pt x="419" y="555"/>
                </a:cubicBezTo>
                <a:cubicBezTo>
                  <a:pt x="455" y="479"/>
                  <a:pt x="294" y="134"/>
                  <a:pt x="243" y="67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789280" y="2941560"/>
            <a:ext cx="722160" cy="1001880"/>
          </a:xfrm>
          <a:custGeom>
            <a:avLst/>
            <a:gdLst/>
            <a:ahLst/>
            <a:rect l="l" t="t" r="r" b="b"/>
            <a:pathLst>
              <a:path w="455" h="631">
                <a:moveTo>
                  <a:pt x="243" y="67"/>
                </a:moveTo>
                <a:cubicBezTo>
                  <a:pt x="192" y="0"/>
                  <a:pt x="147" y="76"/>
                  <a:pt x="115" y="155"/>
                </a:cubicBezTo>
                <a:cubicBezTo>
                  <a:pt x="83" y="234"/>
                  <a:pt x="0" y="472"/>
                  <a:pt x="51" y="539"/>
                </a:cubicBezTo>
                <a:cubicBezTo>
                  <a:pt x="102" y="606"/>
                  <a:pt x="383" y="631"/>
                  <a:pt x="419" y="555"/>
                </a:cubicBezTo>
                <a:cubicBezTo>
                  <a:pt x="455" y="479"/>
                  <a:pt x="294" y="134"/>
                  <a:pt x="243" y="67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017800" y="3035160"/>
            <a:ext cx="815760" cy="843120"/>
          </a:xfrm>
          <a:custGeom>
            <a:avLst/>
            <a:gdLst/>
            <a:ahLst/>
            <a:rect l="l" t="t" r="r" b="b"/>
            <a:pathLst>
              <a:path w="514" h="531">
                <a:moveTo>
                  <a:pt x="49" y="40"/>
                </a:moveTo>
                <a:cubicBezTo>
                  <a:pt x="0" y="80"/>
                  <a:pt x="60" y="381"/>
                  <a:pt x="129" y="456"/>
                </a:cubicBezTo>
                <a:cubicBezTo>
                  <a:pt x="198" y="531"/>
                  <a:pt x="416" y="528"/>
                  <a:pt x="465" y="488"/>
                </a:cubicBezTo>
                <a:cubicBezTo>
                  <a:pt x="514" y="448"/>
                  <a:pt x="498" y="293"/>
                  <a:pt x="425" y="216"/>
                </a:cubicBezTo>
                <a:cubicBezTo>
                  <a:pt x="352" y="139"/>
                  <a:pt x="98" y="0"/>
                  <a:pt x="49" y="40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049400" y="2965320"/>
            <a:ext cx="1266840" cy="989280"/>
          </a:xfrm>
          <a:custGeom>
            <a:avLst/>
            <a:gdLst/>
            <a:ahLst/>
            <a:rect l="l" t="t" r="r" b="b"/>
            <a:pathLst>
              <a:path w="798" h="623">
                <a:moveTo>
                  <a:pt x="531" y="76"/>
                </a:moveTo>
                <a:cubicBezTo>
                  <a:pt x="464" y="0"/>
                  <a:pt x="400" y="33"/>
                  <a:pt x="323" y="100"/>
                </a:cubicBezTo>
                <a:cubicBezTo>
                  <a:pt x="246" y="167"/>
                  <a:pt x="0" y="400"/>
                  <a:pt x="67" y="476"/>
                </a:cubicBezTo>
                <a:cubicBezTo>
                  <a:pt x="134" y="552"/>
                  <a:pt x="648" y="623"/>
                  <a:pt x="723" y="556"/>
                </a:cubicBezTo>
                <a:cubicBezTo>
                  <a:pt x="798" y="489"/>
                  <a:pt x="598" y="152"/>
                  <a:pt x="531" y="76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4519440" y="4700520"/>
            <a:ext cx="793800" cy="1263600"/>
          </a:xfrm>
          <a:custGeom>
            <a:avLst/>
            <a:gdLst/>
            <a:ahLst/>
            <a:rect l="l" t="t" r="r" b="b"/>
            <a:pathLst>
              <a:path w="500" h="796">
                <a:moveTo>
                  <a:pt x="233" y="95"/>
                </a:moveTo>
                <a:cubicBezTo>
                  <a:pt x="184" y="0"/>
                  <a:pt x="200" y="46"/>
                  <a:pt x="169" y="135"/>
                </a:cubicBezTo>
                <a:cubicBezTo>
                  <a:pt x="138" y="224"/>
                  <a:pt x="0" y="536"/>
                  <a:pt x="49" y="631"/>
                </a:cubicBezTo>
                <a:cubicBezTo>
                  <a:pt x="98" y="726"/>
                  <a:pt x="430" y="796"/>
                  <a:pt x="465" y="703"/>
                </a:cubicBezTo>
                <a:cubicBezTo>
                  <a:pt x="500" y="610"/>
                  <a:pt x="282" y="190"/>
                  <a:pt x="233" y="95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6526080" y="4687920"/>
            <a:ext cx="793800" cy="1263600"/>
          </a:xfrm>
          <a:custGeom>
            <a:avLst/>
            <a:gdLst/>
            <a:ahLst/>
            <a:rect l="l" t="t" r="r" b="b"/>
            <a:pathLst>
              <a:path w="500" h="796">
                <a:moveTo>
                  <a:pt x="233" y="95"/>
                </a:moveTo>
                <a:cubicBezTo>
                  <a:pt x="184" y="0"/>
                  <a:pt x="200" y="46"/>
                  <a:pt x="169" y="135"/>
                </a:cubicBezTo>
                <a:cubicBezTo>
                  <a:pt x="138" y="224"/>
                  <a:pt x="0" y="536"/>
                  <a:pt x="49" y="631"/>
                </a:cubicBezTo>
                <a:cubicBezTo>
                  <a:pt x="98" y="726"/>
                  <a:pt x="430" y="796"/>
                  <a:pt x="465" y="703"/>
                </a:cubicBezTo>
                <a:cubicBezTo>
                  <a:pt x="500" y="610"/>
                  <a:pt x="282" y="190"/>
                  <a:pt x="233" y="95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728800" y="4738680"/>
            <a:ext cx="793800" cy="1263600"/>
          </a:xfrm>
          <a:custGeom>
            <a:avLst/>
            <a:gdLst/>
            <a:ahLst/>
            <a:rect l="l" t="t" r="r" b="b"/>
            <a:pathLst>
              <a:path w="500" h="796">
                <a:moveTo>
                  <a:pt x="233" y="95"/>
                </a:moveTo>
                <a:cubicBezTo>
                  <a:pt x="184" y="0"/>
                  <a:pt x="200" y="46"/>
                  <a:pt x="169" y="135"/>
                </a:cubicBezTo>
                <a:cubicBezTo>
                  <a:pt x="138" y="224"/>
                  <a:pt x="0" y="536"/>
                  <a:pt x="49" y="631"/>
                </a:cubicBezTo>
                <a:cubicBezTo>
                  <a:pt x="98" y="726"/>
                  <a:pt x="430" y="796"/>
                  <a:pt x="465" y="703"/>
                </a:cubicBezTo>
                <a:cubicBezTo>
                  <a:pt x="500" y="610"/>
                  <a:pt x="282" y="190"/>
                  <a:pt x="233" y="95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915840" y="4751280"/>
            <a:ext cx="1175040" cy="1225800"/>
          </a:xfrm>
          <a:custGeom>
            <a:avLst/>
            <a:gdLst/>
            <a:ahLst/>
            <a:rect l="l" t="t" r="r" b="b"/>
            <a:pathLst>
              <a:path w="740" h="772">
                <a:moveTo>
                  <a:pt x="399" y="87"/>
                </a:moveTo>
                <a:cubicBezTo>
                  <a:pt x="328" y="0"/>
                  <a:pt x="310" y="66"/>
                  <a:pt x="255" y="159"/>
                </a:cubicBezTo>
                <a:cubicBezTo>
                  <a:pt x="200" y="252"/>
                  <a:pt x="0" y="560"/>
                  <a:pt x="71" y="647"/>
                </a:cubicBezTo>
                <a:cubicBezTo>
                  <a:pt x="142" y="734"/>
                  <a:pt x="618" y="772"/>
                  <a:pt x="679" y="679"/>
                </a:cubicBezTo>
                <a:cubicBezTo>
                  <a:pt x="740" y="586"/>
                  <a:pt x="470" y="174"/>
                  <a:pt x="399" y="87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FS Example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lan 9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3" name=""/>
          <p:cNvSpPr/>
          <p:nvPr/>
        </p:nvSpPr>
        <p:spPr>
          <a:xfrm>
            <a:off x="2514600" y="223524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397160" y="554976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079640" y="554976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854360" y="28828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3048120" y="28702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1422360" y="4915080"/>
            <a:ext cx="190440" cy="215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3098880" y="55879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768760" y="557532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959200" y="49402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4788000" y="490212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2870280" y="355608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187800" y="355608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727280" y="55627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H="1">
            <a:off x="3009960" y="3086280"/>
            <a:ext cx="10152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3174840" y="3086280"/>
            <a:ext cx="88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 flipH="1">
            <a:off x="1244520" y="5130720"/>
            <a:ext cx="25416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523880" y="5130720"/>
            <a:ext cx="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1549440" y="5143680"/>
            <a:ext cx="25380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 flipH="1">
            <a:off x="2870280" y="5168880"/>
            <a:ext cx="16488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073320" y="5168880"/>
            <a:ext cx="11448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2705040" y="2451240"/>
            <a:ext cx="33012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H="1">
            <a:off x="2044800" y="2463840"/>
            <a:ext cx="4572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574640" y="355608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1257480" y="355608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2540160" y="359424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2209680" y="358128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1905120" y="356868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 flipH="1">
            <a:off x="1422000" y="3073320"/>
            <a:ext cx="44460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 flipH="1">
            <a:off x="1701360" y="3111480"/>
            <a:ext cx="1652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1866960" y="3086280"/>
            <a:ext cx="11412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2070000" y="3098880"/>
            <a:ext cx="24156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2082960" y="3086280"/>
            <a:ext cx="54612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610160" y="55879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4927680" y="55879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 flipH="1">
            <a:off x="4749840" y="5118120"/>
            <a:ext cx="10152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915080" y="5118120"/>
            <a:ext cx="88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6883560" y="558792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591240" y="560088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 flipH="1">
            <a:off x="6730920" y="5130720"/>
            <a:ext cx="10152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896160" y="5130720"/>
            <a:ext cx="88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6769080" y="49528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2120760" y="5067360"/>
            <a:ext cx="330480" cy="58428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568680" y="5054760"/>
            <a:ext cx="330120" cy="58392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4579920" y="5969160"/>
            <a:ext cx="254160" cy="291960"/>
          </a:xfrm>
          <a:custGeom>
            <a:avLst/>
            <a:gdLst/>
            <a:ahLst/>
            <a:rect l="l" t="t" r="r" b="b"/>
            <a:pathLst>
              <a:path w="712" h="616">
                <a:moveTo>
                  <a:pt x="323" y="0"/>
                </a:moveTo>
                <a:cubicBezTo>
                  <a:pt x="222" y="16"/>
                  <a:pt x="122" y="33"/>
                  <a:pt x="75" y="104"/>
                </a:cubicBezTo>
                <a:cubicBezTo>
                  <a:pt x="28" y="175"/>
                  <a:pt x="0" y="340"/>
                  <a:pt x="43" y="424"/>
                </a:cubicBezTo>
                <a:cubicBezTo>
                  <a:pt x="86" y="508"/>
                  <a:pt x="230" y="600"/>
                  <a:pt x="331" y="608"/>
                </a:cubicBezTo>
                <a:cubicBezTo>
                  <a:pt x="432" y="616"/>
                  <a:pt x="590" y="545"/>
                  <a:pt x="651" y="472"/>
                </a:cubicBezTo>
                <a:cubicBezTo>
                  <a:pt x="712" y="399"/>
                  <a:pt x="705" y="283"/>
                  <a:pt x="699" y="168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4973760" y="5956200"/>
            <a:ext cx="253800" cy="292320"/>
          </a:xfrm>
          <a:custGeom>
            <a:avLst/>
            <a:gdLst/>
            <a:ahLst/>
            <a:rect l="l" t="t" r="r" b="b"/>
            <a:pathLst>
              <a:path w="712" h="616">
                <a:moveTo>
                  <a:pt x="323" y="0"/>
                </a:moveTo>
                <a:cubicBezTo>
                  <a:pt x="222" y="16"/>
                  <a:pt x="122" y="33"/>
                  <a:pt x="75" y="104"/>
                </a:cubicBezTo>
                <a:cubicBezTo>
                  <a:pt x="28" y="175"/>
                  <a:pt x="0" y="340"/>
                  <a:pt x="43" y="424"/>
                </a:cubicBezTo>
                <a:cubicBezTo>
                  <a:pt x="86" y="508"/>
                  <a:pt x="230" y="600"/>
                  <a:pt x="331" y="608"/>
                </a:cubicBezTo>
                <a:cubicBezTo>
                  <a:pt x="432" y="616"/>
                  <a:pt x="590" y="545"/>
                  <a:pt x="651" y="472"/>
                </a:cubicBezTo>
                <a:cubicBezTo>
                  <a:pt x="712" y="399"/>
                  <a:pt x="705" y="283"/>
                  <a:pt x="699" y="168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1079640" y="2006640"/>
            <a:ext cx="3200400" cy="189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990720" y="4699080"/>
            <a:ext cx="1041120" cy="12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717640" y="4686480"/>
            <a:ext cx="749520" cy="12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4495680" y="4711680"/>
            <a:ext cx="749520" cy="12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477120" y="4686480"/>
            <a:ext cx="749160" cy="12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1024560" y="4425840"/>
            <a:ext cx="103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le serv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561400" y="4400640"/>
            <a:ext cx="103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le serv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4161240" y="4438800"/>
            <a:ext cx="161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utation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156720" y="4438800"/>
            <a:ext cx="14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73200" y="412740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400480" y="3898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536840" y="4127400"/>
            <a:ext cx="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111480" y="4127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4927680" y="412740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6896160" y="4127400"/>
            <a:ext cx="0" cy="2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304280" y="1733400"/>
            <a:ext cx="59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873600" y="351792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581280" y="35305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H="1">
            <a:off x="3720600" y="3060720"/>
            <a:ext cx="10188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886200" y="3060720"/>
            <a:ext cx="88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759120" y="28828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2692440" y="2413080"/>
            <a:ext cx="1117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774720" y="3809880"/>
            <a:ext cx="558720" cy="1422360"/>
          </a:xfrm>
          <a:custGeom>
            <a:avLst/>
            <a:gdLst/>
            <a:ahLst/>
            <a:rect l="l" t="t" r="r" b="b"/>
            <a:pathLst>
              <a:path w="352" h="896">
                <a:moveTo>
                  <a:pt x="256" y="896"/>
                </a:moveTo>
                <a:cubicBezTo>
                  <a:pt x="128" y="810"/>
                  <a:pt x="0" y="725"/>
                  <a:pt x="16" y="576"/>
                </a:cubicBezTo>
                <a:cubicBezTo>
                  <a:pt x="32" y="427"/>
                  <a:pt x="192" y="213"/>
                  <a:pt x="352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2577960" y="3848040"/>
            <a:ext cx="292320" cy="1409760"/>
          </a:xfrm>
          <a:custGeom>
            <a:avLst/>
            <a:gdLst/>
            <a:ahLst/>
            <a:rect l="l" t="t" r="r" b="b"/>
            <a:pathLst>
              <a:path w="184" h="888">
                <a:moveTo>
                  <a:pt x="184" y="888"/>
                </a:moveTo>
                <a:cubicBezTo>
                  <a:pt x="131" y="866"/>
                  <a:pt x="79" y="844"/>
                  <a:pt x="48" y="696"/>
                </a:cubicBezTo>
                <a:cubicBezTo>
                  <a:pt x="17" y="548"/>
                  <a:pt x="8" y="27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3429000" y="3822840"/>
            <a:ext cx="1231920" cy="1447560"/>
          </a:xfrm>
          <a:custGeom>
            <a:avLst/>
            <a:gdLst/>
            <a:ahLst/>
            <a:rect l="l" t="t" r="r" b="b"/>
            <a:pathLst>
              <a:path w="776" h="912">
                <a:moveTo>
                  <a:pt x="0" y="0"/>
                </a:moveTo>
                <a:cubicBezTo>
                  <a:pt x="103" y="12"/>
                  <a:pt x="207" y="24"/>
                  <a:pt x="336" y="176"/>
                </a:cubicBezTo>
                <a:cubicBezTo>
                  <a:pt x="465" y="328"/>
                  <a:pt x="620" y="620"/>
                  <a:pt x="776" y="912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4102200" y="3403440"/>
            <a:ext cx="2565360" cy="1791000"/>
          </a:xfrm>
          <a:custGeom>
            <a:avLst/>
            <a:gdLst/>
            <a:ahLst/>
            <a:rect l="l" t="t" r="r" b="b"/>
            <a:pathLst>
              <a:path w="1616" h="1128">
                <a:moveTo>
                  <a:pt x="1616" y="1128"/>
                </a:moveTo>
                <a:cubicBezTo>
                  <a:pt x="1406" y="754"/>
                  <a:pt x="1197" y="380"/>
                  <a:pt x="928" y="192"/>
                </a:cubicBezTo>
                <a:cubicBezTo>
                  <a:pt x="659" y="4"/>
                  <a:pt x="329" y="2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84360" y="3879720"/>
            <a:ext cx="66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m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2525760" y="3917880"/>
            <a:ext cx="66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m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839040" y="3892680"/>
            <a:ext cx="6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383440" y="3460680"/>
            <a:ext cx="66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m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6997680" y="5829480"/>
            <a:ext cx="736560" cy="266400"/>
          </a:xfrm>
          <a:custGeom>
            <a:avLst/>
            <a:gdLst/>
            <a:ahLst/>
            <a:rect l="l" t="t" r="r" b="b"/>
            <a:pathLst>
              <a:path w="464" h="168">
                <a:moveTo>
                  <a:pt x="0" y="0"/>
                </a:moveTo>
                <a:lnTo>
                  <a:pt x="0" y="168"/>
                </a:lnTo>
                <a:lnTo>
                  <a:pt x="464" y="168"/>
                </a:lnTo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7410240" y="5835600"/>
            <a:ext cx="76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627480" y="2863800"/>
            <a:ext cx="129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ion direc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151600" y="6000840"/>
            <a:ext cx="14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mote exec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7303680" y="5416560"/>
            <a:ext cx="129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A888-D300-4D9A-A568-91BB6776F70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per Review by Stud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n NF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rew Fil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F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F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u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file-sharing semantics is each system based 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systems use server-side caching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systems use client-side caching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systems use the client-initiated validati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systems use the server-initiated validati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F364-A69F-4775-9D39-2379354CC2EA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n-Turn-In Exerci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6" name=""/>
          <p:cNvSpPr/>
          <p:nvPr/>
        </p:nvSpPr>
        <p:spPr>
          <a:xfrm>
            <a:off x="504720" y="1876320"/>
            <a:ext cx="8639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ahoma"/>
              </a:rPr>
              <a:t>Q1.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In transaction-like semantics a.k.a. concurrency control, compare the pros and cons of backward and forward transactions. In particular, consider the case where each transaction includes more read than write operation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Backward trans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Pr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Forward trans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Pr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Answer the following five questions about file-caching. When you are asked to show which systems use a given caching scheme, choose all applicable systems from NFS, AFS, xFS and Plan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-1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Why can file-caching contribute to performance improvement? Answer two reas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Reason 1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Reason 2: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-2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State one merit for using server-side caching? Which system uses server-side-caching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Meri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ystem: Plan9 (Answ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3DCF-0E75-4ADB-95C0-9C9CD26037ED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ing &amp; Transpar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are files name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filenames reveal locati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filenames change if file mov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filenames change 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us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ov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6B82-7F2F-474B-BBFE-3E4E77518479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n-Turn-In Exerci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8" name=""/>
          <p:cNvSpPr/>
          <p:nvPr/>
        </p:nvSpPr>
        <p:spPr>
          <a:xfrm>
            <a:off x="212760" y="2120760"/>
            <a:ext cx="8639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-3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Client-side caching allows multiple clients to cache the same file. There are two schemes to validate the contents of a locally-cached file (or invalidate the contents of the same file cached at remote clients.) Those are client-initiated and server-initiated validations. Does the client-initiated validation require a file server to be stateful? Justify your answer. Also show which systems use the client-initiated valid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tateless or stateful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Reas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ystems: NFS, Plan9 (Answ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-4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Does the server-initiated validation require a file server to be stateful? Justify your answer. Also show which system uses the server-initiated valid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tateless or stateful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Reas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ystem: AFS, xFS (Answ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6321-19EC-4A59-A9F7-5D95C66B7B2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nspar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87640" indent="-287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ocation transparenc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filename does not reveal physical storage lo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ocation independe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filename need not change if file’s storage location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practic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naming schemes do not have location indepen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have location transpar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9439-DDCA-42E7-91CD-273AF8E7CD4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ing Strategies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bsolute Nam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97600" y="3144600"/>
            <a:ext cx="3876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87640" indent="-287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must know complete name – aware of which files are local &amp; which are remo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is location dependent (cannot mo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s sharing ha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ault-toler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100160" y="2844720"/>
            <a:ext cx="389556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679320" indent="-2617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840" indent="-312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261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find fully specified file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261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add &amp; delete new n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261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glob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261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ales eas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31840" y="2041560"/>
            <a:ext cx="5080320" cy="10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Linotype"/>
              </a:rPr>
              <a:t>&lt;machine name, pathna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00040"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Examples: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ppleShare, Windows 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9F13-AAC6-4A6D-B066-61BD946427F9}" type="slidenum">
              <a:t>7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ing Strategies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unt Poi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87640" indent="-287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unt points (NFS – Network File Syste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host has set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ocal nam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emote lo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unt tabl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/etc/fsta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: specifies &lt;remote pathname @ machine name, local path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boot: bind local name to remo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refer to local pathn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19116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FS manages ma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5672-3352-4A1C-BBD0-7DB53243FA9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unt Points: Pros &amp; C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dvantag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ote name can change across reboo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840" indent="0">
              <a:spcBef>
                <a:spcPts val="799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isadvantag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nified strategy hard to maint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ile can have different n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0A90-00D6-4851-A0E7-DBCF96BCFBB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6T06:33:48Z</dcterms:created>
  <dc:creator>Munehiro Fukuda</dc:creator>
  <dc:description/>
  <dc:language>en-US</dc:language>
  <cp:lastModifiedBy>Javier Bustos Jiménez</cp:lastModifiedBy>
  <cp:lastPrinted>1999-11-27T07:19:44Z</cp:lastPrinted>
  <dcterms:modified xsi:type="dcterms:W3CDTF">2007-10-08T15:46:50Z</dcterms:modified>
  <cp:revision>958</cp:revision>
  <dc:subject>Distributed File Systems</dc:subject>
  <dc:title>CSS434: Parallel &amp; Distributed Computing</dc:title>
</cp:coreProperties>
</file>