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A0C-293B-4EB7-9346-4201E98F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ADE-3AD3-4F11-8AB8-62DCE1A6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1FD-6F83-4D1B-A908-8D400CA4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68C-57AD-4E54-A1E7-DD4B2EAC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A4B-34D0-4E83-B682-90B84E2B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7F3-41F8-4A21-8904-F7D15AB2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58A-4209-4858-8BC0-4912C947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31E-EE34-4953-837B-47F31D83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2C8-B713-4F23-A265-6F8C3C80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11B-87AC-44BC-9239-0E360AB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EC4-22A1-4BB6-A6F5-75DCF6EB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DE6-F0E5-4BA0-8EA6-2A70437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34D0-7D32-4D6C-B0BE-2B7FB60B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725400"/>
            <a:ext cx="727236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11161800" cy="230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92000" y="2565360"/>
            <a:ext cx="8352000" cy="133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16000" y="3936960"/>
            <a:ext cx="8640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523880" y="914400"/>
          <a:ext cx="6096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5280" y="54936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ASTO SÓLIDO A LA ENTRADA DE LA BOCATOMA DIGUIL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093680"/>
            <a:ext cx="806472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612720" y="1700280"/>
            <a:ext cx="9432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23840" y="56844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onclusión, se obtiene un gasto sólido de arrastre de 7644 kg/s a la entrada de la Bocatoma Diguillín para un caudal líquido de 1900 m3/s correspondiente a un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 retorno de 20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8200" y="2513160"/>
            <a:ext cx="70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2781360"/>
            <a:ext cx="71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un caudal Q=1900 m3/s correspondiente a 200 años de período de retorno, el Consorcio Laja-Diguillín calculó el gasto sólido de arrastre mediante el programa EJE.BAS que utiliza el método de Meyer-Peter y Muller y el método de Sato.  El Consorcio Laja-Diguillín seleccionó el método de Sato obteniendo un arrastre de fondo de 1300 kg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523880" y="914400"/>
          <a:ext cx="6096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155736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DE ANTECEDENT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POGRAF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IDR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ÍO DIGUILLÍ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SEDIM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SP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DE SUELOS Y ARRASTRE DE SEDIMEN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TUDIO DE MECÁNICA DE SUEL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TUDIO DE ARRASTRE DE SEDIMEN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89000"/>
            <a:ext cx="67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YECTO  LAJA  DIGU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ENIERIA DE DETALLE BOCATOMA DIGU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II REGIO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INFORME ETAP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HIDRÁULICO Y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9548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04640"/>
            <a:ext cx="7416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ÍO DIGUILLÍ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ARTICIÓN DE CAUDALES ENTRE LAS BARRERAS MÓVILES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ARA LA CRECIDA DE 1 EN 200 AÑOS (Q=1900 M3/S)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ometría de las Obr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cciones de Cálculo y Condiciones de Bor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5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IO DIGUILL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GUAS ARRIBA DE  BARRER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1440" y="1628640"/>
            <a:ext cx="841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RIFICACION OPERACIÓN CANAL MATRIZ LAJA-DIGUILLI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ormación Disponibl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Operación Can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7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IONAMIENTO DE LAS OBRAS EN CONDI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RMALES DE OPERA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BOCATOMA CANAL UNIFICAD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ESTRUC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320" y="333360"/>
            <a:ext cx="885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P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gún el estudio del Consorcio Laja Diguillín la pendiente media de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mo del cauce es " i = 0,58 %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a única restricción artificial que presenta actualmente este cauce es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ente Santa Isabel, con 210 m de longitud, ubicado 3,3 km aguas 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la bocatoma Diguillí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997360"/>
            <a:ext cx="848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DR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total de la hoy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A            =           1.151,26 km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pluvial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11 km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del cauce princip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,6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media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4,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evación media (cuenca pluvial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Z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899 m s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ínea de nieve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            Zn           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500 m s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ngitud del cauce princip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5,6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ngitud del cauce principal desde el CG: L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6,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media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,1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81080" y="2133720"/>
            <a:ext cx="9541080" cy="2301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4920" y="4797360"/>
            <a:ext cx="51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   :  Período de Retorno de " P " y " Q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   :  Precipitación Máxima 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   :  Caudal Máximo Instantá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o  =  82,3 m3/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udal Base del rí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guil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476280"/>
            <a:ext cx="71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CIPITACIONES MÁXIMAS DIARIAS Y CAUDALES MÁX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TANTÁNEOS PARA DISTINTOS PERÍODOS DE 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72560" y="423720"/>
            <a:ext cx="56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UDIO DE ARRASTRE DE S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714240"/>
            <a:ext cx="633744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187280"/>
            <a:ext cx="76327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137440" cy="30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7200" y="3716280"/>
            <a:ext cx="80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ó el arrastre de sólidos mediante el método de Meyer-Peter y Mü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fórmulas utilizadas se presentan a contin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84360" y="4538520"/>
                <a:ext cx="338292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32360" y="4873680"/>
                <a:ext cx="2376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21:49:33Z</dcterms:created>
  <dc:creator>Fernando Echeverria</dc:creator>
  <dc:description/>
  <dc:language>en-US</dc:language>
  <cp:lastModifiedBy>Fernando Echeverria</cp:lastModifiedBy>
  <dcterms:modified xsi:type="dcterms:W3CDTF">2008-08-17T23:20:05Z</dcterms:modified>
  <cp:revision>3</cp:revision>
  <dc:subject/>
  <dc:title>Slide 1</dc:title>
</cp:coreProperties>
</file>