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8A2-AB0C-409E-BC34-7CE1F9B8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2E9-0B3A-4F55-ABE1-A0B185A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44C-2B77-441B-97FB-A1DBCB4B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412-155D-4550-8B86-7A6D125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B639-D359-4C19-A66B-468BB510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784B-4B0D-4A8E-892E-BE55990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F772-0909-4B4D-B630-6D750717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8B9A-EC35-4A4F-BEE5-6800AA67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4FF-04B7-444D-B5B9-8654A449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47BC-B4E5-4942-8E59-7693E84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09FF-E3BF-4CBD-ABEB-E3F2ECD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38E-E1A0-4794-AF31-783D8DE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AC9C-3220-4DCA-BA8A-E0B95CB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18CE-0D82-42BB-9B84-C5BAE1B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3BFF-88B5-4CFA-AC27-36CC71E8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7EAA-32F1-4459-9BB4-D101B74E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7A63-83C6-460F-923F-ED29B085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A04-A743-4912-B3E5-0D56DE22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D13-FC6A-4730-AE0F-1B0290E3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881-6763-4F44-B309-25144D15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522-4E4A-49C0-8FE8-AF82063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D3E-2555-4E23-8794-7B9AF74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BF8-1EC7-45CF-9EA2-9117741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0E4-7533-4C0A-8416-D80E424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316-8FBC-45C2-9936-708E4FB7C39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F49-A056-4FFB-A0A9-3C4D88CD5A1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3440" y="149868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YECTO DE ACERO CI62-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724280"/>
            <a:ext cx="85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ESORES: ELIZABETH PARRA / HORACIO PINOCH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26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JEMPLO DEL DISEÑO DE ACERO DE PARED DELG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JEMPLO: Propiedades Efectivas</a:t>
            </a:r>
            <a:br>
              <a:rPr sz="3200"/>
            </a:b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Panel Knudson KR-1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0574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8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s-ES_tradnl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934320" y="2417760"/>
                <a:ext cx="1828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010280" y="2743200"/>
                <a:ext cx="16336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6477120" cy="4640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919200" y="1638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Elemento 1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18480" y="3429000"/>
            <a:ext cx="12322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Dato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w = 12.9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t   = 0.43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y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37      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E  = 29500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8480" y="4572000"/>
            <a:ext cx="18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Elemento en compresión no atiesado: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k = 0.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7760" y="5037120"/>
            <a:ext cx="18525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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1.7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0.5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12.9*0.511=6.59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276720"/>
            <a:ext cx="914400" cy="533160"/>
          </a:xfrm>
          <a:prstGeom prst="ellipse">
            <a:avLst/>
          </a:prstGeom>
          <a:noFill/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mento de Inercia (I) y Modulo Resistente (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93760" y="1790640"/>
            <a:ext cx="1397160" cy="2247840"/>
          </a:xfrm>
          <a:custGeom>
            <a:avLst/>
            <a:gdLst/>
            <a:ahLst/>
            <a:rect l="l" t="t" r="r" b="b"/>
            <a:pathLst>
              <a:path w="1347" h="1800">
                <a:moveTo>
                  <a:pt x="242" y="216"/>
                </a:moveTo>
                <a:cubicBezTo>
                  <a:pt x="186" y="296"/>
                  <a:pt x="198" y="392"/>
                  <a:pt x="208" y="504"/>
                </a:cubicBezTo>
                <a:cubicBezTo>
                  <a:pt x="218" y="616"/>
                  <a:pt x="320" y="792"/>
                  <a:pt x="304" y="888"/>
                </a:cubicBezTo>
                <a:cubicBezTo>
                  <a:pt x="288" y="984"/>
                  <a:pt x="160" y="1008"/>
                  <a:pt x="112" y="1080"/>
                </a:cubicBezTo>
                <a:cubicBezTo>
                  <a:pt x="64" y="1152"/>
                  <a:pt x="0" y="1216"/>
                  <a:pt x="16" y="1320"/>
                </a:cubicBezTo>
                <a:cubicBezTo>
                  <a:pt x="32" y="1424"/>
                  <a:pt x="52" y="1629"/>
                  <a:pt x="208" y="1704"/>
                </a:cubicBezTo>
                <a:cubicBezTo>
                  <a:pt x="364" y="1779"/>
                  <a:pt x="774" y="1800"/>
                  <a:pt x="954" y="1772"/>
                </a:cubicBezTo>
                <a:cubicBezTo>
                  <a:pt x="1134" y="1744"/>
                  <a:pt x="1227" y="1653"/>
                  <a:pt x="1287" y="1538"/>
                </a:cubicBezTo>
                <a:cubicBezTo>
                  <a:pt x="1347" y="1423"/>
                  <a:pt x="1343" y="1184"/>
                  <a:pt x="1312" y="1080"/>
                </a:cubicBezTo>
                <a:cubicBezTo>
                  <a:pt x="1281" y="976"/>
                  <a:pt x="1139" y="962"/>
                  <a:pt x="1098" y="916"/>
                </a:cubicBezTo>
                <a:cubicBezTo>
                  <a:pt x="1057" y="870"/>
                  <a:pt x="1061" y="858"/>
                  <a:pt x="1065" y="805"/>
                </a:cubicBezTo>
                <a:cubicBezTo>
                  <a:pt x="1069" y="752"/>
                  <a:pt x="1109" y="685"/>
                  <a:pt x="1120" y="600"/>
                </a:cubicBezTo>
                <a:cubicBezTo>
                  <a:pt x="1131" y="515"/>
                  <a:pt x="1164" y="382"/>
                  <a:pt x="1131" y="294"/>
                </a:cubicBezTo>
                <a:cubicBezTo>
                  <a:pt x="1098" y="206"/>
                  <a:pt x="1018" y="117"/>
                  <a:pt x="920" y="72"/>
                </a:cubicBezTo>
                <a:cubicBezTo>
                  <a:pt x="822" y="27"/>
                  <a:pt x="657" y="0"/>
                  <a:pt x="544" y="24"/>
                </a:cubicBezTo>
                <a:cubicBezTo>
                  <a:pt x="431" y="48"/>
                  <a:pt x="298" y="136"/>
                  <a:pt x="242" y="216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19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2160" y="3048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C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971800"/>
            <a:ext cx="2362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2096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1960" y="2130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3200" y="19810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0" cy="762120"/>
          </a:xfrm>
          <a:prstGeom prst="line">
            <a:avLst/>
          </a:prstGeom>
          <a:ln w="9360">
            <a:solidFill>
              <a:srgbClr val="99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548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620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28840" y="4724280"/>
                <a:ext cx="13143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890720" y="2400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680" y="42670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omento de Inerci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240" y="525780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 manera que se cumple la siguiente ecu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69080" y="5646600"/>
            <a:ext cx="143352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s-ES_tradnl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14040" y="40384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066680" y="2971440"/>
            <a:ext cx="0" cy="10666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1880" y="316224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es-ES_tradnl" sz="18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8400" y="156204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ódulo Resistente (S)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3560" y="2063880"/>
            <a:ext cx="113184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S =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6000" y="2057400"/>
            <a:ext cx="10375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79840" y="32004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Hipótesis de Navier: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 Secciones planas permanecen pla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343400"/>
            <a:ext cx="1143000" cy="16765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181480"/>
            <a:ext cx="3505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848720" y="4343040"/>
            <a:ext cx="761760" cy="1676880"/>
            <a:chOff x="7848720" y="4343040"/>
            <a:chExt cx="761760" cy="1676880"/>
          </a:xfrm>
        </p:grpSpPr>
        <p:sp>
          <p:nvSpPr>
            <p:cNvPr id="252" name=""/>
            <p:cNvSpPr/>
            <p:nvPr/>
          </p:nvSpPr>
          <p:spPr>
            <a:xfrm>
              <a:off x="8229600" y="4343400"/>
              <a:ext cx="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7848720" y="4343040"/>
              <a:ext cx="76176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848720" y="4343400"/>
              <a:ext cx="380880" cy="457200"/>
              <a:chOff x="7848720" y="4343400"/>
              <a:chExt cx="380880" cy="4572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7848720" y="434340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925040" y="449568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8001000" y="464832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077320" y="480060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229600" y="5562720"/>
              <a:ext cx="380880" cy="457200"/>
              <a:chOff x="8229600" y="5562720"/>
              <a:chExt cx="38088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8229600" y="601992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9600" y="586764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29600" y="571500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29600" y="55627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7238880" y="434340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57640" y="4343040"/>
            <a:ext cx="76212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343400"/>
            <a:ext cx="380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60199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5181480"/>
            <a:ext cx="381240" cy="83844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858000" y="4343400"/>
            <a:ext cx="380880" cy="83808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9000" y="394344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43920" y="5943600"/>
            <a:ext cx="30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6200" y="3962520"/>
            <a:ext cx="35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42320" y="594360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613404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2513" y="10309"/>
                </a:moveTo>
                <a:arcTo wR="-8302" hR="-8302" stAng="-10596578" swAng="-11003422"/>
                <a:lnTo>
                  <a:pt x="0" y="10800"/>
                </a:lnTo>
                <a:arcTo wR="10800" hR="10800" stAng="10800000" swAng="11003422"/>
                <a:lnTo>
                  <a:pt x="24276" y="11598"/>
                </a:lnTo>
                <a:lnTo>
                  <a:pt x="20101" y="15307"/>
                </a:lnTo>
                <a:lnTo>
                  <a:pt x="16392" y="1113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0640" y="560376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478" t="5582" r="681" b="3937"/>
          <a:stretch/>
        </p:blipFill>
        <p:spPr>
          <a:xfrm>
            <a:off x="1295280" y="1523880"/>
            <a:ext cx="6553440" cy="238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rcRect l="1157" t="2615" r="0" b="2879"/>
          <a:stretch/>
        </p:blipFill>
        <p:spPr>
          <a:xfrm>
            <a:off x="1371600" y="4038480"/>
            <a:ext cx="647712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1760" y="2285280"/>
            <a:ext cx="2819520" cy="457920"/>
            <a:chOff x="761760" y="2285280"/>
            <a:chExt cx="2819520" cy="457920"/>
          </a:xfrm>
        </p:grpSpPr>
        <p:sp>
          <p:nvSpPr>
            <p:cNvPr id="281" name=""/>
            <p:cNvSpPr/>
            <p:nvPr/>
          </p:nvSpPr>
          <p:spPr>
            <a:xfrm>
              <a:off x="990720" y="25146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14400" y="25146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25146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8080" y="2666880"/>
              <a:ext cx="3049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17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380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91440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9903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666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720" y="266688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720" y="274320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907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90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2860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90720" y="29718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30720" y="1614600"/>
            <a:ext cx="139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UN TRAM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8195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5280" y="2525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884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200400"/>
            <a:ext cx="243828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39625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962520"/>
            <a:ext cx="2438280" cy="304560"/>
          </a:xfrm>
          <a:custGeom>
            <a:avLst/>
            <a:gdLst/>
            <a:ahLst/>
            <a:rect l="l" t="t" r="r" b="b"/>
            <a:pathLst>
              <a:path w="1536" h="192">
                <a:moveTo>
                  <a:pt x="0" y="0"/>
                </a:moveTo>
                <a:cubicBezTo>
                  <a:pt x="256" y="96"/>
                  <a:pt x="512" y="192"/>
                  <a:pt x="768" y="192"/>
                </a:cubicBezTo>
                <a:cubicBezTo>
                  <a:pt x="1024" y="192"/>
                  <a:pt x="1280" y="96"/>
                  <a:pt x="1536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95280" y="3962520"/>
            <a:ext cx="762120" cy="304560"/>
            <a:chOff x="1295280" y="3962520"/>
            <a:chExt cx="762120" cy="304560"/>
          </a:xfrm>
        </p:grpSpPr>
        <p:sp>
          <p:nvSpPr>
            <p:cNvPr id="315" name=""/>
            <p:cNvSpPr/>
            <p:nvPr/>
          </p:nvSpPr>
          <p:spPr>
            <a:xfrm>
              <a:off x="144792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0020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2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1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74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362320" y="3962520"/>
            <a:ext cx="761760" cy="304560"/>
            <a:chOff x="2362320" y="3962520"/>
            <a:chExt cx="761760" cy="304560"/>
          </a:xfrm>
        </p:grpSpPr>
        <p:sp>
          <p:nvSpPr>
            <p:cNvPr id="322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19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146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3200400"/>
            <a:ext cx="121896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208960" y="3428280"/>
            <a:ext cx="121932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41972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8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1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0920" y="3363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7840" y="39117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2900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30800" y="2743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5160" y="198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8640" y="4724280"/>
            <a:ext cx="145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R = 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q L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2240" y="5018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V(x) = q (L/2-x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1880" y="532296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M(x) = qx (L-x)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31680" y="5627520"/>
            <a:ext cx="12290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29520" y="5996160"/>
            <a:ext cx="166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5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384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25002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79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7242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80060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765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8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52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22716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9574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7640" y="1600200"/>
            <a:ext cx="1645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DO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148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6748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39481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48568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7712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4040" y="38973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31520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9520" y="272880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136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7280" y="471024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3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9960" y="5257800"/>
            <a:ext cx="12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5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19680" y="5629320"/>
            <a:ext cx="160128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9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16080" y="6010200"/>
            <a:ext cx="157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85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360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67050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15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57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692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51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029200" y="3962520"/>
            <a:ext cx="762120" cy="228600"/>
            <a:chOff x="5029200" y="3962520"/>
            <a:chExt cx="762120" cy="228600"/>
          </a:xfrm>
        </p:grpSpPr>
        <p:sp>
          <p:nvSpPr>
            <p:cNvPr id="399" name=""/>
            <p:cNvSpPr/>
            <p:nvPr/>
          </p:nvSpPr>
          <p:spPr>
            <a:xfrm>
              <a:off x="502920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41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386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913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400440" y="3962520"/>
            <a:ext cx="762120" cy="228600"/>
            <a:chOff x="6400440" y="3962520"/>
            <a:chExt cx="762120" cy="228600"/>
          </a:xfrm>
        </p:grpSpPr>
        <p:sp>
          <p:nvSpPr>
            <p:cNvPr id="405" name=""/>
            <p:cNvSpPr/>
            <p:nvPr/>
          </p:nvSpPr>
          <p:spPr>
            <a:xfrm>
              <a:off x="71625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102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76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04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609588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0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40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419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297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47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3120" y="502920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5 q L / 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08520" y="5629320"/>
            <a:ext cx="1264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25760" y="25002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4944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8772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7312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3968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4731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54944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254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017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1176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1176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57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30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352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401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4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545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591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640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5760" y="22716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25760" y="2957400"/>
            <a:ext cx="370836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7400" y="1600200"/>
            <a:ext cx="1748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RE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2576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996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2576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6404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163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2576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4472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25760" y="394812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576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3452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0244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7844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6120" y="388620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62576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06404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6836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6020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6840" y="4710240"/>
            <a:ext cx="105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.4 q 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76080" y="5410080"/>
            <a:ext cx="1543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ex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8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4560" y="5791320"/>
            <a:ext cx="1445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069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876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9244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9244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472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45384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6036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3524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5456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2576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377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78040" y="3962520"/>
            <a:ext cx="762120" cy="228600"/>
            <a:chOff x="1778040" y="3962520"/>
            <a:chExt cx="762120" cy="228600"/>
          </a:xfrm>
        </p:grpSpPr>
        <p:sp>
          <p:nvSpPr>
            <p:cNvPr id="478" name=""/>
            <p:cNvSpPr/>
            <p:nvPr/>
          </p:nvSpPr>
          <p:spPr>
            <a:xfrm>
              <a:off x="17780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03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829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7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401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266720" y="3962520"/>
            <a:ext cx="762120" cy="228600"/>
            <a:chOff x="4266720" y="3962520"/>
            <a:chExt cx="762120" cy="228600"/>
          </a:xfrm>
        </p:grpSpPr>
        <p:sp>
          <p:nvSpPr>
            <p:cNvPr id="484" name=""/>
            <p:cNvSpPr/>
            <p:nvPr/>
          </p:nvSpPr>
          <p:spPr>
            <a:xfrm>
              <a:off x="50288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5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239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3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67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 flipV="1">
            <a:off x="2844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04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57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6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545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52680" y="5029200"/>
            <a:ext cx="109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1.1 q L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71600" y="5410080"/>
            <a:ext cx="12596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1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6476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62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96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218960" cy="30456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cubicBezTo>
                  <a:pt x="128" y="96"/>
                  <a:pt x="256" y="192"/>
                  <a:pt x="384" y="192"/>
                </a:cubicBezTo>
                <a:cubicBezTo>
                  <a:pt x="512" y="192"/>
                  <a:pt x="704" y="32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2514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7432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2783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57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971800"/>
            <a:ext cx="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0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7100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483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28840" y="5419800"/>
            <a:ext cx="161640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in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25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42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3240" y="35053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120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12200" y="3565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2000" y="30481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8520" y="3581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400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90680" y="36576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4680" y="36417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7000" y="402264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25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632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20:44:04Z</dcterms:created>
  <dc:creator>Alejandro Espinoza G.</dc:creator>
  <dc:description/>
  <dc:language>en-US</dc:language>
  <cp:lastModifiedBy>instapanel</cp:lastModifiedBy>
  <cp:lastPrinted>2000-07-12T07:28:50Z</cp:lastPrinted>
  <dcterms:modified xsi:type="dcterms:W3CDTF">2008-10-12T20:23:15Z</dcterms:modified>
  <cp:revision>246</cp:revision>
  <dc:subject/>
  <dc:title>Sin título de diapositiva</dc:title>
</cp:coreProperties>
</file>