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1DD-23D8-4654-A5A1-1E52D8FE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F4C-FECB-4F6E-9B90-1D2D1109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5E6-5ACF-4FAB-BF8C-B4989E30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A24-1584-468A-834C-3203D106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5AE-4A67-4605-ABC4-4B31B1D7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F17-73C1-439C-8811-44032D7D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D32-A4D6-4F29-9AB1-375DD65A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B87-4F72-4E32-9D71-39A875AB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503-6691-432F-8B62-73FAFF71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16F-28F5-4C0D-876F-92121FF5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77C-A9C6-45C9-AAA5-4C969361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D28-BEA8-4084-8BD9-2D670B9F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BCF4-8930-4F22-A9C1-0361A811D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io Buldrin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97" name="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0600" y="1862280"/>
            <a:ext cx="4762800" cy="31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24360" y="5877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5950080"/>
            <a:ext cx="1727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826920" y="3429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3716280"/>
            <a:ext cx="532944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508640"/>
            <a:ext cx="43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óxima semana: se define el diseño, Deben entregar planos definitivos (hasta 24hrs después de la cl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68" name="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Contador de bo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Aviso de Listo, lo actúa el gati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Uchile</cp:lastModifiedBy>
  <dcterms:modified xsi:type="dcterms:W3CDTF">2008-10-07T13:44:49Z</dcterms:modified>
  <cp:revision>55</cp:revision>
  <dc:subject/>
  <dc:title>EI1B2 Introducción a la Ingeneiría II</dc:title>
</cp:coreProperties>
</file>