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22E-75F4-4599-AF99-71ABF208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706-8DCD-4B6E-8042-0399CAA8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1E6-27BC-45E3-A04E-2FE516A1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816-35CD-4043-83B2-0892402F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4B9-C5D7-4442-B290-04CCE371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2CD8-0A78-4C0B-A130-B1FF5633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531-C2CA-4CAB-8705-CD12520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FF60-AF74-4698-919E-C3F8035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D281-CFD5-42C4-9F26-616CF82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2B63-743D-4969-83E7-235B229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7CF7-492E-49C8-907B-D7A08D3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3E2-3ABA-4B3E-9048-A47B576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E62-345E-4D99-AEC7-5397054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FA7B-9C75-4299-B58C-BCFFCA6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2AA-1CB1-4E18-81C7-0A71C8D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79D-EC12-401C-A136-1CE2DC8B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7A15-8058-4D20-9657-AC1B8B1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BCF-C9FC-4020-8E96-6DE2F1B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393-F2D1-4672-8B2E-4E69CCED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4F2-3945-45BA-81D4-65E56C6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96E-917C-4797-9627-E9C63FD2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13E-A7FB-47A5-A7D1-7723A83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399-B61D-402D-8679-B1B358F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A46-F9DC-46DF-A450-F7EB0020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40CD-8E58-4FBF-B60C-A6252A4C7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DBB-E0B0-4D01-91C8-7D888658684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23888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servo mo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ic a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el control de  los servos del curso se utilizará un pic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6F873A  dip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la próxima semana programen el movimiento en 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area individ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391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a a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08200" y="2017800"/>
            <a:ext cx="672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 de pul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movimiento de un motor servo depende del ancho de un pulso que se le envía al 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eriodo  de este pulso de manera estándar es 20ms  pero el ancho del pulso puede variar desde 1ms a 2ms o desde 0.5ms a 2.5ms dependiendo del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uls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571644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información para controlar la placa se envía en bits, cuyos valores van desde 0 a 25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rograma recibe 3 tipos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síncro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Número de 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Posición dese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íncron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7172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un numero fijo, estándar para todo 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Numero de motor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o una placa de control de un servomotor  puede controlar hasta 8 motores simultáneamente, por lo que el numero a enviar esta entre 0 y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7929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sición deseada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pende del rango del mot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±45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pulso entre 1ms y 2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±90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pulso entre 0.5ms y 2.5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envía un numero entre 0 y 254, que represente el ángulo deseado según el rango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9:44:10Z</dcterms:created>
  <dc:creator>usuario</dc:creator>
  <dc:description/>
  <dc:language>en-US</dc:language>
  <cp:lastModifiedBy>WinuE</cp:lastModifiedBy>
  <dcterms:modified xsi:type="dcterms:W3CDTF">2008-08-19T21:48:10Z</dcterms:modified>
  <cp:revision>14</cp:revision>
  <dc:subject/>
  <dc:title>Modelo Mano antropomórfica  de dos articulaciones</dc:title>
</cp:coreProperties>
</file>