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735-9EF5-4C1A-95C1-FD377CB1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500-B052-48A5-B179-7DBB4B7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663-52CA-409D-872E-5789B050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E25-C737-4A1E-8605-1333F27D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C8A-3F8E-44BC-B92E-B0DBB2C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C80-D68E-4E28-833A-7528BF1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3DD-E480-4597-8118-4DF299AE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083-0ECD-42A5-B835-89C0FBFE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B56-961A-4EC0-B3BA-5BF6114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BDF-B47B-48C9-B9A7-8E19CCC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BD8-492A-4F9F-A4CA-AF50A0A1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859-F611-45C8-879F-214A4A6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60C4-AACC-45C4-9073-DBBEF35630AE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7AA8-2A19-45A8-A925-EEAFB28560F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Proyecto: Corral de New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Luis Argomed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Ingeniero Civil en Materiales, FCFM, profesor de estado en Física y Ciencias Naturales, Coordinador Área de Ciencias, Colegio Compañía de María Apoquin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Nelson Zamor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Académico Departamento de Física, FCFM, Universidad de Chile, Director Escuela de Verano para estudiantes de Enseñanza Me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logo1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cfm"/>
          <p:cNvPicPr/>
          <p:nvPr/>
        </p:nvPicPr>
        <p:blipFill>
          <a:blip r:embed="rId2"/>
          <a:stretch/>
        </p:blipFill>
        <p:spPr>
          <a:xfrm>
            <a:off x="38160" y="46080"/>
            <a:ext cx="19620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28800" y="581040"/>
            <a:ext cx="7286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6320" y="600120"/>
            <a:ext cx="71913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42920" y="184680"/>
            <a:ext cx="7572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DESCRIPCIÓN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nte el último año hemos utilizado una estructura, que denominamos </a:t>
            </a:r>
            <a:r>
              <a:rPr b="0" i="1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 de Newton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 que consiste en una estructura similar a la que aparece en la figura para ilustrar conceptos físicos.  Por 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scilaciones ( pénd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rque ( palan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hoques (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vimientos( 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SC02035"/>
          <p:cNvPicPr/>
          <p:nvPr/>
        </p:nvPicPr>
        <p:blipFill>
          <a:blip r:embed="rId1"/>
          <a:stretch/>
        </p:blipFill>
        <p:spPr>
          <a:xfrm>
            <a:off x="928800" y="2500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2036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SC00172"/>
          <p:cNvPicPr/>
          <p:nvPr/>
        </p:nvPicPr>
        <p:blipFill>
          <a:blip r:embed="rId1"/>
          <a:stretch/>
        </p:blipFill>
        <p:spPr>
          <a:xfrm>
            <a:off x="642960" y="500040"/>
            <a:ext cx="2928960" cy="401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57200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largomed\Desktop\Desktop\FotosLab\P1000984.JPG"/>
          <p:cNvPicPr/>
          <p:nvPr/>
        </p:nvPicPr>
        <p:blipFill>
          <a:blip r:embed="rId3"/>
          <a:stretch/>
        </p:blipFill>
        <p:spPr>
          <a:xfrm>
            <a:off x="5072040" y="3786120"/>
            <a:ext cx="3000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 flipV="1" rot="10800000">
            <a:off x="500040" y="1258200"/>
            <a:ext cx="85010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1.-  Mejorar la estructura. 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(Equipo de Taller Escuela de Dise</a:t>
            </a:r>
            <a:r>
              <a:rPr b="0" lang="es-ES" sz="1100" spc="-1" strike="noStrike">
                <a:solidFill>
                  <a:srgbClr val="336699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o, Facultad de Arquitectura y Urbanismo, Universidad de Chile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be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 de armar y guardar: Esto para optimizar el tiempo en la clase. Simult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eamente debe mantener esa fase de trabajo en grupo, para crear la necesidad de conversar y exponer sus puntos de vis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Uniones: Algunas de estas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de modo que sea algo a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omo instalar y apretar con un 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 gi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herramientas: Las llaves que se usan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exclusivamente para este aparato, para evitar p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didas de herramientas y se adapten a la mano de los ni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Creatividad: La estructura misma podr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ser m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 creativa, con colores y formas llamativ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Costos: Los elementos para realizar los experimentos, no pueden ser caros y deben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mente reemplaz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 flipV="1" rot="10800000">
            <a:off x="214200" y="298440"/>
            <a:ext cx="68025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2.- Dise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r un par de Gu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í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s auto-contenidas que acompa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en al corral con los siguientes te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Choqu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- Péndu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3340800"/>
            <a:ext cx="58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3.- Probar el  nuevo diseño y las guías auto-contenidas en  al menos dos coleg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19960" cy="56005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232720" y="1429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racterísticas  técn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4480" y="676440"/>
            <a:ext cx="71150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14480" y="657360"/>
            <a:ext cx="71150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66106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3:45:34Z</dcterms:created>
  <dc:creator>largomed</dc:creator>
  <dc:description/>
  <dc:language>en-US</dc:language>
  <cp:lastModifiedBy>largomed</cp:lastModifiedBy>
  <dcterms:modified xsi:type="dcterms:W3CDTF">2008-07-28T18:39:20Z</dcterms:modified>
  <cp:revision>20</cp:revision>
  <dc:subject/>
  <dc:title>Proyecto: Corral de Newton</dc:title>
</cp:coreProperties>
</file>