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B615-8CB3-4700-BCFE-FC9A02CB0B1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CBBE-6AB8-408D-80A9-91913E79AD4A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8362-8DD4-4533-BC54-E19AAD387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C25C-7006-4023-AACB-512A4680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C355-25FC-4053-B451-9D6A10104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392A-0896-4181-A345-A5A44ADE4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21F8-60A0-4D5E-BEC3-A8593BA0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D428-60A2-4893-BBB4-CE8BD148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819B-6D11-4F92-BF24-6FE0ABDE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1270-C717-4D90-84F7-70BAC4D4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D122-0E19-4329-895E-F4A7E177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EE79-9EEF-4977-A79E-7C4B0061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54A7-23F9-497E-B816-BD1A9797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DC5C-EEF2-4D70-833A-F0609A43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7E73-FA6B-4A24-9DE8-57CDD6CD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24B1-2E75-4265-BF51-371A53F6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ADAF-84FD-4D47-B161-7C4230EA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D210-39AA-4FC9-AC4D-FBE95036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6794-5BAB-413D-9C87-C8017288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D4DD-3646-418B-8DFD-214139C8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AF58-7DD3-4534-B362-C08A5A41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CDFD-34B3-4612-937C-E4C681F8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D93D-CEBA-4A09-8BAB-97C0C74C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385B-714D-40C2-BF0D-68DD1EA0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C040-464E-4BD5-A4EF-F4657502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BF6A-9765-4AAD-85E1-2E0DF24D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330B-10B6-43A7-A499-B9DD308DFAF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D0E5-186B-4FD4-B4C9-751B12EDF5E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b7"/>
                </a:solidFill>
                <a:latin typeface="Calibri"/>
              </a:rPr>
              <a:t>Ventilab</a:t>
            </a:r>
            <a:br>
              <a:rPr sz="6600"/>
            </a:br>
            <a:r>
              <a:rPr b="1" lang="en-US" sz="2000" spc="-1" strike="noStrike">
                <a:solidFill>
                  <a:srgbClr val="ffffb7"/>
                </a:solidFill>
                <a:latin typeface="Calibri"/>
              </a:rPr>
              <a:t>Proyecto de Ventilación Renovable</a:t>
            </a:r>
            <a:br>
              <a:rPr sz="48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217920" y="5229000"/>
            <a:ext cx="26017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Arial"/>
              </a:rPr>
              <a:t>Profesor de cátedra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Arial"/>
              </a:rPr>
              <a:t>Rodrigo Palm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Arial"/>
              </a:rPr>
              <a:t>Ayudante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Arial"/>
              </a:rPr>
              <a:t>Leonardo Stari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3 CuadroTexto"/>
          <p:cNvSpPr/>
          <p:nvPr/>
        </p:nvSpPr>
        <p:spPr>
          <a:xfrm>
            <a:off x="468360" y="5229360"/>
            <a:ext cx="36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alibri"/>
              </a:rPr>
              <a:t>Integran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alibri"/>
              </a:rPr>
              <a:t>Claudia Aravena V.</a:t>
            </a:r>
            <a:br>
              <a:rPr sz="1800"/>
            </a:br>
            <a:r>
              <a:rPr b="0" lang="es-CL" sz="1800" spc="-1" strike="noStrike">
                <a:solidFill>
                  <a:srgbClr val="ffffff"/>
                </a:solidFill>
                <a:latin typeface="Calibri"/>
              </a:rPr>
              <a:t>Eleyn Kennedy 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alibri"/>
              </a:rPr>
              <a:t>Gianfranco Liberona 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14941" b="14898"/>
          <a:stretch/>
        </p:blipFill>
        <p:spPr>
          <a:xfrm>
            <a:off x="1403280" y="1484280"/>
            <a:ext cx="5905440" cy="4430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5 CuadroTexto"/>
          <p:cNvSpPr/>
          <p:nvPr/>
        </p:nvSpPr>
        <p:spPr>
          <a:xfrm>
            <a:off x="395280" y="134136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6 Rectángulo"/>
          <p:cNvSpPr/>
          <p:nvPr/>
        </p:nvSpPr>
        <p:spPr>
          <a:xfrm>
            <a:off x="395280" y="2133720"/>
            <a:ext cx="8072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l sistema de ventilación cumple la función de mejorar la calidad de aire presente en el laboratorio del segundo subnivel del edif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l trabajo en equipo fue importante para lograr el diseño y puesta en funcionamiento del siste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ún así, no se pudo completar la parte final de la instalación del proyecto, que consistía en perforar una parte del portón que separa el laboratorio del exteri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 existe la oportunidad, el grupo se compromete a terminar esta parte del proyecto voluntariament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408720" cy="4805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5 CuadroTexto"/>
          <p:cNvSpPr/>
          <p:nvPr/>
        </p:nvSpPr>
        <p:spPr>
          <a:xfrm>
            <a:off x="533520" y="1268280"/>
            <a:ext cx="82152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tiv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Mala calidad del aire en el laboratorio del -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Sistema de renovación de aire alimentado con energía so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lc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Renovará gran parte del aire del sec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o se purificar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Sistema de alimentación alterna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4496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5 CuadroTexto"/>
          <p:cNvSpPr/>
          <p:nvPr/>
        </p:nvSpPr>
        <p:spPr>
          <a:xfrm>
            <a:off x="468360" y="1268280"/>
            <a:ext cx="82152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bjetivo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Mejorar la calidad del aire respirado por los usu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bjetivos específ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Uso de energía so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Fomentar uso de energías renovables en la FCF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rabajo en Equip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5 CuadroTexto"/>
          <p:cNvSpPr/>
          <p:nvPr/>
        </p:nvSpPr>
        <p:spPr>
          <a:xfrm>
            <a:off x="468360" y="1197000"/>
            <a:ext cx="8215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uerpo del traba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stado del arte y antecedentes  generales: contexto   mundial respecto al uso de la energía so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Group 15"/>
          <p:cNvGrpSpPr/>
          <p:nvPr/>
        </p:nvGrpSpPr>
        <p:grpSpPr>
          <a:xfrm>
            <a:off x="4957920" y="3933720"/>
            <a:ext cx="3143160" cy="2286000"/>
            <a:chOff x="4957920" y="3933720"/>
            <a:chExt cx="3143160" cy="2286000"/>
          </a:xfrm>
        </p:grpSpPr>
        <p:pic>
          <p:nvPicPr>
            <p:cNvPr id="119" name="Picture 2" descr="http://ocio.quitua.com.mx/blogs/media/Paneles%20Solares.jpg"/>
            <p:cNvPicPr/>
            <p:nvPr/>
          </p:nvPicPr>
          <p:blipFill>
            <a:blip r:embed="rId1"/>
            <a:stretch/>
          </p:blipFill>
          <p:spPr>
            <a:xfrm>
              <a:off x="5029200" y="4005360"/>
              <a:ext cx="300060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7 Rectángulo"/>
            <p:cNvSpPr/>
            <p:nvPr/>
          </p:nvSpPr>
          <p:spPr>
            <a:xfrm>
              <a:off x="4957920" y="3933720"/>
              <a:ext cx="3143160" cy="22860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" name="Group 16"/>
          <p:cNvGrpSpPr/>
          <p:nvPr/>
        </p:nvGrpSpPr>
        <p:grpSpPr>
          <a:xfrm>
            <a:off x="971640" y="3933720"/>
            <a:ext cx="3600360" cy="2303640"/>
            <a:chOff x="971640" y="3933720"/>
            <a:chExt cx="3600360" cy="2303640"/>
          </a:xfrm>
        </p:grpSpPr>
        <p:pic>
          <p:nvPicPr>
            <p:cNvPr id="122" name="Picture 13" descr=""/>
            <p:cNvPicPr/>
            <p:nvPr/>
          </p:nvPicPr>
          <p:blipFill>
            <a:blip r:embed="rId2"/>
            <a:stretch/>
          </p:blipFill>
          <p:spPr>
            <a:xfrm>
              <a:off x="1040400" y="4015080"/>
              <a:ext cx="3462840" cy="21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Rectangle 14"/>
            <p:cNvSpPr/>
            <p:nvPr/>
          </p:nvSpPr>
          <p:spPr>
            <a:xfrm>
              <a:off x="971640" y="3933720"/>
              <a:ext cx="3600360" cy="23036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3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5 CuadroTexto"/>
          <p:cNvSpPr/>
          <p:nvPr/>
        </p:nvSpPr>
        <p:spPr>
          <a:xfrm>
            <a:off x="468360" y="1268280"/>
            <a:ext cx="82152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uerpo del traba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todología, material y méto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Se realizó una encuesta a los usuarios para determinar los requerimientos mínimos que debía poseer el proyec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Se estimó la cantidad mínima de aire que se debe poner en movimiento para que crear una corriente que aligere la concentración de material particul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792000" y="1700280"/>
          <a:ext cx="7596360" cy="4809960"/>
        </p:xfrm>
        <a:graphic>
          <a:graphicData uri="http://schemas.openxmlformats.org/drawingml/2006/table">
            <a:tbl>
              <a:tblPr/>
              <a:tblGrid>
                <a:gridCol w="3799080"/>
                <a:gridCol w="3797280"/>
              </a:tblGrid>
              <a:tr h="401400">
                <a:tc gridSpan="2">
                  <a:txBody>
                    <a:bodyPr lIns="39600" rIns="39600" tIns="0" bIns="0" anchor="t">
                      <a:noAutofit/>
                    </a:bodyPr>
                    <a:p>
                      <a:pPr marL="684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240"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 ¿Cuánto tiempo está usted dentro del laboratorio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n promedio, 6-8 hor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 ¿Qué actividades específicamente realiza usted allí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truir circuito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arrollar piezas de motores, maquinaria en general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4920"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 ¿Cuál es su principal molestia respecto a la falta de ventilación en el sector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b7"/>
                          </a:solidFill>
                          <a:latin typeface="Arial"/>
                          <a:ea typeface="Times New Roman"/>
                        </a:rPr>
                        <a:t>Dolor de cabeza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l olor, producto de combustion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scasez de oxígeno, debido al gran nivel de material particulado disuelto en el aire del lugar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1080">
                <a:tc>
                  <a:txBody>
                    <a:bodyPr lIns="60840" rIns="608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. ¿Qué es lo que usted espera de la ventilación del laboratorio del -2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b7"/>
                          </a:solidFill>
                          <a:latin typeface="Arial"/>
                          <a:ea typeface="Times New Roman"/>
                        </a:rPr>
                        <a:t>Que la solución no tenga efectos nocivos en el área de trabajo, como ruidos, calor, o uso excesivo de espaci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b7"/>
                          </a:solidFill>
                          <a:latin typeface="Arial"/>
                          <a:ea typeface="Times New Roman"/>
                        </a:rPr>
                        <a:t>Que sea segur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99ff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Que no se note que estamos en un subterráneo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20720" y="906120"/>
            <a:ext cx="8245440" cy="12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Resultados</a:t>
            </a:r>
            <a:r>
              <a:rPr b="1" lang="es-CL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Encuesta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2750" t="4821" r="38675" b="8018"/>
          <a:stretch/>
        </p:blipFill>
        <p:spPr>
          <a:xfrm>
            <a:off x="201600" y="260280"/>
            <a:ext cx="12747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5 CuadroTexto"/>
          <p:cNvSpPr/>
          <p:nvPr/>
        </p:nvSpPr>
        <p:spPr>
          <a:xfrm>
            <a:off x="538200" y="1293840"/>
            <a:ext cx="82486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lución Propue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stema de extracción de aire, alimentado por energía solar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 extraerá aire desde el laboratorio hacia el exterior, con un  flujo adecu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umplirá los requerimientos de seguridad, poco uso de espacio, y bajo nivel de ruido emitido, determinados a través de la encue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68360" y="1819440"/>
            <a:ext cx="4319640" cy="5038560"/>
            <a:chOff x="468360" y="1819440"/>
            <a:chExt cx="4319640" cy="503856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rcRect l="5996" t="7118" r="31004" b="0"/>
            <a:stretch/>
          </p:blipFill>
          <p:spPr>
            <a:xfrm>
              <a:off x="684360" y="1989000"/>
              <a:ext cx="3848040" cy="4392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138" name=""/>
            <p:cNvSpPr/>
            <p:nvPr/>
          </p:nvSpPr>
          <p:spPr>
            <a:xfrm>
              <a:off x="819000" y="6148440"/>
              <a:ext cx="233640" cy="12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70440" y="2917800"/>
              <a:ext cx="5839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6600"/>
                  </a:solidFill>
                  <a:latin typeface="Courier New"/>
                </a:rPr>
                <a:t>(1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85920" y="4113360"/>
              <a:ext cx="5824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6600"/>
                  </a:solidFill>
                  <a:latin typeface="Courier New"/>
                </a:rPr>
                <a:t>(2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1640" y="5632560"/>
              <a:ext cx="58428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6600"/>
                  </a:solidFill>
                  <a:latin typeface="Courier New"/>
                </a:rPr>
                <a:t>(3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34920" y="6407280"/>
              <a:ext cx="5842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Courier New"/>
                </a:rPr>
                <a:t>(4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34920" y="6278400"/>
              <a:ext cx="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8360" y="1819440"/>
              <a:ext cx="4319640" cy="5038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19280" y="1989000"/>
              <a:ext cx="5824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6600"/>
                  </a:solidFill>
                  <a:latin typeface="Courier New"/>
                </a:rPr>
                <a:t>(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2583000" cy="1936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Rectángulo"/>
          <p:cNvSpPr/>
          <p:nvPr/>
        </p:nvSpPr>
        <p:spPr>
          <a:xfrm>
            <a:off x="5076720" y="189000"/>
            <a:ext cx="389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I2A7– Taller de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scuela de Ingeniería y Cienc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Facultad de Ciencias Físicas y Matemát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5 CuadroTexto"/>
          <p:cNvSpPr/>
          <p:nvPr/>
        </p:nvSpPr>
        <p:spPr>
          <a:xfrm>
            <a:off x="533520" y="126828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uncionamiento del sistema (Conexió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8 CuadroTexto"/>
          <p:cNvSpPr/>
          <p:nvPr/>
        </p:nvSpPr>
        <p:spPr>
          <a:xfrm>
            <a:off x="5964120" y="2665440"/>
            <a:ext cx="3071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neles Sola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ulador de car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terí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er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yecto Venti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6 Grupo"/>
          <p:cNvGrpSpPr/>
          <p:nvPr/>
        </p:nvGrpSpPr>
        <p:grpSpPr>
          <a:xfrm>
            <a:off x="900000" y="2503440"/>
            <a:ext cx="4572000" cy="3373560"/>
            <a:chOff x="900000" y="2503440"/>
            <a:chExt cx="4572000" cy="3373560"/>
          </a:xfrm>
        </p:grpSpPr>
        <p:pic>
          <p:nvPicPr>
            <p:cNvPr id="152" name="Picture 7" descr="Conexión"/>
            <p:cNvPicPr/>
            <p:nvPr/>
          </p:nvPicPr>
          <p:blipFill>
            <a:blip r:embed="rId1"/>
            <a:stretch/>
          </p:blipFill>
          <p:spPr>
            <a:xfrm>
              <a:off x="900000" y="2503440"/>
              <a:ext cx="4572000" cy="33735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153" name="Rectangle 8"/>
            <p:cNvSpPr/>
            <p:nvPr/>
          </p:nvSpPr>
          <p:spPr>
            <a:xfrm>
              <a:off x="2414520" y="3503520"/>
              <a:ext cx="3427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087640" y="26478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Calibri"/>
              </a:rPr>
              <a:t>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27280" y="35845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64000" y="380052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06920" y="3656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06560" y="51688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(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rcRect l="2750" t="4821" r="38675" b="8018"/>
          <a:stretch/>
        </p:blipFill>
        <p:spPr>
          <a:xfrm>
            <a:off x="250920" y="260280"/>
            <a:ext cx="12240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2:17:56Z</dcterms:created>
  <dc:creator>Claudia</dc:creator>
  <dc:description/>
  <dc:language>en-US</dc:language>
  <cp:lastModifiedBy>clauarav</cp:lastModifiedBy>
  <dcterms:modified xsi:type="dcterms:W3CDTF">2008-07-09T20:34:31Z</dcterms:modified>
  <cp:revision>65</cp:revision>
  <dc:subject/>
  <dc:title>Diapositiva 1</dc:title>
</cp:coreProperties>
</file>