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D50-0B93-495A-A9A1-E1EED0D9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D80-82F1-4D7C-B84F-A1BCFF5D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6EF-1B8E-4913-A27C-3F890FF5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3B2-B6C4-4C3E-887A-A0249D20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B35A-2C38-47EB-94C4-221BD4F5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6042-ABC9-4F99-833D-DF8CAF53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00E6-4438-43D6-81AB-D7213DAF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9BA9-80D6-40F9-B7FD-EC13420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CBA6-3C57-4D98-BCBA-31B8A22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3428-1D79-482A-89DF-DCA3F70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FE46-A0E3-4A73-A4EB-846B18F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783-4034-4AD6-B823-F4CE23F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392E-3D8E-487A-8657-F281959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EF4-3E4D-46F9-8B0E-1912661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AD1D-FA4A-42C0-AA4C-11A4A9B6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B540-F2C0-4CA9-9A33-F5F905A5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20A-A119-4DA7-806A-D14B66CD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AAF4-B57D-43DB-9DAF-3567C1A7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A2FE-2D88-4BEA-B427-91978352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F5DA-E6C7-4033-A6FB-515874F7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279B-D78F-4F28-82A3-7BC7CAE0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8808-3F48-4E81-B670-F610A14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D37-EE78-43C8-BE7E-7B45C5E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61CE-1D52-4F92-BBC3-C415AB94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7106-4141-4409-BD74-B096DEF4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B6C1-A09C-4E77-BAC4-2F9CBFC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07ED-37CC-496C-8415-AB0AC7E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4DAE-6F8D-4AF7-AA00-52D3F4F9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3468-0191-4151-8C64-741F1C79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A085-0F58-4D5F-AFB7-BB566408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4FBC-B7C2-4A06-B065-74E4AB12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3570-BCDE-4B7C-89DC-9E3506E4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35B3-D104-43B9-BD54-C299AD7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47E-8744-44EB-BCC7-706B00AC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5720-CB5D-4E14-9873-4BF8033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8481-A99E-4234-BF7D-BBCB6703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89A0-D74B-432A-AE9F-935301D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F067-8B7F-4DE4-89E6-E9B9844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71AF-8596-4B47-B716-AB47A98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0354-B18A-413A-81DD-32FB7B3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20A0-1D03-4E8D-A691-4C6D5D0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83AF-ABD5-4150-AD15-95BCEC25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DF2B-4163-4132-AF1C-8B276B2F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6F03-9ED0-4092-8146-A05BD483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D0F-BBE5-49B3-B065-63C7C458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D6B9-5B06-4034-A21E-2219ED9B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B6F0-549D-4EC8-812E-9B9DDF9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0BFA1-812E-4CC0-8EB3-689394C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ACFF-ED2B-4A05-BDA3-6DEF3DD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51B2-AC89-4502-A90D-B2324620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2900D-4F00-4D87-93CB-08FD978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AD42-3A0B-4CF8-A383-049E5E7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3DCF-DB0B-4DFA-B3CD-2036D946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BC14-D3B9-4DF6-8D4B-C9DEC12E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9815-734A-4152-92FD-1A327B83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876-CA71-4D23-8A65-B50A673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F2B3-C995-4E4C-9578-3A5307E3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B632-3920-491A-88FF-449BA7AF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B1D89-A000-4BD5-B185-DE58CC64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75DE-6487-45BB-82AF-3323A8C8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58BF-478F-4B15-BF54-C796D2E4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564D-F518-43F7-846D-F54B8E0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DF93-EF89-46B0-825E-284C5948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1B1E-AC44-4DBE-909C-DB0EE05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D916-F8F1-43AA-AD11-91F020A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D711-E2A5-4529-963B-85876AD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3E7-4391-46C6-9640-1FC9334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78E4-3EB9-4179-802F-EB13E36D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4A377-1420-4C54-8357-C7E16802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E857-1212-4AEB-BD9A-592C61C3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BF3-DB34-40CF-8771-98C4B85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CE6-4E5B-461C-8625-6E7339F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7F79-8A00-4831-8E15-2B197BBAF05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79A-CED6-448A-B5DF-5FDAA92CC09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908C-32DB-4BC9-A1CE-6CEE7DDB9D44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44D-6F99-4395-A6A0-21F601B7433B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E71-669C-4082-A179-4CFB78A9D04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5FD-10FC-4161-B366-0F4106FB35C3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S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olar </a:t>
            </a:r>
            <a:r>
              <a:rPr b="0" lang="es-CL" sz="6700" spc="-1" strike="noStrike">
                <a:solidFill>
                  <a:srgbClr val="ff0000"/>
                </a:solidFill>
                <a:latin typeface="AddCityboy"/>
              </a:rPr>
              <a:t>C</a:t>
            </a:r>
            <a:r>
              <a:rPr b="0" lang="es-CL" sz="6700" spc="-1" strike="noStrike">
                <a:solidFill>
                  <a:srgbClr val="ffffff"/>
                </a:solidFill>
                <a:latin typeface="AddCityboy"/>
              </a:rPr>
              <a:t>harger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4429080" y="37148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ebastián Ava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ernán  Don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ichard We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or: Rodrigo Pal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nte: Ignacio Po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5 Imagen" descr="Solar Charger X copia.gif"/>
          <p:cNvPicPr/>
          <p:nvPr/>
        </p:nvPicPr>
        <p:blipFill>
          <a:blip r:embed="rId1"/>
          <a:stretch/>
        </p:blipFill>
        <p:spPr>
          <a:xfrm>
            <a:off x="1000080" y="328608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2 CuadroTexto"/>
          <p:cNvSpPr/>
          <p:nvPr/>
        </p:nvSpPr>
        <p:spPr>
          <a:xfrm>
            <a:off x="785880" y="185724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oduc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ance del Proy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c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reación y Construcció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ción Circuito Eléct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2 CuadroTexto"/>
          <p:cNvSpPr/>
          <p:nvPr/>
        </p:nvSpPr>
        <p:spPr>
          <a:xfrm>
            <a:off x="311400" y="1785960"/>
            <a:ext cx="86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otivación: La utilización del celular como medio de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uelve cada vez mas frecuente ,el incentivo al ahorro energ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 la utilización de energías renovables convergen en la idea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 Cha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jetivos: Construcción de un producto capaz de cargar celul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upando energía renovable (en este caso de tipo solar) ,que sea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ácil utilización y seguro para el que desee cargar su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cance del Proy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uest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2 CuadroTexto"/>
          <p:cNvSpPr/>
          <p:nvPr/>
        </p:nvSpPr>
        <p:spPr>
          <a:xfrm>
            <a:off x="571680" y="1143000"/>
            <a:ext cx="778644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alizo una encuesta vía internet a 100 personas donde se les pregunta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as relacionados con el uso que hacían de su celular  para así tener u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de lo que seria la curva de demanda que presentaría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as preguntas mas relevantes se destacan los siguientes result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86% de los encuestados mantiene su celulares prendido todo el día incluyen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che ;un 61% carga su celular cada 3 días  y un 34%  una vez cada semana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53% respon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ía muy dispuesto a dejarlo cargando mientras hacen ot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 mientras que el lugar sea lo suficientemente seguro mientras que un 32% 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ría pero quedaría preocup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ipo de conexión de la batería de mi celular es (de arriba hacia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jo 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%    - 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%    - 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   -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%  - 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   - 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 - 6                                                                 1               2               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%  - Otros: Nokia nuevo, ot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es-MX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              5              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4"/>
          <p:cNvPicPr/>
          <p:nvPr/>
        </p:nvPicPr>
        <p:blipFill>
          <a:blip r:embed="rId1"/>
          <a:stretch/>
        </p:blipFill>
        <p:spPr>
          <a:xfrm>
            <a:off x="3857760" y="5786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1"/>
          <p:cNvPicPr/>
          <p:nvPr/>
        </p:nvPicPr>
        <p:blipFill>
          <a:blip r:embed="rId2"/>
          <a:stretch/>
        </p:blipFill>
        <p:spPr>
          <a:xfrm>
            <a:off x="385128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"/>
          <p:cNvPicPr/>
          <p:nvPr/>
        </p:nvPicPr>
        <p:blipFill>
          <a:blip r:embed="rId3"/>
          <a:stretch/>
        </p:blipFill>
        <p:spPr>
          <a:xfrm>
            <a:off x="4643280" y="471492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"/>
          <p:cNvPicPr/>
          <p:nvPr/>
        </p:nvPicPr>
        <p:blipFill>
          <a:blip r:embed="rId4"/>
          <a:stretch/>
        </p:blipFill>
        <p:spPr>
          <a:xfrm>
            <a:off x="4716360" y="57862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3"/>
          <p:cNvPicPr/>
          <p:nvPr/>
        </p:nvPicPr>
        <p:blipFill>
          <a:blip r:embed="rId5"/>
          <a:stretch/>
        </p:blipFill>
        <p:spPr>
          <a:xfrm>
            <a:off x="5429160" y="471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6"/>
          <p:cNvPicPr/>
          <p:nvPr/>
        </p:nvPicPr>
        <p:blipFill>
          <a:blip r:embed="rId6"/>
          <a:stretch/>
        </p:blipFill>
        <p:spPr>
          <a:xfrm>
            <a:off x="5500800" y="578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ión y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ñ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2 CuadroTexto"/>
          <p:cNvSpPr/>
          <p:nvPr/>
        </p:nvSpPr>
        <p:spPr>
          <a:xfrm>
            <a:off x="785880" y="178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3 CuadroTexto"/>
          <p:cNvSpPr/>
          <p:nvPr/>
        </p:nvSpPr>
        <p:spPr>
          <a:xfrm>
            <a:off x="606960" y="1714680"/>
            <a:ext cx="8085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rte del proyecto se divide en dos grandes et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mente que son la parte del circuito y la que correspon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 estructura que sustenta esté últi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4 CuadroTexto"/>
          <p:cNvSpPr/>
          <p:nvPr/>
        </p:nvSpPr>
        <p:spPr>
          <a:xfrm>
            <a:off x="651960" y="3286080"/>
            <a:ext cx="773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iendo el proceso a grandes rasg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mero que todo fue el planteamiento de cómo seria la apariencia del proy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s la parte que más se sugestiona en el as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uego ocupamos una gran parte de las reuniones en la creación del circuito c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 perfeccionándolo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do concluye con la parte de carpinteria donde se sustenta la base del proyecto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 que le da forma y lo exhi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ción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uito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éctrico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2 CuadroTexto"/>
          <p:cNvSpPr/>
          <p:nvPr/>
        </p:nvSpPr>
        <p:spPr>
          <a:xfrm>
            <a:off x="50004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 de los grandes retos para el grupo debido a la inexperiencia con respecto al trabajo con circui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C:\Documents and Settings\Hernan Donoso\My Documents\Mis archivos recibidos\Nueva carpeta\IMG_2669.JPG"/>
          <p:cNvPicPr/>
          <p:nvPr/>
        </p:nvPicPr>
        <p:blipFill>
          <a:blip r:embed="rId1"/>
          <a:stretch/>
        </p:blipFill>
        <p:spPr>
          <a:xfrm>
            <a:off x="4000680" y="27147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276" name="4 CuadroTexto"/>
          <p:cNvSpPr/>
          <p:nvPr/>
        </p:nvSpPr>
        <p:spPr>
          <a:xfrm>
            <a:off x="297720" y="2643120"/>
            <a:ext cx="353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Qué tipo de circuito hay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r?¿Qué debe contener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sea no afecte el funci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aparato móvil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ización  y compr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s y componen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arios para la elabo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ircu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blemas y soluciones  re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so de </a:t>
            </a: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tr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2 CuadroTexto"/>
          <p:cNvSpPr/>
          <p:nvPr/>
        </p:nvSpPr>
        <p:spPr>
          <a:xfrm>
            <a:off x="730440" y="1571760"/>
            <a:ext cx="761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duda el proceso que requirió más dedicación debido al arduo traba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pres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Documents and Settings\Hernan Donoso\My Documents\Mis archivos recibidos\Nueva carpeta\IMG_2665.JPG"/>
          <p:cNvPicPr/>
          <p:nvPr/>
        </p:nvPicPr>
        <p:blipFill>
          <a:blip r:embed="rId1"/>
          <a:stretch/>
        </p:blipFill>
        <p:spPr>
          <a:xfrm>
            <a:off x="5500800" y="2500200"/>
            <a:ext cx="3020760" cy="402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:\Documents and Settings\Hernan Donoso\My Documents\Mis archivos recibidos\Nueva carpeta\IMG_2643.JPG"/>
          <p:cNvPicPr/>
          <p:nvPr/>
        </p:nvPicPr>
        <p:blipFill>
          <a:blip r:embed="rId2"/>
          <a:stretch/>
        </p:blipFill>
        <p:spPr>
          <a:xfrm>
            <a:off x="428760" y="435780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Hernan Donoso\My Documents\Mis archivos recibidos\Nueva carpeta\IMG_2636.JPG"/>
          <p:cNvPicPr/>
          <p:nvPr/>
        </p:nvPicPr>
        <p:blipFill>
          <a:blip r:embed="rId3"/>
          <a:stretch/>
        </p:blipFill>
        <p:spPr>
          <a:xfrm>
            <a:off x="2214720" y="264312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12969 -0.17592 E">
                                      <p:cBhvr>
                                        <p:cTn id="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2 CuadroTexto"/>
          <p:cNvSpPr/>
          <p:nvPr/>
        </p:nvSpPr>
        <p:spPr>
          <a:xfrm>
            <a:off x="811080" y="1857240"/>
            <a:ext cx="77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o que respecta de construcción y montaje del proyecto el grupo ve esta et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Volviendo al objetivo primordial que es sustentar a la comunidad universi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un dispositivo que permita cargar sus celulares de una manera segura el gru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 cumplido el objetivo , además se le da el plus de ser atractivo a la 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mencionar la posible influencia que tenga sobre la comunidad estudiantil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o de ocupar energía so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lar Charger representa más que un dispositivo donde la gente puede car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celular ,puede ser visto como un símbolo que nos dice que hay energía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as veces no se considera ,que no le sacamos todo el provecho que está pu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nos ,especialmente en tiempos donde se habla mucho del ahorro energé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CL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Hernan Donoso\My Documents\Mis archivos recibidos\Nueva carpeta\IMG_2668.JPG"/>
          <p:cNvPicPr/>
          <p:nvPr/>
        </p:nvPicPr>
        <p:blipFill>
          <a:blip r:embed="rId1"/>
          <a:stretch/>
        </p:blipFill>
        <p:spPr>
          <a:xfrm>
            <a:off x="0" y="164304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Documents and Settings\Hernan Donoso\My Documents\My Pictures\SC\IMG_0217.jpg"/>
          <p:cNvPicPr/>
          <p:nvPr/>
        </p:nvPicPr>
        <p:blipFill>
          <a:blip r:embed="rId2"/>
          <a:stretch/>
        </p:blipFill>
        <p:spPr>
          <a:xfrm>
            <a:off x="5857920" y="1571760"/>
            <a:ext cx="3286080" cy="438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Hernan Donoso\My Documents\My Pictures\SC\IMG_0214.jpg"/>
          <p:cNvPicPr/>
          <p:nvPr/>
        </p:nvPicPr>
        <p:blipFill>
          <a:blip r:embed="rId3"/>
          <a:stretch/>
        </p:blipFill>
        <p:spPr>
          <a:xfrm>
            <a:off x="3000240" y="164304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3:41:57Z</dcterms:created>
  <dc:creator>hdonoso</dc:creator>
  <dc:description/>
  <dc:language>en-US</dc:language>
  <cp:lastModifiedBy>Wendler</cp:lastModifiedBy>
  <dcterms:modified xsi:type="dcterms:W3CDTF">2008-07-09T08:55:45Z</dcterms:modified>
  <cp:revision>28</cp:revision>
  <dc:subject/>
  <dc:title> asaas</dc:title>
</cp:coreProperties>
</file>