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4D43DF-B384-44D6-BEB0-CEE3027150E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466736-446D-442F-9BEF-02C2F4FA801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84320" y="8589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2480" y="5452560"/>
            <a:ext cx="520884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36FE-8493-43D9-BCAF-B3AE710DB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B1A0-9EAB-4E59-AB83-AEFC389A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8382-266A-4035-863B-79193BA1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69AA-7FC2-44FC-94F1-2BDDFA2EC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1EF3-60A8-4F23-98A9-24807F3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C5E8-0B72-413F-A82C-A6BBDE8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E9C0-909E-4359-ABCB-0B427C8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C64F-DCCC-41BC-944A-EFAC9F88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8CC6-FE06-4C2B-9E14-45C03C1B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6D24-157D-40EA-9CE0-E91F031E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5742-2F13-422F-86FD-845BF3E5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3806-2017-4A34-AF8E-53697CD3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DABA-0F29-44B1-97E1-AB38E92EADE9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gos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 y 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Gest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est Psicológicos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ivel Intelectual: Test Multifactorial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lógicamente estructurados.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proyectivos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12F3-CBD6-44B8-80DC-1E745AC192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3951-BD59-41A6-9D11-0667D2B737A0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9640" y="171360"/>
            <a:ext cx="4897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58880" y="15573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68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1297080"/>
            <a:ext cx="8569080" cy="5445000"/>
            <a:chOff x="324000" y="1297080"/>
            <a:chExt cx="8569080" cy="5445000"/>
          </a:xfrm>
        </p:grpSpPr>
        <p:sp>
          <p:nvSpPr>
            <p:cNvPr id="58" name="Puzzle4"/>
            <p:cNvSpPr/>
            <p:nvPr/>
          </p:nvSpPr>
          <p:spPr>
            <a:xfrm>
              <a:off x="5292720" y="4681440"/>
              <a:ext cx="1700280" cy="206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S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24000" y="1297080"/>
              <a:ext cx="1042920" cy="3671640"/>
              <a:chOff x="324000" y="1297080"/>
              <a:chExt cx="1042920" cy="367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4000" y="1297080"/>
                <a:ext cx="10429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1297080"/>
                <a:ext cx="10429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619280" y="1297080"/>
              <a:ext cx="973080" cy="3671640"/>
              <a:chOff x="1619280" y="1297080"/>
              <a:chExt cx="973080" cy="3671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19280" y="1297080"/>
                <a:ext cx="973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bjetivos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9280" y="1297080"/>
                <a:ext cx="97308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35640" y="1297080"/>
              <a:ext cx="1581120" cy="3671640"/>
              <a:chOff x="5435640" y="1297080"/>
              <a:chExt cx="1581120" cy="3671640"/>
            </a:xfrm>
          </p:grpSpPr>
          <p:sp>
            <p:nvSpPr>
              <p:cNvPr id="66" name=""/>
              <p:cNvSpPr/>
              <p:nvPr/>
            </p:nvSpPr>
            <p:spPr>
              <a:xfrm>
                <a:off x="5435640" y="1297080"/>
                <a:ext cx="15811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rabajo en equi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nfli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l. Interperson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l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iderazg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5640" y="1297080"/>
                <a:ext cx="15811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Procesos sicológico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y sicosoci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771640" y="1297080"/>
              <a:ext cx="2448000" cy="288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771640" y="1585800"/>
              <a:ext cx="1225440" cy="3382920"/>
              <a:chOff x="2771640" y="1585800"/>
              <a:chExt cx="1225440" cy="338292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1585800"/>
                <a:ext cx="122544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iramid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atri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Tare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1585800"/>
                <a:ext cx="122544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924360" y="1585800"/>
              <a:ext cx="1296720" cy="3382920"/>
              <a:chOff x="3924360" y="1585800"/>
              <a:chExt cx="1296720" cy="33829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360" y="1585800"/>
                <a:ext cx="129672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Selección</a:t>
                </a:r>
                <a:r>
                  <a:rPr b="0" lang="es-CL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apaci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Desem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munera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centiv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 Carre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Pot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Desvinc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24360" y="1585800"/>
                <a:ext cx="129672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Siste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36000" y="1297080"/>
              <a:ext cx="1657080" cy="3671640"/>
              <a:chOff x="7236000" y="1297080"/>
              <a:chExt cx="1657080" cy="36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7236000" y="1297080"/>
                <a:ext cx="1657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rganiz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rup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divid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6000" y="1297080"/>
                <a:ext cx="1657080" cy="252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esult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6000" y="1541520"/>
                <a:ext cx="7934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R.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9440" y="1541520"/>
                <a:ext cx="8636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fect. Or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780000" y="1944720"/>
              <a:ext cx="315720" cy="3024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453708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1440" y="4537080"/>
              <a:ext cx="935280" cy="504720"/>
            </a:xfrm>
            <a:custGeom>
              <a:avLst/>
              <a:gdLst>
                <a:gd name="textAreaLeft" fmla="*/ 146160 w 935280"/>
                <a:gd name="textAreaRight" fmla="*/ 818640 w 9352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0544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72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8360" y="5329080"/>
              <a:ext cx="1582920" cy="1081080"/>
            </a:xfrm>
            <a:prstGeom prst="wedgeRectCallout">
              <a:avLst>
                <a:gd name="adj1" fmla="val -43518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1"/>
            <p:cNvSpPr/>
            <p:nvPr/>
          </p:nvSpPr>
          <p:spPr>
            <a:xfrm>
              <a:off x="2700360" y="5041800"/>
              <a:ext cx="2158920" cy="165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F524-8774-4680-AEEC-24DAEA6AD731}" type="slidenum">
              <a:t>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istema de Provisión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elección de Personal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D2D7-841B-4DC6-B99A-0681A6E41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guntas de discusión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Deberían las empresas realizar tests psicológicos o deberían centrarse sólo en habilidades específicas (conocimiento técnico) respecto al cargo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Para qué tipo de trabajo es justificado aplicarlos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57FD-26F6-489F-A202-F544BD8163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27520" y="404640"/>
            <a:ext cx="4740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elección Eficaz es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buClr>
                <a:srgbClr val="333399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75FB-5835-4BBF-8793-6DE56FC57C5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338120"/>
            <a:ext cx="396216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24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9884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8176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88000" y="2262240"/>
            <a:ext cx="2098800" cy="3971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76372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.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0734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9920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62240"/>
            <a:ext cx="8229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62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2576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5680" y="162576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240192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64176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08176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145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398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E40B-5746-4AB6-9996-2D2167E3D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lasificación de Test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B4A7-6728-4866-9182-A6B760439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11T15:46:27Z</dcterms:modified>
  <cp:revision>262</cp:revision>
  <dc:subject/>
  <dc:title>Título </dc:title>
</cp:coreProperties>
</file>