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DC60-618E-4B6D-B2FF-06312A8FD3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232-E9C6-4FC0-9F0A-A6B61E38AE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1160" y="74772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F78F-0167-412F-B23F-F53EB10DB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5943-00D3-49DE-A307-A34F5C28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014A-1376-49A6-BEAD-ABCEF00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9C0C-338E-4051-BBDF-D6E45B3F9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169F-4790-4C54-9C7E-FC26903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7455-D8F3-4484-A263-D3C0E170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62D2-DC5D-4F10-8D77-430B7BB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F0AB-046F-499E-BBA0-AC9F5C15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A52F-F577-47B7-952C-984486C9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5431-D0B5-4149-A691-A286807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D16A-AA1C-4CB7-B961-A14B2AFF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CD7C-C8A8-4A6C-AC73-5015D0B5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3F0C-1564-4710-B66F-F4F1AF96BA5C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ELEMENTOS DE LA ESTRATEGI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Agosto 2008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 entorno evoluciona en su complejidad en forma veloz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debe contemplar la evolución del entorno para desarrollarse en forma sustent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genera bienes y/o servicios para satisfacer las expectativas de usuarios que pertenecen a dicho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os usuarios son el nexo entre la organización y la comun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No olvide que el entorno le genera mandatos a su institución y que en él están las organizaciones que ejecutan funciones similares a las de su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483920"/>
            <a:ext cx="7696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olít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conóm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ecn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Geográfico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pidemi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Misió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 planteamiento general acerca del tipo de institución, su propósito principal y sus valor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es el propósito más importante por el que trabajan y se esfuerzan los miembros de una Organización, es la razón de ser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79880" y="46008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y sin duda lo más importante, todos los participantes (directivos y prestadores directos) deben identificarse con la Misión, para lo cual será necesario acoger todos los aportes que hagan los implicad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PORTUNIDA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emento o característica existente en el entorno que puede servir para lograr mayor desarrollo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MENAZ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onocer las fortalezas y debilidades “es una forma de dejar de preocuparse por el futuro y comenzar a trabajar por crearlo” (Hubert Humphrey).  El principal recurso para alcanzar el éxito somos nosotros mism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os objet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en los logros que se esperan obtener en el período de tiempo establecido en términos cualitativ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cuerde que los OBJETIVOS DE MAYOR VIABILIDAD son aquellos para los cuales tenemos la confluencia de FORTALEZAS y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quellos de menor probabilidad de ocurrencia son los objetivos para los cuales tenemos la confluencia de DEBILIDADES y AMENAZ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es más fácil superar debilidades institucionales o personales que transformar las amenazas del entorno en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580000" y="5086440"/>
            <a:ext cx="1224000" cy="165564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41360"/>
            <a:ext cx="10429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10429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973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97308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341360"/>
            <a:ext cx="15811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341360"/>
            <a:ext cx="15811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Procesos sicológ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y sico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341360"/>
            <a:ext cx="2448000" cy="2890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30440"/>
            <a:ext cx="122580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30440"/>
            <a:ext cx="122580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1630440"/>
            <a:ext cx="129708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UnitOT-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630440"/>
            <a:ext cx="129708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1341360"/>
            <a:ext cx="1657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1657080" cy="25236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11360"/>
            <a:ext cx="7934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9440" y="1611360"/>
            <a:ext cx="8636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UnitOT-Regular"/>
              </a:rPr>
              <a:t>Modelo Organizacional</a:t>
            </a:r>
            <a:endParaRPr b="1" lang="en-US" sz="1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989000"/>
            <a:ext cx="315720" cy="30243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58136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58136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73720"/>
            <a:ext cx="1582920" cy="1081080"/>
          </a:xfrm>
          <a:prstGeom prst="wedgeRectCallout">
            <a:avLst>
              <a:gd name="adj1" fmla="val -43782"/>
              <a:gd name="adj2" fmla="val 67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3060720" y="5373720"/>
            <a:ext cx="1727280" cy="129528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58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560" y="8935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meta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resultados y beneficios cuantificables esperados, los cuales deben ser congruentes con los objetiv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actores estratégico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aspectos que inciden directamente en el éxito o fracaso de la organización y hacia los cuales debe orientarse la acción institucional para garantizar el cumplimiento de la mis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estrateg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scribe cómo se lograrán los objetivos generales, esto es, la dirección futura de los productos y mercados de la organización incluyendo los métodos de intervención que ayudarán a la organización a cumplir su misión y a lograr sus objetivos generales de manera factible y eficaz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28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estrategia es “una herramienta multidimensional que abarca la totalidad de las actividades críticas de una organización y le da un sentido de unidad, dirección y propósito” (Hax, A. y Majluf, N. 1996: 20), y, a la vez, facilita los cambios necesarios que su medio ambiente (entorno) indu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BJETIVOS Y METAS:   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QUÉ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ACTORES ESTRATEGICOS: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terminar los FACTORES ESTRATEGICOS DE ÉXITO, permitirá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umplir con objetivos y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Transformar debilidades en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udir amenazas y 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canzar el éxito de las unidades y de la Institución en su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umentar el posicionamient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mplementación de los factores estratégic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resistencias visualiza?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dentifique los indicadores (trazadores) que permitirán evaluar el 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99080" y="171360"/>
            <a:ext cx="61891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É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 mismo tiempo, es un tipo particular de comunicación que en definitiva es el principal componente de una organización. (Cultura Postulada) </a:t>
            </a:r>
            <a:r>
              <a:rPr b="0" i="1" lang="es-ES_tradnl" sz="2400" spc="-1" strike="noStrike">
                <a:solidFill>
                  <a:srgbClr val="333399"/>
                </a:solidFill>
                <a:latin typeface="Trebuchet MS"/>
              </a:rPr>
              <a:t>“el cuento que la organización se cuenta de si misma y le cuenta a otro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79880" y="39672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 poderoso instrumento de gestión institucional si es acogido por los directivos en su trabajo dia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 lo contrario, pierde todo su valor y es visto como un gasto de tiempo y de recursos que podrían haberse destinado a otros fines. ¿Por qué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44960" y="46980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onsiste en un patrón de decisiones coherente, unificador e integrado, que determina y revela el propósito de la organización en términos de objetivos a largo plazo, programas de acción y prioridades para la asignación de recurs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FASES DE LA 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14018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y escenari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interno de la organización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ición de objetivos y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dentificación e implementación de factore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1258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la imagen del futuro de la institu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el sueño generado por sus líderes o por un proceso participativ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Es el “gran sueño” que responde a la pregunta ¿Qué deseamos ser?  En una perspectiva de largo plazo. La visión tiene un sentido de dirección y debe generar compromis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realidad la construimos desde las expectativas del futuro deseado y soñ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organizaciones se desarrollan y construyen desde la VISIÓN DE FUTUR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na visión potente es una que además pueda iluminar a otros, que les dé también valor a ellos. Una visión actúa de imán, atrae, desafía y une a personas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28800" y="2421000"/>
          <a:ext cx="553572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21000"/>
                    <a:ext cx="55357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28T17:57:47Z</dcterms:modified>
  <cp:revision>21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74213227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PT y otros</vt:lpwstr>
  </property>
  <property fmtid="{D5CDD505-2E9C-101B-9397-08002B2CF9AE}" pid="6" name="_PreviousAdHocReviewCycleID">
    <vt:r8>-1584043124</vt:r8>
  </property>
</Properties>
</file>