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317340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1680" y="64861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F62F-B9E0-4000-B9C8-74A524137A4A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CENTIVO A INVERTIR EN INVESTIGACION ES EL DESARROLLO DE NUEVOS PRODUCTOS QUE NO TENGAN COMPETENCIA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3173400" y="5158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Propiedad Industrial: PATENTES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2360" y="486900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f0e30"/>
                </a:solidFill>
                <a:latin typeface="Times New Roman"/>
              </a:rPr>
              <a:t>In 5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QUE ES 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4120" y="1771200"/>
            <a:ext cx="8508960" cy="47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servicio público centralizado, perteneciente al Ministerio de Economía, Fomento y Reconstru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ibuye a que el país adquiera conciencia, acerca de las protecciones y beneficios que le ofrece la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organismo que promueve y gestiona la política de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6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520" y="168120"/>
            <a:ext cx="8810640" cy="11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FUNCIONES D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760" y="1779480"/>
            <a:ext cx="820728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olver las solicitudes de derechos de propiedad industrial: Privilegios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eder los títulos y certificaciones cuando correspo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tener los registros de privilegios inscrito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recer servicios de información tecnológica de su base de datos a nivel mundial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CONVENIO DE PAR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tentes de inv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los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bujos y modelos indus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marcas de fábrica o de comer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indicaciones de procedencia o denominaciones de 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represión a la competencia desle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361800"/>
            <a:ext cx="806760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Principios Básicos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6280" y="1198440"/>
            <a:ext cx="8207280" cy="536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O NACIO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Cada Estado contratante deberá conceder a los nacionales de los otros estados miembros, la misma protección que a sus propios nac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RECHO DE PRIORIDA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Derecho preferente de prot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DEPENDENCIA DE LAS PATENTES Y MARCAS COMER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A.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440" y="1193760"/>
            <a:ext cx="316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tección de 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rechos de obtento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variedades vegeta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P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nominaciones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reto 4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2720" y="833400"/>
            <a:ext cx="53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8040" y="863640"/>
            <a:ext cx="5816520" cy="48240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8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7000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240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004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8040" y="5130720"/>
            <a:ext cx="5816520" cy="48276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0280" y="5160960"/>
            <a:ext cx="178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99080" y="1376280"/>
            <a:ext cx="73692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69200" y="1522440"/>
            <a:ext cx="69516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8720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8080" y="4425480"/>
            <a:ext cx="654048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COMPITE LIBREMENTE POR EL 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ENTIVO A INVERTIR EN INVESTIGACION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rrollar nuevos productos y ganar con una patente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8080" y="4425840"/>
            <a:ext cx="654048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8080" y="4959360"/>
            <a:ext cx="410184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61040" y="5130720"/>
            <a:ext cx="357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N PAT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2880" y="4959360"/>
            <a:ext cx="242568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200" y="5130720"/>
            <a:ext cx="180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720" y="4444920"/>
            <a:ext cx="31748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EMPRES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600" y="5923080"/>
            <a:ext cx="178776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600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872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96040" y="2432160"/>
            <a:ext cx="3614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rot="16200000">
            <a:off x="4883040" y="3663720"/>
            <a:ext cx="3111480" cy="673200"/>
          </a:xfrm>
          <a:prstGeom prst="rightArrow">
            <a:avLst>
              <a:gd name="adj1" fmla="val 50000"/>
              <a:gd name="adj2" fmla="val 23111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93760" y="577044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/>
            <a:ahLst/>
            <a:rect l="l" t="t" r="r" b="b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2924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37400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53402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GANA EL ESTADO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TELECTUAL.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28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trata de un tipo especial de propiedad, se refiere a las creaciones del ingenio humano,  del intelecto humano, de allí que se califica de "propiedad intelectual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nde bienes intangi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APLICACION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CEPTO D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DUSTR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EBE ENTENDERSE EN EL MAS AMPLIO SENTIDO: Actividad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SE DEBE CONFUNDIR L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ACTIBILIDAD TECNICA-ECONOMIC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LEVAR A CABO LA INVEN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20" y="2867040"/>
            <a:ext cx="29916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51480" y="1824120"/>
            <a:ext cx="40640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LA INVENCION SEA APLICADA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PUEDA SER PRODUCI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/>
            <a:ahLst/>
            <a:rect l="l" t="t" r="r" b="b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9160" y="3048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NDE TODOS LOS DOCUMENT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NALIZA  SI LA SOLICITUD PLANTEADA AL PROBLEMA TECNICO DESCRITO EN LA SOLICITUD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NO OBVIA (para especialista)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DESCUBRIMIENTOS, LAS TEORIAS CIENTIFICAS Y LOS METODOS MATEMA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VARIEDADES VEGETALES Y LAS RAZAS ANI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METODOS DE TRATAMIENTO QUIRURGICO O TERAPEUTICO DEL CUERPO HUMANO O ANIMAL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NUEVO USO DE ARTICULOS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consideran como modelos de utilidad los instrumentos, aparatos, herramientas, dispositivos y objetos o partes de los mismos, en los que la forma sea reivindicable, tanto en su aspecto externo como en su funcionamiento, y siempre que esta produzca una utilidad, esto es, que aporte a la función a que son destinados un beneficio, ventaja o efecto que antes no t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nde toda forma tridimensional asociada o no con colores, y cualquier articulo industrial o artesanal que sirva de patrón para la fabricación de otras unidades y que se distinga de sus similares sea por su forma, configuración geométrica, ornamentación o una combinación de estas, siempre que dichas características le den una apariencia especial perceptible por medio de la vista, de tal manera que resulte una fisonomía original, nueva y difer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476280"/>
            <a:ext cx="80913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 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3280" y="2406600"/>
            <a:ext cx="3328920" cy="16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IEDAD 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75000" y="3984480"/>
            <a:ext cx="30164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bf6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01920" y="2430360"/>
            <a:ext cx="390204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7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7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tecnico que resue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 conocido en la ma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s dibu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tallada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s de aplic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8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371600"/>
            <a:ext cx="6707160" cy="915840"/>
          </a:xfrm>
          <a:custGeom>
            <a:avLst/>
            <a:gdLst/>
            <a:ahLst/>
            <a:rect l="l" t="t" r="r" b="b"/>
            <a:pathLst>
              <a:path w="4225" h="577">
                <a:moveTo>
                  <a:pt x="0" y="576"/>
                </a:moveTo>
                <a:lnTo>
                  <a:pt x="0" y="0"/>
                </a:lnTo>
                <a:lnTo>
                  <a:pt x="4224" y="0"/>
                </a:lnTo>
                <a:lnTo>
                  <a:pt x="4224" y="432"/>
                </a:lnTo>
                <a:lnTo>
                  <a:pt x="864" y="432"/>
                </a:lnTo>
                <a:lnTo>
                  <a:pt x="864" y="576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4280" y="1442880"/>
            <a:ext cx="221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OR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09920" y="2128680"/>
            <a:ext cx="503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9480" y="2521080"/>
            <a:ext cx="669276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4280" y="3957480"/>
            <a:ext cx="206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886200"/>
            <a:ext cx="6707160" cy="611280"/>
          </a:xfrm>
          <a:custGeom>
            <a:avLst/>
            <a:gdLst/>
            <a:ahLst/>
            <a:rect l="l" t="t" r="r" b="b"/>
            <a:pathLst>
              <a:path w="4225" h="385">
                <a:moveTo>
                  <a:pt x="0" y="384"/>
                </a:moveTo>
                <a:lnTo>
                  <a:pt x="0" y="0"/>
                </a:lnTo>
                <a:lnTo>
                  <a:pt x="4224" y="0"/>
                </a:lnTo>
                <a:lnTo>
                  <a:pt x="4224" y="192"/>
                </a:lnTo>
                <a:lnTo>
                  <a:pt x="2137" y="192"/>
                </a:lnTo>
                <a:lnTo>
                  <a:pt x="2137" y="384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47800" y="4186080"/>
            <a:ext cx="28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según reivindicación nº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7320" y="4262400"/>
            <a:ext cx="3819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9480" y="4654440"/>
            <a:ext cx="669276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2520" y="1366920"/>
            <a:ext cx="46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8480" y="388152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480" y="578628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38320" y="5786280"/>
            <a:ext cx="20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9040" y="1968480"/>
          <a:ext cx="700704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68480"/>
                    <a:ext cx="70070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938920" y="1747800"/>
            <a:ext cx="267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 EN DOCUMENTOS DE 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228600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432" y="0"/>
                </a:moveTo>
                <a:lnTo>
                  <a:pt x="336" y="144"/>
                </a:lnTo>
                <a:lnTo>
                  <a:pt x="192" y="9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2600" y="4795920"/>
            <a:ext cx="298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% EN PAPER, LIBROS, GACETAS Y OTRAS PUB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864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576" y="192"/>
                </a:move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mportancia de patentar un invento radica en que se obtiene un monopolio exclusivo para la comercializacion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esto se suma el hecho de que la novedad debe ser de caracter mund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caso especifico de solicitudes chilenas se buscan en diferentes bases de datos de patentes de invencion y que contienen lo ultimo en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este modo las solicitudes de los distintos tipos de privilegios son comparadas con documentos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uno u otro modo se tiene un amplio grado de certeza que si de las busquedas no aparece nada similar es porque antes jamas se habia cr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47040" y="1101600"/>
            <a:ext cx="1324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71280" y="1863720"/>
            <a:ext cx="1801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EN PRELI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4804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3960" y="2814480"/>
            <a:ext cx="1217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048120"/>
            <a:ext cx="175392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3124080"/>
            <a:ext cx="2058840" cy="459000"/>
          </a:xfrm>
          <a:custGeom>
            <a:avLst/>
            <a:gdLst/>
            <a:ahLst/>
            <a:rect l="l" t="t" r="r" b="b"/>
            <a:pathLst>
              <a:path w="1297" h="289">
                <a:moveTo>
                  <a:pt x="0" y="0"/>
                </a:moveTo>
                <a:lnTo>
                  <a:pt x="1296" y="0"/>
                </a:lnTo>
                <a:lnTo>
                  <a:pt x="1296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580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81120" y="28605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49080" y="3616200"/>
            <a:ext cx="1246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ACEPTA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66560" y="354024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454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9200" y="4530600"/>
            <a:ext cx="14846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ACION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RIO O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23440" y="5445000"/>
            <a:ext cx="14997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NCE PLA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 PRESEN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035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9480" y="41562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23160" y="5070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6178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23160" y="6213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9124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65840" y="4537080"/>
            <a:ext cx="103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1600200"/>
            <a:ext cx="4192560" cy="3201840"/>
          </a:xfrm>
          <a:custGeom>
            <a:avLst/>
            <a:gdLst/>
            <a:ahLst/>
            <a:rect l="l" t="t" r="r" b="b"/>
            <a:pathLst>
              <a:path w="2641" h="2017">
                <a:moveTo>
                  <a:pt x="2112" y="2016"/>
                </a:moveTo>
                <a:lnTo>
                  <a:pt x="2640" y="2016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4480" y="44607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0960" y="5749920"/>
            <a:ext cx="11721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TIENE 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53402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76400" y="52992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76040" y="3927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42480" y="1558800"/>
            <a:ext cx="912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T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14880" y="28195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089160"/>
            <a:ext cx="99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30760" y="33526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9680" y="3083040"/>
            <a:ext cx="2178000" cy="545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AD JURID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7240" y="475920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3276720"/>
            <a:ext cx="2059200" cy="839520"/>
          </a:xfrm>
          <a:custGeom>
            <a:avLst/>
            <a:gdLst/>
            <a:ahLst/>
            <a:rect l="l" t="t" r="r" b="b"/>
            <a:pathLst>
              <a:path w="1297" h="529">
                <a:moveTo>
                  <a:pt x="1008" y="0"/>
                </a:moveTo>
                <a:lnTo>
                  <a:pt x="0" y="0"/>
                </a:lnTo>
                <a:lnTo>
                  <a:pt x="0" y="528"/>
                </a:lnTo>
                <a:lnTo>
                  <a:pt x="1296" y="5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3657600"/>
            <a:ext cx="2439720" cy="458640"/>
          </a:xfrm>
          <a:custGeom>
            <a:avLst/>
            <a:gdLst/>
            <a:ahLst/>
            <a:rect l="l" t="t" r="r" b="b"/>
            <a:pathLst>
              <a:path w="1537" h="289">
                <a:moveTo>
                  <a:pt x="1536" y="0"/>
                </a:moveTo>
                <a:lnTo>
                  <a:pt x="15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42735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06388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47200" y="29368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09520" y="30132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ciones sobre obras literarias,  artísticas y mus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2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s conexos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eaciones de los artístas intérpretes y ejecutantes, productores fonográficos y de la radiodifu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25800" y="148284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1800" y="2701800"/>
            <a:ext cx="1048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56480" y="392112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80240" y="4911840"/>
            <a:ext cx="11703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286000"/>
            <a:ext cx="1144800" cy="2744640"/>
          </a:xfrm>
          <a:custGeom>
            <a:avLst/>
            <a:gdLst/>
            <a:ahLst/>
            <a:rect l="l" t="t" r="r" b="b"/>
            <a:pathLst>
              <a:path w="721" h="1729">
                <a:moveTo>
                  <a:pt x="480" y="1728"/>
                </a:moveTo>
                <a:lnTo>
                  <a:pt x="0" y="1728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2063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3282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427356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2928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4840" y="2814480"/>
            <a:ext cx="1217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296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5680" y="4460760"/>
            <a:ext cx="969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ON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27920" y="5826240"/>
            <a:ext cx="105156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6640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3402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3048120"/>
            <a:ext cx="1525680" cy="1068120"/>
          </a:xfrm>
          <a:custGeom>
            <a:avLst/>
            <a:gdLst/>
            <a:ahLst/>
            <a:rect l="l" t="t" r="r" b="b"/>
            <a:pathLst>
              <a:path w="961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4724280"/>
            <a:ext cx="1601640" cy="4590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0"/>
                </a:moveTo>
                <a:lnTo>
                  <a:pt x="655" y="0"/>
                </a:lnTo>
                <a:lnTo>
                  <a:pt x="655" y="288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18800" y="43848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8120" y="37749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1800" y="537516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400" y="316548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51760" y="377496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2640" y="1635120"/>
            <a:ext cx="89172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92560" y="2854440"/>
            <a:ext cx="14248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MA DEL JEF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85600" y="4149720"/>
            <a:ext cx="9860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08120" y="5445000"/>
            <a:ext cx="118872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IFIC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TU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1905120"/>
            <a:ext cx="1449360" cy="1220760"/>
          </a:xfrm>
          <a:custGeom>
            <a:avLst/>
            <a:gdLst/>
            <a:ahLst/>
            <a:rect l="l" t="t" r="r" b="b"/>
            <a:pathLst>
              <a:path w="913" h="769">
                <a:moveTo>
                  <a:pt x="0" y="768"/>
                </a:moveTo>
                <a:lnTo>
                  <a:pt x="384" y="768"/>
                </a:lnTo>
                <a:lnTo>
                  <a:pt x="384" y="0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0024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21398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3800" y="33591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4654440"/>
            <a:ext cx="0" cy="74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0000" y="209880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2600" y="1701360"/>
            <a:ext cx="7951680" cy="49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propiedad industrial tiene hoy en día una gran importancia, tanto en las relaciones comerciales internacionales, como en la economía interna de los países y se ha constituído en una herramienta eficaz para el desarrollo de los mercados y de la industria. Su fin se relaciona con el intercambio de bienes y servicios, la inversión, el desarrollo tecnológico y la competencia leal, beneficiándose con ello las empresas, instituciones de educación, centros de investigación y por tanto, Chil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348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CARACTERISTICAS 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DE LA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480" y="1639440"/>
            <a:ext cx="8921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MPORALIDAD: La protección que otorgan las leyes de propiedad industrial, tienen una duración determinada en el tiempo, vencido ese periódo cesa el derecho exclu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RRITORIALIDAD: Las leyes otorgan protección sólo dentro del territorio del estado respectivo, salvo, de que exista un tratado internacional, que permita la protección en varios países  ó que el derecho haya sido reconocido por varios estados a petición del propio titul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4840" y="501480"/>
            <a:ext cx="8850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DUSTRIAL COMPRENDE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MARCA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ENTES DE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O 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EÑ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DUCACION PU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8680" y="144288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76600" y="28908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6600" y="42624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JURID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PATENTES DE INVEN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198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DE 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/>
            <a:ahLst/>
            <a:rect l="l" t="t" r="r" b="b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/>
            <a:ahLst/>
            <a:rect l="l" t="t" r="r" b="b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alumno</cp:lastModifiedBy>
  <dcterms:modified xsi:type="dcterms:W3CDTF">2003-07-21T13:07:46Z</dcterms:modified>
  <cp:revision>15</cp:revision>
  <dc:subject>sistema de patentes e informacion tecnologica</dc:subject>
  <dc:title>Seminario de Patentes</dc:title>
</cp:coreProperties>
</file>