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F660-495A-4D22-9801-3598FD5D5D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0713-34DC-461A-A3AD-FAB4B7961D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C730-779B-4295-8B1F-1DEDAF8395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AA07-F2BC-4A79-B4BF-7E3E3D3312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FEAA-5425-4508-A32C-C5FCDB0A78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46F2-5ED2-4384-8B20-C5B365CF0A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7F25-D03A-4361-9EA2-4AB024ED06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7BE7-0EB4-4513-BFF4-70F2D902E5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90B8-DB2A-4C8C-B6A1-DD93F3298A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8D62-8364-49F0-8D31-DC6E47572A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6A55C-06F3-4C15-90C7-E9785640D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CAF3C-B9A6-49E6-97D5-06AF9006E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F9047-6EFD-4090-808A-FB03AFF3F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6D435-9810-4A0D-9CF4-D34992511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FC666-3D5F-48F3-9991-01D0A3AA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737C-755D-4B07-8F5D-FE7D7FEE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114A-ADF1-4DAA-8CB9-2ACDEA34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E8F4-8B99-42CE-AE7B-AAF12422C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F7A44-1E27-459C-B370-68C609332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C7C7B-55B2-4770-833B-0564BD41B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F541-9EC5-4D17-A6D1-20EAC355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A5FC2-13FF-4C78-A462-4274E3620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F460-4D25-4A55-81BA-94BEFFE407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
          <p:cNvGraphicFramePr/>
          <p:nvPr/>
        </p:nvGraphicFramePr>
        <p:xfrm>
          <a:off x="762120" y="2743200"/>
          <a:ext cx="7619760" cy="3589200"/>
        </p:xfrm>
        <a:graphic>
          <a:graphicData uri="http://schemas.openxmlformats.org/presentationml/2006/ole">
            <p:oleObj progId="Word.Document.12" r:id="rId2" spid="">
              <p:embed/>
              <p:pic>
                <p:nvPicPr>
                  <p:cNvPr id="352" name=""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Carlos Vignolo</cp:lastModifiedBy>
  <dcterms:modified xsi:type="dcterms:W3CDTF">2008-08-18T01:06:23Z</dcterms:modified>
  <cp:revision>94</cp:revision>
  <dc:subject/>
  <dc:title> Fundacao Luís Eduardo Magalhaes Salvador, 23 de Julio de 2002 </dc:title>
</cp:coreProperties>
</file>