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3C731-DFEE-443E-BA2F-9BC8A09CB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39EED-E6E2-42BA-A727-1B766165A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9E0C7-3962-428B-8C62-26EDB7FCB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3656B-E35E-4D7C-8547-AFF233125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1367A-EDBE-4CB3-B643-C45058D86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A747D-C2E3-4443-BCD2-46310AE9E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CD82E-145D-469C-AC49-15857DCED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1306E-79BA-4EEE-9822-19B05C1F0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4D8BB-924B-434C-B21B-E05406C10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11FF0-60C9-40D7-9379-225667D21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75CFD-1B75-429A-89FA-4BFAB5431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BED88-664C-459E-A936-45101C1F5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B56A5-1CD2-4B47-A70A-CEEAC38F3F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2920" y="2624040"/>
            <a:ext cx="8856720" cy="22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TRABAJO Y EQUIDAD EN UN MUNDO GLOB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Patricio Me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68360" y="5186520"/>
            <a:ext cx="48974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32000" y="6129360"/>
            <a:ext cx="680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Consejo Asesor Presidencial Trabajo y Equi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400" spc="-1" strike="noStrike">
                <a:solidFill>
                  <a:srgbClr val="000000"/>
                </a:solidFill>
                <a:latin typeface="Arial"/>
              </a:rPr>
              <a:t>4. Módulo “Percepción sobre Equidad”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457200" y="2004840"/>
          <a:ext cx="8229600" cy="37148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2004840"/>
                    <a:ext cx="8229600" cy="371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"/>
          <p:cNvSpPr/>
          <p:nvPr/>
        </p:nvSpPr>
        <p:spPr>
          <a:xfrm>
            <a:off x="1332000" y="6129360"/>
            <a:ext cx="680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Consejo Asesor Presidencial Trabajo y Equi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7D74D-8EE5-4906-923E-ECF662760E7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400" spc="-1" strike="noStrike">
                <a:solidFill>
                  <a:srgbClr val="000000"/>
                </a:solidFill>
                <a:latin typeface="Arial"/>
              </a:rPr>
              <a:t>4. Módulo “Percepción sobre Equidad”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332000" y="6129360"/>
            <a:ext cx="680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Consejo Asesor Presidencial Trabajo y Equi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457200" y="1973160"/>
          <a:ext cx="8229600" cy="37800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1973160"/>
                    <a:ext cx="8229600" cy="378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6E419-A45D-4E40-8C10-89F502A0F7D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84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Movilidad Soc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Inequidad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↓ como probl. si </a:t>
            </a:r>
            <a:r>
              <a:rPr b="1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 Movilidad So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Comparación EEUU vs Euro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Situación 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Estudios Académicos: </a:t>
            </a:r>
            <a:r>
              <a:rPr b="1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poca (nula) Movilidad So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9AEF0-339A-471E-AC62-5B34EC0EA18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84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5. Módulo “Movilidad Social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332000" y="6129360"/>
            <a:ext cx="680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Consejo Asesor Presidencial Trabajo y Equi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457200" y="2139840"/>
          <a:ext cx="8229600" cy="34448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2139840"/>
                    <a:ext cx="8229600" cy="344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5F68B-715D-4A5D-8D39-8A687F7FB64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596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5. Módulo “Movilidad Social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216000" y="1739880"/>
          <a:ext cx="8750160" cy="36687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6000" y="1739880"/>
                    <a:ext cx="8750160" cy="366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"/>
          <p:cNvSpPr/>
          <p:nvPr/>
        </p:nvSpPr>
        <p:spPr>
          <a:xfrm>
            <a:off x="1332000" y="6129360"/>
            <a:ext cx="680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Consejo Asesor Presidencial Trabajo y Equi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E0A31-48D3-44B8-8020-36BCBF69658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90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Mercado Labo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-578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ómo funciona M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en AL? =&gt; - Rígidos </a:t>
            </a:r>
            <a:r>
              <a:rPr b="0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- Flexi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41040" indent="-506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rígidos o f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41040" indent="-506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Nivel w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mediana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– baj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41040" indent="-506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Rol w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41040" indent="-506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Objetivo: Cómo tener M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- q’ genere good job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Relación Management – T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41040" indent="-506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Objetivo: Sustituir relación conflictivas por relac. coopera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41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¿Cómo </a:t>
            </a:r>
            <a:r>
              <a:rPr b="0" lang="es-ES" sz="20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cooperat. y </a:t>
            </a:r>
            <a:r>
              <a:rPr b="0" lang="es-ES" sz="2000" spc="-1" strike="noStrike">
                <a:solidFill>
                  <a:srgbClr val="000000"/>
                </a:solidFill>
                <a:latin typeface="Wingdings 3"/>
                <a:ea typeface="Wingdings 3"/>
              </a:rPr>
              <a:t>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conflict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41040" indent="-506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videncia Encuesta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2840" indent="-434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j (55%) valoran rol empresa – lugar aprendizaje e </a:t>
            </a:r>
            <a:r>
              <a:rPr b="0" lang="es-ES" sz="18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K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2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j (80%) tiene buena relac. con jef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2840" indent="-434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lphaL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ero Tj (80%) les gustaría q’ hubiera sindic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2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j (85%) les gustaría q’ hubiera Neg. Co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DD210-CFD7-4B24-8D0C-574494BDDE3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457200" y="6588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2. Módulo “Satisfacción y Clima Laboral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332000" y="6129360"/>
            <a:ext cx="680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Consejo Asesor Presidencial Trabajo y Equi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571680" y="1600200"/>
          <a:ext cx="7999200" cy="45259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71680" y="1600200"/>
                    <a:ext cx="799920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A8E94-AD62-4A34-8981-CC062FF7D96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" name=""/>
          <p:cNvGraphicFramePr/>
          <p:nvPr/>
        </p:nvGraphicFramePr>
        <p:xfrm>
          <a:off x="584280" y="1600200"/>
          <a:ext cx="7975440" cy="45259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84280" y="1600200"/>
                    <a:ext cx="797544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" name=""/>
          <p:cNvSpPr/>
          <p:nvPr/>
        </p:nvSpPr>
        <p:spPr>
          <a:xfrm>
            <a:off x="457200" y="6588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2. Módulo “Satisfacción y Clima Laboral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332000" y="6129360"/>
            <a:ext cx="680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Consejo Asesor Presidencial Trabajo y Equi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3406A-4BA5-4BA2-8E1B-B0265E716A9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658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2. Módulo “Satisfacción y Clima Laboral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457200" y="1884240"/>
          <a:ext cx="8229600" cy="39560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1884240"/>
                    <a:ext cx="8229600" cy="395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"/>
          <p:cNvSpPr/>
          <p:nvPr/>
        </p:nvSpPr>
        <p:spPr>
          <a:xfrm>
            <a:off x="1332000" y="6129360"/>
            <a:ext cx="680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Consejo Asesor Presidencial Trabajo y Equi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58626-EFBF-40B4-B35B-7B85B344049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658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2. Módulo “Satisfacción y Clima Laboral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457200" y="1884240"/>
          <a:ext cx="8229600" cy="39560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1884240"/>
                    <a:ext cx="8229600" cy="395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"/>
          <p:cNvSpPr/>
          <p:nvPr/>
        </p:nvSpPr>
        <p:spPr>
          <a:xfrm>
            <a:off x="1332000" y="6129360"/>
            <a:ext cx="680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Consejo Asesor Presidencial Trabajo y Equi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2D5A5-E2E0-492D-B288-2BDFB691BE4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696960"/>
            <a:ext cx="8229600" cy="54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86920" y="696600"/>
            <a:ext cx="86058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Tema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60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NDO GLOBALIZ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60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CIMIENTO y EQU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60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LÍTICAS SOCIALES y EQU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60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ILIDAD SO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60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RCADO del TRABAJ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60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RGO PLAZ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116000" y="6129360"/>
            <a:ext cx="680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Consejo Asesor Presidencial Trabajo y Equi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E68C1-30DB-48AF-8C24-3EFAA1EE58C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475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3. Módulo “Relaciones Laborales, Organizaciones Sindicales y Negociación Colectiva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457200" y="1884240"/>
          <a:ext cx="8229600" cy="39560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1884240"/>
                    <a:ext cx="8229600" cy="395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"/>
          <p:cNvSpPr/>
          <p:nvPr/>
        </p:nvSpPr>
        <p:spPr>
          <a:xfrm>
            <a:off x="1332000" y="6129360"/>
            <a:ext cx="680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Consejo Asesor Presidencial Trabajo y Equi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83EF4-3C39-4DBC-A366-D7935851BC4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9280" y="65844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3. Módulo “Relaciones Laborales, Organizaciones Sindicales y Negociación Colectiva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457200" y="1884240"/>
          <a:ext cx="8229600" cy="39560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1884240"/>
                    <a:ext cx="8229600" cy="395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>
            <a:off x="1332000" y="6129360"/>
            <a:ext cx="680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Consejo Asesor Presidencial Trabajo y Equi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C50E9-29B2-4F5A-9A08-622078A1B41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583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3. Módulo “Relaciones Laborales, Organizaciones Sindicales y Negociación Colectiva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457200" y="1862280"/>
          <a:ext cx="8229600" cy="40021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1862280"/>
                    <a:ext cx="8229600" cy="400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332000" y="6129360"/>
            <a:ext cx="680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Consejo Asesor Presidencial Trabajo y Equi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DBFF2-D97C-424C-B883-3D86058673B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51228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3. Módulo “Relaciones Laborales, </a:t>
            </a: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Organizaciones Sindicales y Negociación Colectiva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7200" y="1971720"/>
          <a:ext cx="8229600" cy="37814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1971720"/>
                    <a:ext cx="8229600" cy="37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"/>
          <p:cNvSpPr/>
          <p:nvPr/>
        </p:nvSpPr>
        <p:spPr>
          <a:xfrm flipV="1">
            <a:off x="5543640" y="2168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119640" y="216864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332000" y="6129360"/>
            <a:ext cx="680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Consejo Asesor Presidencial Trabajo y Equi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54A36-386F-4ACE-8584-8EC190781E8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845640"/>
            <a:ext cx="892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3. Módulo: “Relaciones Laborales, </a:t>
            </a: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Organizaciones Sindicales y Negociación Colectiva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7200" y="1884240"/>
          <a:ext cx="8229600" cy="39560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1884240"/>
                    <a:ext cx="8229600" cy="395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1332000" y="6129360"/>
            <a:ext cx="680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Consejo Asesor Presidencial Trabajo y Equi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371BC-FC43-4C9C-A671-F584FF7EC16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8000" y="606600"/>
            <a:ext cx="89280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. Empresa Moderna Alta-Productiv. GL con alta </a:t>
            </a:r>
            <a:r>
              <a:rPr b="0" lang="es-ES" sz="2800" spc="-1" strike="noStrike">
                <a:solidFill>
                  <a:srgbClr val="000000"/>
                </a:solidFill>
                <a:latin typeface="Symbol"/>
                <a:ea typeface="Symbol"/>
              </a:rPr>
              <a:t>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Modelo Fordista Jerárquico v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Modelo Toyotista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Fordis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Mundo Vertical – toda IF/toma decis. – centraliz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úpula – Gerente Gene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Órdenes / IF – fluye hacia abaj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Toyotismo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– 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Toma decis. descentralizada y participati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Toyotismo =&gt; Flujo IF – both w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=&gt; Adaptabil. 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s-E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permanente pa’ </a:t>
            </a:r>
            <a:r>
              <a:rPr b="0" lang="es-E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Y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  ante shocks 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  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hocks competitividad de  empresas G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2BABF-823D-4A92-9F30-870A0E86C76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000000"/>
                </a:solidFill>
                <a:uFillTx/>
                <a:latin typeface="Arial"/>
              </a:rPr>
              <a:t>4 Reglas básicas pa’ </a:t>
            </a:r>
            <a:r>
              <a:rPr b="1" lang="es-ES" sz="2800" spc="-1" strike="noStrike" u="sng">
                <a:solidFill>
                  <a:srgbClr val="000000"/>
                </a:solidFill>
                <a:uFillTx/>
                <a:latin typeface="Wingdings 3"/>
                <a:ea typeface="Wingdings 3"/>
              </a:rPr>
              <a:t></a:t>
            </a:r>
            <a:r>
              <a:rPr b="1" lang="es-ES" sz="2800" spc="-1" strike="noStrike" u="sng">
                <a:solidFill>
                  <a:srgbClr val="000000"/>
                </a:solidFill>
                <a:uFillTx/>
                <a:latin typeface="Arial"/>
              </a:rPr>
              <a:t> Y</a:t>
            </a:r>
            <a:r>
              <a:rPr b="1" lang="es-ES" sz="2800" spc="-1" strike="noStrike" u="sng" baseline="-25000">
                <a:solidFill>
                  <a:srgbClr val="000000"/>
                </a:solidFill>
                <a:uFillTx/>
                <a:latin typeface="Arial"/>
              </a:rPr>
              <a:t>L</a:t>
            </a:r>
            <a:r>
              <a:rPr b="1" lang="es-ES" sz="2800" spc="-1" strike="noStrike" u="sng">
                <a:solidFill>
                  <a:srgbClr val="000000"/>
                </a:solidFill>
                <a:uFillTx/>
                <a:latin typeface="Arial"/>
              </a:rPr>
              <a:t> intra-empresa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(National Association of Manufacturers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Empowering worker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=&gt; empoderar Tj pa’ toma decis. en funciones q’ desempeñan – pa’ así mejorar Ql y eficiencia – proceso product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Wingdings 3"/>
                <a:ea typeface="Wingdings 3"/>
              </a:rPr>
              <a:t>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Comunicac. y generar trust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ent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Management y Tj – pa’ asegurar apoyo T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 valores/objetivos empre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Convertir empresa en organiz. aprendizaje</a:t>
            </a:r>
            <a:r>
              <a:rPr b="0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permanente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en q’ capacitac./Ed. Tj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n proceso continuo I =&gt; </a:t>
            </a:r>
            <a:r>
              <a:rPr b="0" lang="es-E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Y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sí Tj tendrán conocim. y habilida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a’ contribuir mejor desempeño empre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B0B59-DE37-437A-B2A2-D4F37E5AC275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3 Reglas Básicas pa’ Y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mpoderar T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confianza Tj –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Capacitac. Perman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n un mundo competitivo GL con </a:t>
            </a:r>
            <a:r>
              <a:rPr b="0" lang="es-MX" sz="2000" spc="-1" strike="noStrike">
                <a:solidFill>
                  <a:srgbClr val="000000"/>
                </a:solidFill>
                <a:latin typeface="Symbol"/>
                <a:ea typeface="Symbol"/>
              </a:rPr>
              <a:t>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permanente – las empresas q’ van a sobrevivir son aquellas q’ aprovechan intensivamente todo el KH q’ poseen ejecutivos y T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 u="sng">
                <a:solidFill>
                  <a:srgbClr val="000000"/>
                </a:solidFill>
                <a:uFillTx/>
                <a:latin typeface="Arial"/>
              </a:rPr>
              <a:t>4</a:t>
            </a:r>
            <a:r>
              <a:rPr b="0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ª Regl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: Co’ alinear motivación/objetivos Tj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on los del Manage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robl. Agencia =&gt; Soluc. =&gt; Pagar con Accion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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mpresa Moderna USA </a:t>
            </a:r>
            <a:r>
              <a:rPr b="0" lang="es-E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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Post 1930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Implicancia =&gt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a’ </a:t>
            </a:r>
            <a:r>
              <a:rPr b="0" lang="es-MX" sz="20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Y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– empresa =&gt; No buscar excusas fuera empre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Lomos toro – No están afuera - están adentro </a:t>
            </a:r>
            <a:r>
              <a:rPr b="0" lang="es-MX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Y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DABA8-9400-4696-84F7-F1E61AB7ACD8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808200"/>
            <a:ext cx="8229600" cy="77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 u="sng">
                <a:solidFill>
                  <a:srgbClr val="000000"/>
                </a:solidFill>
                <a:uFillTx/>
                <a:latin typeface="Arial"/>
              </a:rPr>
              <a:t>D. Rol Sindicatos &amp; Neg. Colecti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85440"/>
            <a:ext cx="8229600" cy="492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-5972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Visión Neoclásica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: M</a:t>
            </a:r>
            <a:r>
              <a:rPr b="0" lang="es-MX" sz="18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es idéntico M</a:t>
            </a:r>
            <a:r>
              <a:rPr b="0" lang="es-MX" sz="1800" spc="-1" strike="noStrike" baseline="-25000">
                <a:solidFill>
                  <a:srgbClr val="000000"/>
                </a:solidFill>
                <a:latin typeface="Arial"/>
              </a:rPr>
              <a:t>Papás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=&gt; Sesgo Anti-sindi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¿Pq M</a:t>
            </a:r>
            <a:r>
              <a:rPr b="1" lang="es-MX" sz="18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 es </a:t>
            </a:r>
            <a:r>
              <a:rPr b="1" lang="es-MX" sz="1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 a M</a:t>
            </a:r>
            <a:r>
              <a:rPr b="1" lang="es-MX" sz="1800" spc="-1" strike="noStrike" baseline="-25000">
                <a:solidFill>
                  <a:srgbClr val="000000"/>
                </a:solidFill>
                <a:latin typeface="Arial"/>
              </a:rPr>
              <a:t>Papás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18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sindicatos en una empre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70560" indent="-522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es-MX" sz="1600" spc="-1" strike="noStrike">
                <a:solidFill>
                  <a:srgbClr val="000000"/>
                </a:solidFill>
                <a:latin typeface="Wingdings 3"/>
                <a:ea typeface="Wingdings 3"/>
              </a:rPr>
              <a:t>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nivel de conflictivid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70560" indent="-522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es-MX" sz="1600" spc="-1" strike="noStrike">
                <a:solidFill>
                  <a:srgbClr val="000000"/>
                </a:solidFill>
                <a:latin typeface="Wingdings 3"/>
                <a:ea typeface="Wingdings 3"/>
              </a:rPr>
              <a:t>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Y</a:t>
            </a:r>
            <a:r>
              <a:rPr b="0" lang="es-MX" sz="16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Visión Moderna sobre Rol Sindica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70560" indent="-522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Hyp. Hirschman: Exit/V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70560" indent="-522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Mdos. Imperfectos con IF Asimétr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Rol Sindicatos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=&gt; Sup. Básic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Excluir Sindicatos co’ tool de partidos polít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70560" indent="-522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Hacer fluida IF entre Management y T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70560" indent="-522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Wingdings 3"/>
                <a:ea typeface="Wingdings 3"/>
              </a:rPr>
              <a:t>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costos transac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70560" indent="-522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Proporcionan horizonte L.P. – preservac. acuerdos alcanzad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 u="sng">
                <a:solidFill>
                  <a:srgbClr val="000000"/>
                </a:solidFill>
                <a:uFillTx/>
                <a:latin typeface="Arial"/>
              </a:rPr>
              <a:t>Bottom 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70560" indent="-522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Falta + diálogo entre Management y T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70560" indent="-522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Prevalece paradigma Economía Cerrada: J </a:t>
            </a:r>
            <a:r>
              <a:rPr b="0" lang="es-MX" sz="16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70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Ahora estamos en mundo GL =&gt; J </a:t>
            </a:r>
            <a:r>
              <a:rPr b="0" lang="es-MX" sz="16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&gt; 0  o  J </a:t>
            </a:r>
            <a:r>
              <a:rPr b="0" lang="es-MX" sz="16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&lt;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70560" indent="-522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lphaL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¿Co’ alinear intereses Tj con objetivos empresa?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70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Probl Agencia =&gt; Soluc. </a:t>
            </a:r>
            <a:r>
              <a:rPr b="0" lang="es-MX" sz="1600" spc="-1" strike="noStrike">
                <a:solidFill>
                  <a:srgbClr val="000000"/>
                </a:solidFill>
                <a:latin typeface="Wingdings 3"/>
                <a:ea typeface="Wingdings 3"/>
              </a:rPr>
              <a:t>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Pago accio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6ADC6-2B49-46EF-B834-0F68E7E782D7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6840" y="765000"/>
            <a:ext cx="843588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Metodología Resoluc. Discrepancias Consejo Temáticas Pendientes entre Management y T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Negociac. por tema – genera posic. maximalistas de Management y T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lphaL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Soluc. =&gt; Transacción Combinad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=&gt; Q’ cede Tj contra q’ ceden empresar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2 Issues </a:t>
            </a:r>
            <a:r>
              <a:rPr b="0" lang="es-E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Legislación Laboral ajustable GL y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Δ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Rol Institucionalidad + importante: Direcc. Tra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0836E-265D-4963-A9A4-95C4F635912F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2057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MUNDO GLOBALIZ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1 mdo =&gt; Todo se mue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 – único fa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Implicancias =&gt; Estrat. Desarrollo =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lto w =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apa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mpresa Toyotis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Bajo w =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Flex. 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mpresa Fordis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Implicancias =&gt; Institucionalidad Labo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4CB14-E9EE-4698-8FDF-F15352CAC09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90680"/>
            <a:ext cx="8229600" cy="77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 u="sng">
                <a:solidFill>
                  <a:srgbClr val="000000"/>
                </a:solidFill>
                <a:uFillTx/>
                <a:latin typeface="Arial"/>
              </a:rPr>
              <a:t>LARGO PLAZ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627120" indent="-6271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¿Cómo será Chile en el 2020?, en el 2050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27120" indent="-6271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¿Cómo querríamos que fuera Chile en 2020?, en 2050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27120" indent="-6271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¿Qué piensan nuestros parlamentarios al respecto – 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27120" indent="-6271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es efectivo q’ el L.P. pa’ ellos es la próxima elecc.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27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27120" indent="-6271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central entre PD y PED =&gt; </a:t>
            </a:r>
            <a:r>
              <a:rPr b="0" lang="es-MX" sz="18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27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27120" indent="-6271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Issue: ¿Cómo construir horizonte LP en PE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3160" indent="-548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Rol central  institu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3160" indent="-548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Creación instancias de diá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39200" indent="-470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Consejo Econ. – So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39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diálogo =&gt; </a:t>
            </a:r>
            <a:r>
              <a:rPr b="0" lang="es-MX" sz="18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trust =&gt; </a:t>
            </a:r>
            <a:r>
              <a:rPr b="0" lang="es-MX" sz="18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K – social =&gt; </a:t>
            </a:r>
            <a:r>
              <a:rPr b="0" lang="es-MX" sz="18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3160" indent="-548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lphaL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Establecimiento de Metas L.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39200" indent="-470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Equilibrios Macro: </a:t>
            </a:r>
            <a:r>
              <a:rPr b="0" lang="es-MX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, Fis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39200" indent="-470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L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Metas Equidad: </a:t>
            </a:r>
            <a:r>
              <a:rPr b="0" lang="es-MX" sz="1800" spc="-1" strike="noStrike">
                <a:solidFill>
                  <a:srgbClr val="000000"/>
                </a:solidFill>
                <a:latin typeface="Wingdings 3"/>
                <a:ea typeface="Wingdings 3"/>
              </a:rPr>
              <a:t>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Qi , </a:t>
            </a:r>
            <a:r>
              <a:rPr b="0" lang="es-MX" sz="18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share Qi men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39200" indent="-470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L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Metas Tj: Capacita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3160" indent="-548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lphaL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Cambio mentalidad – Foco jóvenes/niñ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3160" indent="-548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lphaL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8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TRU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27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27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27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88E40-0DA8-4EE1-8B7C-E5141469ECE6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Intra-Empresa – Gerencia RRHH – no es sustituto  diálogo directo Management – Sindic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Cursos Training g Nuevos Dirigentes Sind. / Empr. – XX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Capacitac. – Intra-Empresa =&gt; Tj vean q’ están I en ell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Capacitac. General – fuera Empre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Ed- OK. L.P. =&gt; 20 añ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Capac. – C.P. =&gt; Ahora </a:t>
            </a:r>
            <a:r>
              <a:rPr b="1" lang="es-MX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</a:t>
            </a: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 Pa’ </a:t>
            </a:r>
            <a:r>
              <a:rPr b="1" lang="es-MX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 Competitiv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B5E67-2D44-47DB-9A9D-507607D65587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5839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RECIMIENTO - EQU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43496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Modelo actual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=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g - factor centr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- no olvidar 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ólo g importa – Resto viene por añadid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-452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Wingdings 3"/>
                <a:ea typeface="Wingdings 3"/>
              </a:rPr>
              <a:t>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ob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-452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qu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-452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elic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g resuelve todos los problem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Issue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 Pq. Todos los Gob. no adoptan g – co’ único objetivo?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Implicancias modelo centrado en 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odos los otros objetivos son sub-productos/dependiente de 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Hyp “trickle down” – “rebalse” – “chorreo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obreza = F(g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(-)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) -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quidad = F(g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(+)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) - ?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Hyp Convergen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odelos teóricos: g, comercio (H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videncia empír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-452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nvergencia len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-452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ivergencia (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731E7-ADD6-4FA6-BFFC-7BB7A516B95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105228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U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Literatura Moder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g=F(Equidad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Arial"/>
              </a:rPr>
              <a:t>(+)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Mecanismos conex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s-ES" sz="16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o M</a:t>
            </a:r>
            <a:r>
              <a:rPr b="0" lang="es-ES" sz="1600" spc="-1" strike="noStrike" baseline="-25000">
                <a:solidFill>
                  <a:srgbClr val="000000"/>
                </a:solidFill>
                <a:latin typeface="Arial"/>
              </a:rPr>
              <a:t>CR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– imperfecto =&gt; Excluye pob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Econ. polít. instituc </a:t>
            </a:r>
            <a:r>
              <a:rPr b="0" lang="es-ES" sz="16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=&gt; mantención status qu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Ineq. Genera </a:t>
            </a:r>
            <a:r>
              <a:rPr b="0" lang="es-ES" sz="16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violencia/delitos presente =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Generac. Expectat. &lt;0 / </a:t>
            </a:r>
            <a:r>
              <a:rPr b="0" lang="es-ES" sz="16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Inseguridad =&gt; </a:t>
            </a:r>
            <a:r>
              <a:rPr b="0" lang="es-ES" sz="1600" spc="-1" strike="noStrike">
                <a:solidFill>
                  <a:srgbClr val="000000"/>
                </a:solidFill>
                <a:latin typeface="Wingdings 3"/>
                <a:ea typeface="Wingdings 3"/>
              </a:rPr>
              <a:t>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I =&gt; </a:t>
            </a:r>
            <a:r>
              <a:rPr b="0" lang="es-ES" sz="1600" spc="-1" strike="noStrike">
                <a:solidFill>
                  <a:srgbClr val="000000"/>
                </a:solidFill>
                <a:latin typeface="Wingdings 3"/>
                <a:ea typeface="Wingdings 3"/>
              </a:rPr>
              <a:t>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videncia Empírica – W.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g = F(Equidad</a:t>
            </a:r>
            <a:r>
              <a:rPr b="0" lang="es-ES" sz="1600" spc="-1" strike="noStrike" baseline="-25000">
                <a:solidFill>
                  <a:srgbClr val="000000"/>
                </a:solidFill>
                <a:latin typeface="Arial"/>
              </a:rPr>
              <a:t>(+)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) – Gini / Share 50% po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Sistema ecs. Con efectos dinám. =&gt; g = F(Equidad); Equidad = F(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Ineq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No sólo afecta a 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Afecta nivel actos delictivos =&gt; Ql vida =&gt; I/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lphaL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Chequeo g post 1997 – Asia / 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Ante Shock* =&gt; Cuando </a:t>
            </a:r>
            <a:r>
              <a:rPr b="0" lang="es-ES" sz="1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&gt; ineq. – instituc. responsables pa’ distribuir de manera similar costos ajustes a través </a:t>
            </a:r>
            <a:r>
              <a:rPr b="0" lang="es-ES" sz="1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grupos Y</a:t>
            </a:r>
            <a:r>
              <a:rPr b="0" lang="es-ES" sz="1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funcionan pe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U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Implicancia Cent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&gt; Equidad =&gt; Expectat. &gt;0 futuro =&gt; </a:t>
            </a:r>
            <a:r>
              <a:rPr b="0" lang="es-ES" sz="18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&gt; g =&gt; facilita </a:t>
            </a:r>
            <a:r>
              <a:rPr b="0" lang="es-ES" sz="18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equ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Círculo virtuoso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=&gt; PD =&gt;   &gt; Y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c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&lt; Gi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83F4D-FC0D-4492-888D-88C434F9EC0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63504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OLITICAS SOCI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Paradigma 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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=&gt;  Equidad =&gt; Pob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nclusión/Exclusión, Ig. Oportun., Movil. Soc., Vulnerab. =&gt; </a:t>
            </a:r>
            <a:r>
              <a:rPr b="0" lang="es-ES" sz="18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</a:t>
            </a: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 Poli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Go =&gt; Foco: Pobre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; Go se agota en Pob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aradigma =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 Paternalis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-452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sistencialis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-452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ependen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foque Aritmético – Contar Pob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ste Paradigma =&gt;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i Pobres = 40% (199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cap &lt; U$ 5.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ero no es válido 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obres  &lt; 15% (200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cap &gt; U$ 13.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Go Asistencialismo =&gt; Go Empleabil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=&gt; Mejor Go es tener job &lt;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Go Qt   =&gt; Go Ql (Salud, Educación, Viv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C3417-C0D9-4110-A3C0-559D379E967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457200" y="861840"/>
          <a:ext cx="8229600" cy="5851440"/>
        </p:xfrm>
        <a:graphic>
          <a:graphicData uri="http://schemas.openxmlformats.org/drawingml/2006/table">
            <a:tbl>
              <a:tblPr/>
              <a:tblGrid>
                <a:gridCol w="2656080"/>
                <a:gridCol w="1076760"/>
                <a:gridCol w="1873800"/>
                <a:gridCol w="216000"/>
                <a:gridCol w="2406960"/>
              </a:tblGrid>
              <a:tr h="42696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PERSPECTIVA DE POLÍTICAS SOCIALES Y LABORA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SIGLO X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SIGLO XX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2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Pobr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uperación Necesidades Básic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mpleabilida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utosustent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9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Gasto Social Sectori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duc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alu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ivien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ntida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ntida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ntida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lida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lida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lida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4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Trabajadoras 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Trabajador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stabilidad labor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inamovilidad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ductividad y Remuneracion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pacitación 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duccción asimetría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der de negoci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2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Escolares y Jóven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ntida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scolarida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lida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utonomí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96061-4AB7-41A5-9864-4527062FABD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n Sociedad con estruct. distri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Muy plana =&gt; 9 Deciles =&gt; Gini: 0.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iscontinuidad 10º Decil =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Go (Equidad)=&gt; Foco en 9 deciles inferi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=&gt; Excluir Decil 10 =&gt; Educ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=&gt; Colegios Particulares Pag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Issue: Rol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Tool pa’ redistribu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Ventajas de Go sobre T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Rol Tax =&gt; Recaudar bi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ituación distrib.       - pre-M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- post-M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183AA-41CD-4131-B489-73700D0000F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iveles de Desigualdad en Chi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755640" y="2257560"/>
            <a:ext cx="7777080" cy="3743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8AE28-D8C3-4B8B-986A-363BB7F9777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0T01:27:01Z</dcterms:created>
  <dc:creator>Oscar Landerretche</dc:creator>
  <dc:description/>
  <dc:language>en-US</dc:language>
  <cp:lastModifiedBy>pmeller</cp:lastModifiedBy>
  <dcterms:modified xsi:type="dcterms:W3CDTF">2008-08-09T16:06:55Z</dcterms:modified>
  <cp:revision>169</cp:revision>
  <dc:subject/>
  <dc:title>Diapositiva 1</dc:title>
</cp:coreProperties>
</file>