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CFAE-B40D-4812-B2D7-03B919E8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F8B-6EDC-4B62-A60A-76272C72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010-777D-4115-BB82-101CCEED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684F-0987-4215-BE1E-1BA000CF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A97-69BA-4593-803D-9DE6F140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EA9-CABB-4FB8-9E44-1665C806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7EED-0B99-4963-8797-F75672C6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B88B-CF63-413E-9B2F-560B1A93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F0C-2BCA-4CE7-BFB3-9A651604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AFB6-A2BC-4EA3-87EF-C5DC78FD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0E23-3920-49DD-8A4C-C4280D64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782-4B21-4BC5-BF5D-F09223B6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2374-A908-4205-8AEE-66F412629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6440" y="2405160"/>
            <a:ext cx="83329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6035760" cy="4829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24360" y="836640"/>
            <a:ext cx="1942920" cy="162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3429000"/>
            <a:ext cx="1943280" cy="105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rza de V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42920" y="3860640"/>
            <a:ext cx="1943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s próxim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59280" y="242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4292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51672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6:Toma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5445000"/>
            <a:ext cx="2158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álisis de Err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00720" y="609300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álisis de Presu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48000" y="566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8800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42920" y="6165720"/>
            <a:ext cx="2158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me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587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6264000" cy="52038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7:Validación de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48360" y="2781360"/>
            <a:ext cx="179892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todas las decisiones fueron tomadas de manera correcta y cumplen los criterios de presupue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sale este mens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716360" y="5950080"/>
            <a:ext cx="2160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5351400" cy="4281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36240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39640" y="3284640"/>
            <a:ext cx="2087640" cy="72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39640" y="1989000"/>
            <a:ext cx="2087640" cy="43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050920" y="225396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50920" y="3284640"/>
            <a:ext cx="57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72360" y="2060640"/>
            <a:ext cx="237636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tomadas las decisiones deben transferir lo que hicieron a la carpeta que contendrá su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787640" y="3716280"/>
            <a:ext cx="15843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372276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7170480" cy="3095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11280" y="1197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s de grabar se les pide una confirmación, debido a que si graban no pueden volver a cargar sus decisiones. Es por eso que se les recomienda grabar solamente cuando estén completamente seguros de que sus decisiones son defini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47640" y="3500280"/>
            <a:ext cx="6134400" cy="2333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1280" y="20606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 pantalla les entrega un mensaje que su jugada a sido creada satisfactori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8:Grabar Decisiones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516720" y="1330200"/>
            <a:ext cx="2448000" cy="2371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9: Entrega de Jug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413000"/>
            <a:ext cx="597528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misma carpeta de la que sacaron los archivos en el comienzo, se les creará un archivo con exten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MBA2008.dz”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nd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”  es la industri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” es la firma a la que pertene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ARCHIVO ES EL QUE DEBEN MANDAR AL CORREO IND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084720" y="4941720"/>
            <a:ext cx="2478240" cy="600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732720" y="2421000"/>
            <a:ext cx="1942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MBA2007.d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96360" y="386064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5975280" cy="4780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68360" y="620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1: Inicio MARKST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59640" y="1844640"/>
            <a:ext cx="2016000" cy="315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 abrir el programa MARKSTRAT les aparece la siguiente panta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lo deben presionar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00680" y="5661000"/>
            <a:ext cx="8650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96360" y="5445000"/>
            <a:ext cx="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659640" y="6021360"/>
            <a:ext cx="936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1430280"/>
            <a:ext cx="6264360" cy="5011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771640" y="907920"/>
            <a:ext cx="4429440" cy="26100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68360" y="3213000"/>
            <a:ext cx="230328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24000" y="3213000"/>
            <a:ext cx="6476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2205000"/>
            <a:ext cx="64764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95280" y="907560"/>
            <a:ext cx="2376360" cy="1258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2: Cargar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3716280"/>
            <a:ext cx="2016000" cy="192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ndo acá pueden cargar los archivos que les envié por 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885080" y="285228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6156360" y="2852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5113440" cy="3689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851280" y="981000"/>
            <a:ext cx="4886280" cy="32101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V="1">
            <a:off x="1763640" y="4127040"/>
            <a:ext cx="2160720" cy="574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708360" y="4149720"/>
            <a:ext cx="4824360" cy="574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763640" y="1052640"/>
            <a:ext cx="2160720" cy="252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708360" y="3428640"/>
            <a:ext cx="216000" cy="144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24360" y="5013360"/>
            <a:ext cx="201636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á pueden definir de donde son llamados los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01080" y="1700280"/>
            <a:ext cx="0" cy="417672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740360" y="5877000"/>
            <a:ext cx="36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6143400" cy="491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04000" y="2975040"/>
            <a:ext cx="20160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á pueden definir el “path” para rescatar los da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95640" y="3357720"/>
            <a:ext cx="720720" cy="100800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4716000" y="380052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330200"/>
            <a:ext cx="6480000" cy="5185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77080" y="2924280"/>
            <a:ext cx="2087640" cy="208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pecifican la carpeta en la que guardaron los archivos que les ma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347640" y="3933720"/>
            <a:ext cx="3529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3:Reconocer Archivos 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54680" cy="4682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732720" y="620640"/>
            <a:ext cx="180000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vez cargados los archivos deben salir en esta panta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 seleccion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916000" y="1341360"/>
            <a:ext cx="3816360" cy="273528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149720"/>
            <a:ext cx="180036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n la carga presionando el botón de transferencia de archivos desde el instru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3058920" y="4940280"/>
            <a:ext cx="3817800" cy="93672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4:Transferencia de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7726320" cy="6180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2467080" cy="25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50920" y="404640"/>
            <a:ext cx="18730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549360"/>
            <a:ext cx="2592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133720"/>
            <a:ext cx="1800000" cy="115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907920"/>
            <a:ext cx="180036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Acá toman su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987640" y="1341360"/>
            <a:ext cx="2736720" cy="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6035760" cy="48290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42920" y="1197000"/>
            <a:ext cx="3673440" cy="1224000"/>
          </a:xfrm>
          <a:prstGeom prst="ellipse">
            <a:avLst/>
          </a:prstGeom>
          <a:noFill/>
          <a:ln w="1908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1268280"/>
            <a:ext cx="20876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os para basar las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s del Nego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25"/>
              </a:spcBef>
              <a:buClr>
                <a:srgbClr val="000000"/>
              </a:buClr>
              <a:buFont typeface="Arial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udios de Mercado       (Los que mandaron a ha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40464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tapa Número 5:Análisis de Dato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284720" y="1341360"/>
            <a:ext cx="2303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3:19:37Z</dcterms:created>
  <dc:creator>Blas Duarte Lange</dc:creator>
  <dc:description/>
  <dc:language>en-US</dc:language>
  <cp:lastModifiedBy>William Young</cp:lastModifiedBy>
  <dcterms:modified xsi:type="dcterms:W3CDTF">2008-10-05T16:53:39Z</dcterms:modified>
  <cp:revision>16</cp:revision>
  <dc:subject/>
  <dc:title>Diapositiva 1</dc:title>
</cp:coreProperties>
</file>