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DCF75-FDEA-4700-840E-A4B3AFEE9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E6B03-5998-4993-9D78-81E55E824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64B2-5977-4724-B84E-C264AB8E9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8544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456080" y="286236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4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8544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456080" y="5967000"/>
            <a:ext cx="187668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84175-2BD0-4722-87D2-0AA33AA793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2EE7A-75FF-4C46-A514-8523E914D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F4E7-BCE3-437B-A5DE-4D59459F7B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7C7BE-E17A-405D-9A27-9585D4453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84F57-720D-4D41-AE69-0CBCCFDCE5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14440" y="880560"/>
            <a:ext cx="582912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08E83-B5DF-4715-854A-297E07B1F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D9608-48BB-41C0-B579-2D3E4AC910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1360" y="596700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F2C2A-94CE-41A4-8253-AF9427F7B9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1444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1360" y="2862360"/>
            <a:ext cx="284436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4440" y="5967000"/>
            <a:ext cx="5829120" cy="283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13B66-FC36-47BD-BCAE-906C62740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14440" y="880560"/>
            <a:ext cx="582912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14440" y="2862360"/>
            <a:ext cx="5829120" cy="594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14080" y="9024480"/>
            <a:ext cx="142884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4480"/>
            <a:ext cx="217152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5080" y="9024480"/>
            <a:ext cx="1428480" cy="6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31ACB-B081-406D-AD4E-5D8658C729C5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1247760"/>
            <a:ext cx="6858000" cy="861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404640" y="304920"/>
            <a:ext cx="6048720" cy="937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6T21:50:05Z</dcterms:created>
  <dc:creator>Ing Quimica</dc:creator>
  <dc:description/>
  <dc:language>en-US</dc:language>
  <cp:lastModifiedBy>Tomas Vargas</cp:lastModifiedBy>
  <dcterms:modified xsi:type="dcterms:W3CDTF">2008-08-04T17:41:42Z</dcterms:modified>
  <cp:revision>1</cp:revision>
  <dc:subject/>
  <dc:title>Presentación de PowerPoint</dc:title>
</cp:coreProperties>
</file>