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604-B032-4C93-82D5-C46B9CB2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D57-6346-4CFB-872B-02E9177C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DFD-F289-4C77-B9EE-47808742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480-7DE7-4E66-9491-517DE225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3F0-8A47-493F-A094-049710A7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0B7-0606-499D-8501-3827CF3A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F3B-DF10-4AE5-A729-8007C65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E85-4599-416C-8B28-BD049B8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D8E-BD1F-4E8D-8018-4D51AB27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C2E-F66C-4C98-83F1-C268B2B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7AC-DFA4-4474-9A00-386F1F9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1C2-DA66-4CF4-8278-0C75D463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E098-4FAC-470A-836F-FF68CD6385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8-08-04T17:44:15Z</dcterms:modified>
  <cp:revision>13</cp:revision>
  <dc:subject/>
  <dc:title>Presentación de PowerPoint</dc:title>
</cp:coreProperties>
</file>