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4D6-826E-4120-84B4-5BB41849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7206-EB38-4B71-A40D-601A8CE7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CCB-B1AA-4014-A19F-048144AA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751-B029-4378-A245-50873323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233-FCA1-451D-8099-4BB2C1F9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83E-F1DB-4D4C-ADCA-4A7D89D4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70D0-6149-4DA5-8601-BCEAFE1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905-0320-4D62-A56F-27AF7B2D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447-D23E-4A77-9F43-6ED241C5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3B4-45DB-4A2D-851D-CC7C4D3B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C5F-2675-4EEF-9409-74B8F7A0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738-FE7E-4B31-9C46-7B72F954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D15-8AC7-4D03-A7EF-EB5A5AE6B0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8-08-11T19:01:59Z</dcterms:modified>
  <cp:revision>9</cp:revision>
  <dc:subject/>
  <dc:title>Presentación de PowerPoint</dc:title>
</cp:coreProperties>
</file>