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8BA5-FA51-424E-9A61-7D39A474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CE9D-66C1-4D1B-8390-EFD25F68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5FC-360D-4024-B761-F140F630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8B1-E90E-48F3-B31B-05FAEA34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CAD-18B6-4A8D-9D44-C784870C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214-C4E8-4E66-A1A4-3683FE2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09E-9F53-4125-815C-1F0E60B4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80B-38C1-494E-9999-17C82B48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0C1-C45A-4796-A49A-4F8A4DB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A67-ED8F-4B3D-AB1E-704A2F5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D80-39B7-4EFC-8DF2-6184BF48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55D-B35E-4993-8DB9-35F23CB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4450-B3DC-482C-A910-67BA41D29B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academico</cp:lastModifiedBy>
  <dcterms:modified xsi:type="dcterms:W3CDTF">2007-09-25T14:50:29Z</dcterms:modified>
  <cp:revision>22</cp:revision>
  <dc:subject/>
  <dc:title>Presentación de PowerPoint</dc:title>
</cp:coreProperties>
</file>