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1122-6EB4-4A11-AAC9-779A6688A89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F0ED-322A-4B53-B72A-E6AF7FE8C0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C1DA-EFD8-4F24-8538-8EAD41A143E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9715-2CB0-45CC-8406-F075BB4D3F2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944-76B1-44F1-90D3-B6341F676B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9C2-C648-44E8-8F68-F3E57A47D1E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CC8-69F3-4C61-8844-93FFA809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CF4-198F-49B7-8CB2-BB25593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444-5787-489F-B4C7-EBD18A4C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DFF-A568-4A42-A3F6-46B09E76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B71-5976-44EC-B1C4-01531069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3A11-3E0B-494C-BEFA-E53577B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DA8-6B87-4FCC-8A84-13D8A3C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4D21-F304-444A-B019-781E2318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225C-9447-47F8-90A2-BC4F872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FE77-BE00-4C5A-B97E-CB69D4B2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6F4A-C108-451C-AAB0-1D646E5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74A-C30E-4AF6-9BA9-61A9A06B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732E-4CD0-408C-836B-BE84182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0330-082F-4DE2-8364-C8F2A892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487-6426-420F-A169-972AE8EA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835-97C7-496E-B9A9-C7183BB0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DA0C-F74A-4532-893A-41C18FCF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F4186-CEA7-4348-8365-142118DE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170B5-65FA-451B-AD00-D80F9A82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96F1-CACD-4839-81F4-97EFE45A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4E385-C625-4D26-9CCA-0D035645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079DD-83CE-428C-8038-913C0BB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820-0A67-4AFD-A66B-2C4A64E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3BC0F-FB3E-48DD-B093-57D2C506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FCA7F-D283-41CC-A8F1-C7A0C2F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7E11D-CE61-44A3-AF68-0633AE1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0DDD8-F057-4F67-82F9-3402856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65968-0A51-4DDB-B491-95C2763A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E464B-F3D9-477F-834F-AD6EB376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295E5-A55A-4FE5-8C05-9CB39A94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34F07-0C4B-4174-AB96-6EC4053B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CFFBE-5E56-42FA-8CA9-A96DDD2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67C84-14C7-417E-9885-641E3FC6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679-7BB0-44AC-BDE1-083DDBB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66854-16FD-4905-AF07-AB98EB7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E5FEB-3304-4A6A-97F6-09926C6C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57560-C05F-4C24-A809-B597AF9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CDCFE-CE8B-458B-8C00-F2C7AEA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C6FDF-30F2-4492-9059-FCCA2A8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2F9C0-2BA6-4F3C-B7C0-DBEF673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1FFF6-23F7-47AB-A0CF-37D6DDE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DAA56-77EF-44C8-B501-BDC4A1C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FAC36-7C34-421B-8158-C1C2B61C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5DF29-30E9-4F18-8128-095255A6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0DA-A6DC-4B09-B16F-32BA3B8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1DF8-B729-4F6F-9C6E-AFA7DEB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7B566-CF8E-4B14-8B3B-BFD1CF7D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E5C68-3EF3-4BF7-B0B7-13C6AB52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99CD0-B47D-4458-8EB0-C459A00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5FD6C-7589-49F3-ADB9-4CB53B7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0D97C-1054-4687-B1F1-3C07694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11CE6-ACC2-4679-B620-9F41ED1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0D68C-D233-4619-ABAD-799DFFEA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206B9-6812-4862-95B9-30104C01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62AEB-7B14-485D-BB6C-BC4B4352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554-0782-4BED-977B-86AE5FF9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E070F-237C-43E1-9D4B-B9F6C975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163D-549F-4A21-B3C9-79A132D5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1C58-0A61-4A26-8B52-03CCF6F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DC08-846A-474D-9651-EB2D494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73D7-FEDB-49BB-9769-3FD0E715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B1E2B-0E63-4D25-BCF9-CBB7065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C44D-EFAA-47C7-A9C2-F843297B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EF63-1360-4E4A-9FCF-E399AE6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0ED7-8718-415E-A72C-D79CA12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4E813-124F-4F50-AF6F-6B9D4EA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A2B-5D8B-4CA0-A0BA-ADA20A0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099BF-708F-4E0D-9EAC-209CBA5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D5005-C28A-4186-99A0-F1797E93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4ACBF-7D7E-4365-9A48-DC1235D8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E0372-D1E3-4D4E-8D8C-0EBBFC97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3FADE-EAE6-4338-BD6D-FC30310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E253D-AE20-47C1-9385-3FE9E56C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E8F7D-3367-402A-B436-95F2EA2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CB469-2C4D-4616-A2F2-FAE62A26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D90FA-A8E0-4ED9-BA68-7580E04E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FAAC1-3EF9-40AD-8FCE-280733B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D26-9D42-480C-8B9E-9F2EFAF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7EECF-95B6-43D8-BD5F-DDAE9F7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6609B-B490-448A-9F68-D114741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0307D-2FC6-4251-88BC-7B0328DF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BCD21-CE8B-408C-96CA-B4CE9B18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209AA-E637-446D-882C-DF8B5E81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768B-CE6F-484F-8E59-A6F3B5D9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3579-BB12-42A9-9BAF-615DE964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ADA6-8D41-46CA-B5BD-87AFE2F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F028-4870-4B85-AE2A-AD3A4590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7C8B9-B8FE-4A28-94A4-508D709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C12-4138-4CD0-984A-FC4E772A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2B1D2-30DC-47F2-B912-EC12D897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6D1F2-2AD1-4679-8ECC-67B77E6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AA64-F146-4737-867F-80001D1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0D3D-DAC8-4ECB-8D14-4968A17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A1D4-830F-4259-BDA0-FBBA9BE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C206-6772-4893-959F-98F2BB57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765B-81AA-4B0F-9DE8-543DFDF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33A-EFE8-4453-A293-7A2D439BFE7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82A6-1817-4DD5-B47A-F6A351AB4FAA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72C-81DB-4AC4-9986-89B52B16C25B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643-BEF3-47A7-BFA0-E2BD44E77AA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8A2E-1038-49A0-99DC-67EAB9952A3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4C5E-DD05-4CD2-BEA1-A9F63C92FA78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7BB-F500-42F6-A895-2E4A513150C5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BC03-BD69-478B-A8E2-CDEF4BCFD24C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Radiación y Convec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00040" y="1714680"/>
            <a:ext cx="797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iene una pared caliente,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inmersa en un fluido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278080" y="219564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H="1">
            <a:off x="2060640" y="2266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 flipH="1">
            <a:off x="2060640" y="2482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 flipH="1">
            <a:off x="2060640" y="2700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060640" y="29163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060640" y="313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060640" y="3348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 flipH="1">
            <a:off x="2060640" y="356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2060640" y="3781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931320" y="284328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421000" y="2195640"/>
            <a:ext cx="100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3862440" y="261144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2349360" y="2987640"/>
            <a:ext cx="28764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H="1" flipV="1">
            <a:off x="2492280" y="2916000"/>
            <a:ext cx="14472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92280" y="2916360"/>
            <a:ext cx="43200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2923920" y="27716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577120" y="2500200"/>
            <a:ext cx="2550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alor disip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55d7e"/>
                </a:solidFill>
                <a:latin typeface="Arial"/>
              </a:rPr>
              <a:t>conv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adi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773360" y="4143240"/>
            <a:ext cx="136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827640" y="4591080"/>
            <a:ext cx="270900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Calor disipado por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217440" y="5203800"/>
                <a:ext cx="399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8"/>
              <p:cNvSpPr txBox="1"/>
              <p:nvPr/>
            </p:nvSpPr>
            <p:spPr>
              <a:xfrm>
                <a:off x="1387440" y="5786280"/>
                <a:ext cx="139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27"/>
          <p:cNvSpPr/>
          <p:nvPr/>
        </p:nvSpPr>
        <p:spPr>
          <a:xfrm>
            <a:off x="5185080" y="4591080"/>
            <a:ext cx="290268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355d7e"/>
                </a:solidFill>
                <a:uFillTx/>
                <a:latin typeface="Arial"/>
              </a:rPr>
              <a:t>Calor disipado por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9"/>
              <p:cNvSpPr txBox="1"/>
              <p:nvPr/>
            </p:nvSpPr>
            <p:spPr>
              <a:xfrm>
                <a:off x="5715000" y="5214960"/>
                <a:ext cx="1874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20"/>
              <p:cNvSpPr txBox="1"/>
              <p:nvPr/>
            </p:nvSpPr>
            <p:spPr>
              <a:xfrm>
                <a:off x="5924520" y="5861160"/>
                <a:ext cx="1505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30"/>
          <p:cNvSpPr/>
          <p:nvPr/>
        </p:nvSpPr>
        <p:spPr>
          <a:xfrm>
            <a:off x="2857680" y="6072120"/>
            <a:ext cx="431640" cy="0"/>
          </a:xfrm>
          <a:prstGeom prst="line">
            <a:avLst/>
          </a:prstGeom>
          <a:ln w="25560">
            <a:solidFill>
              <a:srgbClr val="355d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3286080" y="59101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55d7e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h radiación"/>
          <p:cNvPicPr/>
          <p:nvPr/>
        </p:nvPicPr>
        <p:blipFill>
          <a:blip r:embed="rId1"/>
          <a:srcRect l="4675" t="4105" r="8068" b="1652"/>
          <a:stretch/>
        </p:blipFill>
        <p:spPr>
          <a:xfrm>
            <a:off x="1139760" y="2013120"/>
            <a:ext cx="4218120" cy="47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1980360" y="1571760"/>
            <a:ext cx="50547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Gráfico para determinar h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r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en función de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y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3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000840" y="626436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0c0"/>
                </a:solidFill>
                <a:latin typeface="Arial"/>
              </a:rPr>
              <a:t>Temperatura del cuerpo fr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857920" y="31924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Temperatura del cuerpo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8 Conector recto de flecha"/>
          <p:cNvCxnSpPr/>
          <p:nvPr/>
        </p:nvCxnSpPr>
        <p:spPr>
          <a:xfrm flipH="1" flipV="1">
            <a:off x="4428720" y="3427200"/>
            <a:ext cx="13579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3" name="10 Conector recto de flecha"/>
          <p:cNvCxnSpPr/>
          <p:nvPr/>
        </p:nvCxnSpPr>
        <p:spPr>
          <a:xfrm flipH="1" flipV="1">
            <a:off x="5428800" y="6428520"/>
            <a:ext cx="572400" cy="252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404" name="Text Box 4"/>
          <p:cNvSpPr/>
          <p:nvPr/>
        </p:nvSpPr>
        <p:spPr>
          <a:xfrm>
            <a:off x="785880" y="38768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206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14160" y="1746360"/>
            <a:ext cx="7661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Experimento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mos la temperatura de un recinto con una termocupla o termóme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Problema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ectura se puede ver afectada por efecto de la radiación (presencia de una p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 cuerpo caliente a temperatura diferente a la del fluid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643040" y="3714840"/>
            <a:ext cx="360360" cy="0"/>
          </a:xfrm>
          <a:prstGeom prst="line">
            <a:avLst/>
          </a:prstGeom>
          <a:ln w="50760">
            <a:solidFill>
              <a:srgbClr val="b95b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18240" y="3519360"/>
            <a:ext cx="44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IMPORTANTE!</a:t>
            </a: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r temperatura a la som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4151160" y="450072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3933720" y="457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 flipH="1">
            <a:off x="3933720" y="4788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3933720" y="500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933720" y="5221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 flipH="1">
            <a:off x="3933720" y="5437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3933720" y="5653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 flipH="1">
            <a:off x="3933720" y="5870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933720" y="6086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585880" y="5064120"/>
            <a:ext cx="113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459320" y="442908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5754600" y="470052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4222800" y="5292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 flipH="1" flipV="1">
            <a:off x="4365360" y="5221080"/>
            <a:ext cx="14436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4365720" y="5221440"/>
            <a:ext cx="43164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4797360" y="507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4"/>
          <p:cNvSpPr/>
          <p:nvPr/>
        </p:nvSpPr>
        <p:spPr>
          <a:xfrm>
            <a:off x="5610240" y="5437080"/>
            <a:ext cx="144360" cy="14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5610240" y="514944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V="1">
            <a:off x="5683320" y="5365800"/>
            <a:ext cx="503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569160" y="40006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situación se representa como si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3606840" y="637524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55920" y="1708200"/>
            <a:ext cx="469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en el equilibrio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El cuerpo caliente irradia hacia la termocup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La termocupla disipa calor a través del flu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4"/>
              <p:cNvSpPr txBox="1"/>
              <p:nvPr/>
            </p:nvSpPr>
            <p:spPr>
              <a:xfrm>
                <a:off x="2851200" y="2960640"/>
                <a:ext cx="3649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3571920" y="3975120"/>
                <a:ext cx="233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3009960" y="414972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9"/>
          <p:cNvSpPr/>
          <p:nvPr/>
        </p:nvSpPr>
        <p:spPr>
          <a:xfrm>
            <a:off x="1931760" y="5073480"/>
            <a:ext cx="528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rmocupla se estabiliza a temperatura mayor qu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mperatura que tiene realmente el flu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941840" y="5916600"/>
            <a:ext cx="544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Necesario proteger el instrumento contra la radi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(Material de baja emisividad, escudo de radi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24 Flecha derecha"/>
          <p:cNvSpPr/>
          <p:nvPr/>
        </p:nvSpPr>
        <p:spPr>
          <a:xfrm>
            <a:off x="1285920" y="520236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5 Flecha derecha"/>
          <p:cNvSpPr/>
          <p:nvPr/>
        </p:nvSpPr>
        <p:spPr>
          <a:xfrm>
            <a:off x="1285920" y="60008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28760" y="1643040"/>
            <a:ext cx="835812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termómetro de vidri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96) se inserta en el centro de un ducto circular. Por el 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uye aire con una velocidad tal que el coeficiente de película entre el termómetro y 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17.7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BTU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r – ft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 – º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las paredes del ducto están a 800 ºF y el termómetro lee 300 ºF, calcular la temperatura del aire en el du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el termómetro se rodea con papel platead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03), determinar la nueva le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rmóme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h radiación"/>
          <p:cNvPicPr/>
          <p:nvPr/>
        </p:nvPicPr>
        <p:blipFill>
          <a:blip r:embed="rId1"/>
          <a:srcRect l="5267" t="3811" r="7896" b="2088"/>
          <a:stretch/>
        </p:blipFill>
        <p:spPr>
          <a:xfrm>
            <a:off x="285840" y="1571760"/>
            <a:ext cx="4714920" cy="528624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 flipV="1">
            <a:off x="1285920" y="435744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8"/>
          <p:cNvSpPr/>
          <p:nvPr/>
        </p:nvSpPr>
        <p:spPr>
          <a:xfrm flipH="1">
            <a:off x="785880" y="44290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009440" y="6510240"/>
            <a:ext cx="62892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300 º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89520" y="4286160"/>
            <a:ext cx="39420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4867920" y="17146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Se tiene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9"/>
              <p:cNvSpPr txBox="1"/>
              <p:nvPr/>
            </p:nvSpPr>
            <p:spPr>
              <a:xfrm>
                <a:off x="4929120" y="2266920"/>
                <a:ext cx="403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0"/>
              <p:cNvSpPr txBox="1"/>
              <p:nvPr/>
            </p:nvSpPr>
            <p:spPr>
              <a:xfrm>
                <a:off x="4923000" y="3511440"/>
                <a:ext cx="3435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1"/>
              <p:cNvSpPr txBox="1"/>
              <p:nvPr/>
            </p:nvSpPr>
            <p:spPr>
              <a:xfrm>
                <a:off x="5987880" y="4857840"/>
                <a:ext cx="1414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35880" y="1714680"/>
            <a:ext cx="840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En este caso la temperatura del papel será intermedia entre la temperatura de la pare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emperatura del aire. En el caso extremo se consid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741840" y="2478240"/>
            <a:ext cx="154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1268280" y="307188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No existe conducción ni convección entre el papel y el flujo de air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35240" y="34686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8"/>
              <p:cNvSpPr txBox="1"/>
              <p:nvPr/>
            </p:nvSpPr>
            <p:spPr>
              <a:xfrm>
                <a:off x="642960" y="4011480"/>
                <a:ext cx="37656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5000760" y="4044960"/>
                <a:ext cx="3313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Line 10"/>
          <p:cNvSpPr/>
          <p:nvPr/>
        </p:nvSpPr>
        <p:spPr>
          <a:xfrm>
            <a:off x="2411280" y="500076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486080" y="541656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f(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,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2411280" y="585792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005840" y="6286680"/>
            <a:ext cx="27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95b22"/>
                </a:solidFill>
                <a:latin typeface="Arial"/>
              </a:rPr>
              <a:t>Iterar!</a:t>
            </a:r>
            <a:r>
              <a:rPr b="0" lang="es-ES" sz="1800" spc="-1" strike="noStrike">
                <a:solidFill>
                  <a:srgbClr val="b95b2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specto a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3872880" y="6286680"/>
            <a:ext cx="1317240" cy="405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4T01:41:39Z</dcterms:modified>
  <cp:revision>119</cp:revision>
  <dc:subject/>
  <dc:title>Unidad 1:  Transferencia de calor</dc:title>
</cp:coreProperties>
</file>