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906C-6A51-4229-9E93-6F928E9DAF4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26D9-00B6-411B-9F63-26DB615D4F7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9B1B-10BB-4368-B216-DBD79C3DD40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C87F-CBD2-4F05-9575-DC5BDA2D761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2177-05C9-48A2-8D3E-554B5AD4819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19E4-096E-4DA9-94FD-FCC3A57AE44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C906-0D54-403C-9B0B-A61D0A51A96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F379-F12C-4C0B-B253-775599EC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383-7958-4A23-806B-5E0D0E9A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E79-28C1-464A-A35A-99218917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E0B-4C9F-4FF2-A522-632A30A7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A6A8-2631-4C33-8F0A-F3B851B1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3398-D025-45CC-B2DC-473F3D81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8F1F-0904-4FB8-9331-FEAF2C80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28F3-3ED3-4A10-A247-3357321E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9809-8996-4EFF-AEEC-DE7974B9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7025-5DB0-4621-96B3-2C14B8FA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DB47-B00D-4EAA-AAAE-98FC8A4D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294-2BD4-444D-A6E6-929A0BC8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69A2-E557-421F-A1CD-BBC527E5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E304-4C7C-4215-87A6-4918FE68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75AC-DE56-4D02-B057-5D345F42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C3E9-270E-40FF-99B2-AD222A53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E935-30C5-4165-916A-1FB924E2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8C0E2-DE5B-480B-90EE-0093EBB9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E16DF-354B-405F-8EFB-31A8B379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9EB8B-0B0C-44B6-9704-D671933C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0BAA8-4180-4564-A38D-E1FDCA53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BECF9D-2F92-41F5-AF62-671F87F8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088A-F37B-494E-947A-2D08FFA1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90D5B-3BAD-489F-833D-7B53AC0E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5C2F4B-26C4-4ED1-B03C-25FB0764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03744-E330-4A92-A7A0-6B8E6CE1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921A57-C0F3-487F-8591-479DE247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8527A-302E-4D0C-9DFD-FCFE993C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102E9-52EE-452C-A605-51F23357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42C19-A4D6-4D43-8276-21BC32C5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CF7C75-0A7C-4EA5-9762-329B43C7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705830-A3C9-44B9-BC90-B60AC47A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04C0AF-2EBC-4B48-98AD-5645E7CA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7BF4-84AD-44DA-BF8A-EA47839A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D17285-5852-4027-A402-33AE450B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19B18B-3AB1-4B93-B373-45A40F5B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0AFBFC-B7BE-42C7-8E4A-7238E860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B6F164-3894-4671-ADD7-082CD460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18B99F-2B8F-4B99-A05C-4B0D291F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8D99C4-C94E-484E-B5F2-12AE48EE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D91953-CE82-4CA5-8A8B-DB2B3C7E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22B557-4434-490A-B5BD-81092536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0536CD-5248-4332-890F-EB678D88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2B4700-FE77-4953-B903-C19D9D91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64EF-BFDC-4EF5-9D94-03E13F97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99A8D-D47F-47EA-A5E0-8F8E2F8C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9B5C69-5188-414C-8CA3-E659C306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CB5F3F-414C-40B1-8828-54F42FE0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D75287-D252-4602-855D-D9BEA164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41886F-73DF-4FCC-A679-D992817C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C6FDA7-3263-4E06-8ECD-C061713E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DEF458-24D3-4FC8-B6F2-F7AA05F3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8C3C87-EAE5-4C15-8E13-B7FEC5DB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1E49B-F638-4C00-8663-93764F8A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03909-8094-4C31-81FA-BD5BED41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FEE9-7FF2-4EE6-8C4E-92206A1B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E3E03E-A6C0-4DEA-A6F3-72719BB7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0F9C4-B2C7-4ED6-94B6-D9E0E239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A99FE-6089-4A29-AD3E-1EDA8406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0E5D0-ACFF-4E0D-8BF6-DFA7B6A5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A48B8-1572-4424-9841-1C95A388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B3610-DCF2-491A-BD56-8745F3EC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B5967-5B1F-4FD8-8CD8-F7862988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CCA8A-9407-4C90-87A8-A5827EFD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938CD-0DFA-485F-9D6C-9B04C352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D86A9-AB30-4240-8B33-BDFC21A2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FB1-2E14-4ED8-98EE-49F0A189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7A4F0-3987-49E9-AC12-9361696D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95AE0-9CEF-49B7-9888-C248D175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8DE8A-2D43-479F-8617-83C2E64D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F8E8D3-38F7-4773-B5CD-948F84A3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5450E3-DDD6-4423-B991-0A6BAE8B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194268-3B1A-415A-8112-E09C2602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8FC4FF-AAA8-4975-ACED-0E3935A8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DFF81D-6B85-4CB3-9F73-7A7E4C64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6795F7-7C9A-49EE-9A9C-CD8FAC3C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222A77-742F-479D-B9B8-BDEA7617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783-4F5F-4030-98C9-EC6199B7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DC4D89-3CA7-4486-8262-3A67B6E1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20B479-F1DF-4809-8CA2-D0C741A6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090F5-0720-4540-8D7F-6E279C92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8141C8-E044-4234-98FD-95D76943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8B05DB-E6C5-4E11-BD84-17361239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F0AFD-EEB8-4578-8E56-39996D76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9C74C-253B-4C4D-B288-28DB39FC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EA593-D7A7-4ABE-BE3D-FEFF6BE3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E8C38-5470-4077-9FC9-C1B1447A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36388-2BE1-4146-B004-9918407E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06FD-B88E-4C9D-B147-D83E9D2C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935B3-75E3-4938-A8DE-255F3189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202DE-B3E3-42F1-ACC2-34A413E2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CA0CB-420B-48B1-8BFE-F933E1FE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E3598-2CFA-491D-BE29-2300F7B6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1BBED-BFD3-4328-9B97-2C9232E0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422F8-3026-4BA3-908D-F27A2CE7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A1678-7485-451D-81BC-B81366E2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783B-D021-4145-B8BB-A1476544B65A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29E2-DF9D-4D3E-897C-956FDC596E4F}" type="slidenum">
              <a:rPr b="1" lang="es-E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B56A-0665-45FD-8FEA-B29CE763B47A}" type="slidenum">
              <a:rPr b="1" lang="es-E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C276-3EB2-48B9-B3CC-E82D1F1671F6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279E-7CFD-497C-B988-582934844BC3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E570-2FE0-4CDF-A32E-4F446A2DC13D}" type="slidenum">
              <a:rPr b="1" lang="es-E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1872-2E6C-443A-8F09-0F19D3B404C3}" type="slidenum">
              <a:rPr b="1" lang="es-E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15EC-DBEB-4316-8DC8-27626BA3D49E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3143160"/>
            <a:ext cx="6696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UNIDAD 1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TRANSFERENCIA DE CALOR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14272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Fenómeno de Radiación: Superficies de área finit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9" name="5 CuadroTexto"/>
          <p:cNvSpPr/>
          <p:nvPr/>
        </p:nvSpPr>
        <p:spPr>
          <a:xfrm>
            <a:off x="122040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fcfm"/>
          <p:cNvPicPr/>
          <p:nvPr/>
        </p:nvPicPr>
        <p:blipFill>
          <a:blip r:embed="rId1"/>
          <a:stretch/>
        </p:blipFill>
        <p:spPr>
          <a:xfrm>
            <a:off x="76320" y="144360"/>
            <a:ext cx="11430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Cuerpos de Área Finita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714240" y="1650960"/>
            <a:ext cx="797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asta ahora hemos considerado que toda la radiación emitida por cada cuerpo es recibida por el otro. Sin embargo, en Ingeniería los cuerpos tienen área finit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3"/>
          <p:cNvSpPr/>
          <p:nvPr/>
        </p:nvSpPr>
        <p:spPr>
          <a:xfrm>
            <a:off x="571680" y="3000240"/>
            <a:ext cx="797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Sólo una fracción de la energía irradiada por uno de los cuerpos es recibida por el o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 u="sng">
                <a:solidFill>
                  <a:srgbClr val="0070c0"/>
                </a:solidFill>
                <a:uFillTx/>
                <a:latin typeface="Arial"/>
              </a:rPr>
              <a:t>Factor de visión (o de forma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36"/>
              <p:cNvSpPr txBox="1"/>
              <p:nvPr/>
            </p:nvSpPr>
            <p:spPr>
              <a:xfrm>
                <a:off x="3103560" y="4000680"/>
                <a:ext cx="2968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Freeform 41"/>
          <p:cNvSpPr/>
          <p:nvPr/>
        </p:nvSpPr>
        <p:spPr>
          <a:xfrm rot="20616600">
            <a:off x="2433600" y="5408280"/>
            <a:ext cx="1295280" cy="1041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2"/>
          <p:cNvSpPr/>
          <p:nvPr/>
        </p:nvSpPr>
        <p:spPr>
          <a:xfrm rot="19618800">
            <a:off x="5455800" y="5365800"/>
            <a:ext cx="1254240" cy="9237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3"/>
          <p:cNvSpPr/>
          <p:nvPr/>
        </p:nvSpPr>
        <p:spPr>
          <a:xfrm flipV="1">
            <a:off x="3079800" y="5802480"/>
            <a:ext cx="3097080" cy="14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4"/>
          <p:cNvSpPr/>
          <p:nvPr/>
        </p:nvSpPr>
        <p:spPr>
          <a:xfrm flipV="1">
            <a:off x="3079800" y="5081760"/>
            <a:ext cx="288720" cy="86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5"/>
          <p:cNvSpPr/>
          <p:nvPr/>
        </p:nvSpPr>
        <p:spPr>
          <a:xfrm flipH="1" flipV="1">
            <a:off x="5456160" y="5225760"/>
            <a:ext cx="72072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46"/>
          <p:cNvSpPr/>
          <p:nvPr/>
        </p:nvSpPr>
        <p:spPr>
          <a:xfrm>
            <a:off x="3124080" y="5613480"/>
            <a:ext cx="216000" cy="420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47"/>
          <p:cNvSpPr/>
          <p:nvPr/>
        </p:nvSpPr>
        <p:spPr>
          <a:xfrm>
            <a:off x="5877000" y="5540400"/>
            <a:ext cx="135000" cy="420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4549680" y="5873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9"/>
          <p:cNvSpPr/>
          <p:nvPr/>
        </p:nvSpPr>
        <p:spPr>
          <a:xfrm>
            <a:off x="3260880" y="464328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0"/>
          <p:cNvSpPr/>
          <p:nvPr/>
        </p:nvSpPr>
        <p:spPr>
          <a:xfrm>
            <a:off x="5168880" y="479412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37"/>
              <p:cNvSpPr txBox="1"/>
              <p:nvPr/>
            </p:nvSpPr>
            <p:spPr>
              <a:xfrm>
                <a:off x="5554800" y="5369040"/>
                <a:ext cx="333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8"/>
              <p:cNvSpPr txBox="1"/>
              <p:nvPr/>
            </p:nvSpPr>
            <p:spPr>
              <a:xfrm>
                <a:off x="3308400" y="5511960"/>
                <a:ext cx="30780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4" name="Text Box 53"/>
          <p:cNvSpPr/>
          <p:nvPr/>
        </p:nvSpPr>
        <p:spPr>
          <a:xfrm>
            <a:off x="1936080" y="572940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4"/>
          <p:cNvSpPr/>
          <p:nvPr/>
        </p:nvSpPr>
        <p:spPr>
          <a:xfrm>
            <a:off x="6637320" y="5513400"/>
            <a:ext cx="547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57 Flecha abajo"/>
          <p:cNvSpPr/>
          <p:nvPr/>
        </p:nvSpPr>
        <p:spPr>
          <a:xfrm>
            <a:off x="4357800" y="2357280"/>
            <a:ext cx="357120" cy="42876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Factores de Visión entre Cuerpos Negros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554040" y="1747800"/>
            <a:ext cx="79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tiene que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6"/>
              <p:cNvSpPr txBox="1"/>
              <p:nvPr/>
            </p:nvSpPr>
            <p:spPr>
              <a:xfrm>
                <a:off x="1460520" y="2421000"/>
                <a:ext cx="61768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π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7"/>
              <p:cNvSpPr txBox="1"/>
              <p:nvPr/>
            </p:nvSpPr>
            <p:spPr>
              <a:xfrm>
                <a:off x="1476360" y="3789360"/>
                <a:ext cx="62355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π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8"/>
              <p:cNvSpPr txBox="1"/>
              <p:nvPr/>
            </p:nvSpPr>
            <p:spPr>
              <a:xfrm>
                <a:off x="2898720" y="5343480"/>
                <a:ext cx="2816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Text Box 11"/>
          <p:cNvSpPr/>
          <p:nvPr/>
        </p:nvSpPr>
        <p:spPr>
          <a:xfrm>
            <a:off x="3143160" y="598788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70c0"/>
                </a:solidFill>
                <a:latin typeface="Arial"/>
              </a:rPr>
              <a:t>relación de recipr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Configuraciones Típicas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9"/>
          <p:cNvSpPr/>
          <p:nvPr/>
        </p:nvSpPr>
        <p:spPr>
          <a:xfrm>
            <a:off x="611280" y="1521000"/>
            <a:ext cx="79786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uperficies con formas de discos, cuadrados y rectángulos, colocados en forma paralela a cierta distancia entre sí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)   Superficies con formas de discos, cuadrados y rectángulos, colocados en forma paralela a cierta distancia entre sí, pero conectados por paredes re – radiantes, adiabáticas o refractari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0"/>
          <p:cNvSpPr/>
          <p:nvPr/>
        </p:nvSpPr>
        <p:spPr>
          <a:xfrm>
            <a:off x="2305080" y="2711520"/>
            <a:ext cx="123840" cy="11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2"/>
          <p:cNvSpPr/>
          <p:nvPr/>
        </p:nvSpPr>
        <p:spPr>
          <a:xfrm>
            <a:off x="1913760" y="3087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3"/>
          <p:cNvSpPr/>
          <p:nvPr/>
        </p:nvSpPr>
        <p:spPr>
          <a:xfrm>
            <a:off x="3891960" y="3090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4"/>
          <p:cNvSpPr/>
          <p:nvPr/>
        </p:nvSpPr>
        <p:spPr>
          <a:xfrm>
            <a:off x="2449440" y="32828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5"/>
          <p:cNvSpPr/>
          <p:nvPr/>
        </p:nvSpPr>
        <p:spPr>
          <a:xfrm flipV="1">
            <a:off x="2449440" y="292536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6"/>
          <p:cNvSpPr/>
          <p:nvPr/>
        </p:nvSpPr>
        <p:spPr>
          <a:xfrm>
            <a:off x="2449440" y="3497400"/>
            <a:ext cx="122400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7"/>
          <p:cNvSpPr/>
          <p:nvPr/>
        </p:nvSpPr>
        <p:spPr>
          <a:xfrm flipV="1">
            <a:off x="2449440" y="242568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8"/>
          <p:cNvSpPr/>
          <p:nvPr/>
        </p:nvSpPr>
        <p:spPr>
          <a:xfrm>
            <a:off x="2449440" y="363996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9"/>
          <p:cNvSpPr/>
          <p:nvPr/>
        </p:nvSpPr>
        <p:spPr>
          <a:xfrm>
            <a:off x="2397240" y="5473800"/>
            <a:ext cx="161640" cy="108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44"/>
          <p:cNvSpPr/>
          <p:nvPr/>
        </p:nvSpPr>
        <p:spPr>
          <a:xfrm flipV="1">
            <a:off x="2558880" y="5473800"/>
            <a:ext cx="630360" cy="5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45"/>
          <p:cNvSpPr/>
          <p:nvPr/>
        </p:nvSpPr>
        <p:spPr>
          <a:xfrm>
            <a:off x="2558880" y="5986440"/>
            <a:ext cx="50040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9"/>
          <p:cNvSpPr/>
          <p:nvPr/>
        </p:nvSpPr>
        <p:spPr>
          <a:xfrm>
            <a:off x="2397240" y="5329080"/>
            <a:ext cx="1376280" cy="15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50"/>
          <p:cNvSpPr/>
          <p:nvPr/>
        </p:nvSpPr>
        <p:spPr>
          <a:xfrm>
            <a:off x="3189240" y="5473800"/>
            <a:ext cx="441360" cy="5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51"/>
          <p:cNvSpPr/>
          <p:nvPr/>
        </p:nvSpPr>
        <p:spPr>
          <a:xfrm flipV="1">
            <a:off x="3059280" y="5986440"/>
            <a:ext cx="57132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28"/>
              <p:cNvSpPr txBox="1"/>
              <p:nvPr/>
            </p:nvSpPr>
            <p:spPr>
              <a:xfrm>
                <a:off x="5000760" y="5788080"/>
                <a:ext cx="28065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29"/>
              <p:cNvSpPr txBox="1"/>
              <p:nvPr/>
            </p:nvSpPr>
            <p:spPr>
              <a:xfrm>
                <a:off x="5000760" y="3071880"/>
                <a:ext cx="28000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3" name="Rectangle 30"/>
          <p:cNvSpPr/>
          <p:nvPr/>
        </p:nvSpPr>
        <p:spPr>
          <a:xfrm>
            <a:off x="3714840" y="2711520"/>
            <a:ext cx="123840" cy="11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9"/>
          <p:cNvSpPr/>
          <p:nvPr/>
        </p:nvSpPr>
        <p:spPr>
          <a:xfrm>
            <a:off x="2397240" y="6558120"/>
            <a:ext cx="1376280" cy="15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3611520" y="5486400"/>
            <a:ext cx="162000" cy="108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55 Conector recto de flecha"/>
          <p:cNvCxnSpPr/>
          <p:nvPr/>
        </p:nvCxnSpPr>
        <p:spPr>
          <a:xfrm>
            <a:off x="2558520" y="5985000"/>
            <a:ext cx="100116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7" name="Text Box 32"/>
          <p:cNvSpPr/>
          <p:nvPr/>
        </p:nvSpPr>
        <p:spPr>
          <a:xfrm>
            <a:off x="2048760" y="5843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3"/>
          <p:cNvSpPr/>
          <p:nvPr/>
        </p:nvSpPr>
        <p:spPr>
          <a:xfrm>
            <a:off x="3847320" y="5846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Factor de Intercambio (Gráficos)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890640" y="1714680"/>
            <a:ext cx="396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define el </a:t>
            </a:r>
            <a:r>
              <a:rPr b="0" i="1" lang="es-ES" sz="1600" spc="-1" strike="noStrike">
                <a:solidFill>
                  <a:srgbClr val="0070c0"/>
                </a:solidFill>
                <a:latin typeface="Arial"/>
              </a:rPr>
              <a:t>factor de intercambio</a:t>
            </a: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para superficies conectadas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14"/>
              <p:cNvSpPr txBox="1"/>
              <p:nvPr/>
            </p:nvSpPr>
            <p:spPr>
              <a:xfrm>
                <a:off x="4859280" y="1730520"/>
                <a:ext cx="21416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25" name="Picture 12" descr="factor forma"/>
          <p:cNvPicPr/>
          <p:nvPr/>
        </p:nvPicPr>
        <p:blipFill>
          <a:blip r:embed="rId1"/>
          <a:stretch/>
        </p:blipFill>
        <p:spPr>
          <a:xfrm>
            <a:off x="1833480" y="2673360"/>
            <a:ext cx="5310360" cy="414036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14"/>
          <p:cNvSpPr/>
          <p:nvPr/>
        </p:nvSpPr>
        <p:spPr>
          <a:xfrm>
            <a:off x="909000" y="6378480"/>
            <a:ext cx="7619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Curvas 1, 2, 3 y 4 planos no conectados (a). Curvas 5, 6, 7 y 8 planos conec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Configuraciones Típicas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428760" y="1846440"/>
            <a:ext cx="816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uación de factor de intercambio aplicable en el caso en que las áreas son convex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Se cumple también que: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5"/>
              <p:cNvSpPr txBox="1"/>
              <p:nvPr/>
            </p:nvSpPr>
            <p:spPr>
              <a:xfrm>
                <a:off x="3429000" y="2735280"/>
                <a:ext cx="19731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</m:ba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1" name="Text Box 11"/>
          <p:cNvSpPr/>
          <p:nvPr/>
        </p:nvSpPr>
        <p:spPr>
          <a:xfrm>
            <a:off x="285840" y="3708360"/>
            <a:ext cx="801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adiación desde un plano radiante a un banco de tubos posicionados frente a una pared refractaria que absorbe la energía de los rayos que pasan entre los tubos, la re – irradia y re – irradia la energía absorbida sobre la parte trasera de los tub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357120" y="1701720"/>
            <a:ext cx="8286840" cy="1656000"/>
          </a:xfrm>
          <a:prstGeom prst="rect">
            <a:avLst/>
          </a:prstGeom>
          <a:noFill/>
          <a:ln w="2556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3"/>
          <p:cNvSpPr/>
          <p:nvPr/>
        </p:nvSpPr>
        <p:spPr>
          <a:xfrm>
            <a:off x="2817720" y="4802040"/>
            <a:ext cx="3095640" cy="36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4"/>
          <p:cNvSpPr/>
          <p:nvPr/>
        </p:nvSpPr>
        <p:spPr>
          <a:xfrm>
            <a:off x="288936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5"/>
          <p:cNvSpPr/>
          <p:nvPr/>
        </p:nvSpPr>
        <p:spPr>
          <a:xfrm>
            <a:off x="332280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6"/>
          <p:cNvSpPr/>
          <p:nvPr/>
        </p:nvSpPr>
        <p:spPr>
          <a:xfrm>
            <a:off x="375300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7"/>
          <p:cNvSpPr/>
          <p:nvPr/>
        </p:nvSpPr>
        <p:spPr>
          <a:xfrm>
            <a:off x="418608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8"/>
          <p:cNvSpPr/>
          <p:nvPr/>
        </p:nvSpPr>
        <p:spPr>
          <a:xfrm>
            <a:off x="461952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9"/>
          <p:cNvSpPr/>
          <p:nvPr/>
        </p:nvSpPr>
        <p:spPr>
          <a:xfrm>
            <a:off x="504972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20"/>
          <p:cNvSpPr/>
          <p:nvPr/>
        </p:nvSpPr>
        <p:spPr>
          <a:xfrm>
            <a:off x="548316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22"/>
          <p:cNvSpPr/>
          <p:nvPr/>
        </p:nvSpPr>
        <p:spPr>
          <a:xfrm>
            <a:off x="3105000" y="56674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23"/>
          <p:cNvSpPr/>
          <p:nvPr/>
        </p:nvSpPr>
        <p:spPr>
          <a:xfrm>
            <a:off x="3538440" y="56674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24"/>
          <p:cNvSpPr/>
          <p:nvPr/>
        </p:nvSpPr>
        <p:spPr>
          <a:xfrm>
            <a:off x="3968640" y="56674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25"/>
          <p:cNvSpPr/>
          <p:nvPr/>
        </p:nvSpPr>
        <p:spPr>
          <a:xfrm>
            <a:off x="4402080" y="56674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26"/>
          <p:cNvSpPr/>
          <p:nvPr/>
        </p:nvSpPr>
        <p:spPr>
          <a:xfrm>
            <a:off x="4832280" y="56674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27"/>
          <p:cNvSpPr/>
          <p:nvPr/>
        </p:nvSpPr>
        <p:spPr>
          <a:xfrm>
            <a:off x="5265720" y="56674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8"/>
          <p:cNvSpPr/>
          <p:nvPr/>
        </p:nvSpPr>
        <p:spPr>
          <a:xfrm flipH="1">
            <a:off x="2817720" y="6170760"/>
            <a:ext cx="30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9"/>
          <p:cNvSpPr/>
          <p:nvPr/>
        </p:nvSpPr>
        <p:spPr>
          <a:xfrm flipH="1">
            <a:off x="5986080" y="588312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30"/>
          <p:cNvSpPr/>
          <p:nvPr/>
        </p:nvSpPr>
        <p:spPr>
          <a:xfrm flipH="1">
            <a:off x="5986080" y="54514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1"/>
          <p:cNvSpPr/>
          <p:nvPr/>
        </p:nvSpPr>
        <p:spPr>
          <a:xfrm>
            <a:off x="6602040" y="52894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Segunda fi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6598800" y="572292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rimera fi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5854320" y="624348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lano radi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5953320" y="4786200"/>
            <a:ext cx="159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red refrac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Factor de Intercambio (Gráficos)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8" descr="factor forma tubos"/>
          <p:cNvPicPr/>
          <p:nvPr/>
        </p:nvPicPr>
        <p:blipFill>
          <a:blip r:embed="rId1"/>
          <a:srcRect l="0" t="1675" r="0" b="8942"/>
          <a:stretch/>
        </p:blipFill>
        <p:spPr>
          <a:xfrm>
            <a:off x="142920" y="1643040"/>
            <a:ext cx="4010040" cy="500076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20"/>
          <p:cNvSpPr/>
          <p:nvPr/>
        </p:nvSpPr>
        <p:spPr>
          <a:xfrm>
            <a:off x="3725640" y="1857240"/>
            <a:ext cx="541260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adiación absorbida por los tubos calcul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mo fracción de aquella absorbida por 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lano paralelo de área igual a la de la pared refract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situada detrás de los tub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entre Superficies Grises Finitas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6"/>
          <p:cNvSpPr/>
          <p:nvPr/>
        </p:nvSpPr>
        <p:spPr>
          <a:xfrm>
            <a:off x="122400" y="1538280"/>
            <a:ext cx="869760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este caso una fracción de la radiación recibida por cada superficie es reflej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acia la otra superfic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tonces, calor transferido ser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a el caso de dos </a:t>
            </a:r>
            <a:r>
              <a:rPr b="0" i="1" lang="es-ES" sz="1600" spc="-1" strike="noStrike">
                <a:solidFill>
                  <a:srgbClr val="0070c0"/>
                </a:solidFill>
                <a:latin typeface="Arial"/>
              </a:rPr>
              <a:t>superficies planas</a:t>
            </a: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 grise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inita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el caso de planos grises conectados por paredes re – radiantes se usa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uación anterior pero usando     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7b3d17"/>
                </a:solidFill>
                <a:latin typeface="Tahoma"/>
              </a:rPr>
              <a:t>La reflexión disminuye el flujo neto de radiación entre las superficies en relación al </a:t>
            </a:r>
            <a:r>
              <a:rPr b="0" lang="es-ES" sz="1600" spc="-1" strike="noStrike">
                <a:solidFill>
                  <a:srgbClr val="7b3d17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7b3d17"/>
                </a:solidFill>
                <a:latin typeface="Tahoma"/>
              </a:rPr>
              <a:t>caso de cuerpos neg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17"/>
              <p:cNvSpPr txBox="1"/>
              <p:nvPr/>
            </p:nvSpPr>
            <p:spPr>
              <a:xfrm>
                <a:off x="4265640" y="2290680"/>
                <a:ext cx="29494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8"/>
              <p:cNvSpPr txBox="1"/>
              <p:nvPr/>
            </p:nvSpPr>
            <p:spPr>
              <a:xfrm>
                <a:off x="2928960" y="3598920"/>
                <a:ext cx="331308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19"/>
              <p:cNvSpPr txBox="1"/>
              <p:nvPr/>
            </p:nvSpPr>
            <p:spPr>
              <a:xfrm>
                <a:off x="3975120" y="5286240"/>
                <a:ext cx="3110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El Efecto Invernader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399240" y="1643040"/>
            <a:ext cx="8429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pas gruesas de sólidos o líquidos son opacas y absorben toda la radiación que no 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flejada, sin transmitir n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lículas delgadas de la mayoría de los sólidos y líquidos absorben sólo una fracción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a radiación y el resto la transmiten (dependiendo del espesor de la película y la longit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onda de la radiació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586440" y="355932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d8047"/>
                </a:solidFill>
                <a:latin typeface="Arial"/>
              </a:rPr>
              <a:t>Láminas de vidrio ordi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8"/>
          <p:cNvSpPr/>
          <p:nvPr/>
        </p:nvSpPr>
        <p:spPr>
          <a:xfrm>
            <a:off x="3854520" y="3743280"/>
            <a:ext cx="576360" cy="0"/>
          </a:xfrm>
          <a:prstGeom prst="line">
            <a:avLst/>
          </a:prstGeom>
          <a:ln w="38160">
            <a:solidFill>
              <a:srgbClr val="dd80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4590000" y="3273480"/>
            <a:ext cx="40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600" spc="-1" strike="noStrike">
                <a:solidFill>
                  <a:srgbClr val="f7b615"/>
                </a:solidFill>
                <a:latin typeface="Arial"/>
              </a:rPr>
              <a:t>Transparent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a la radiación de longitu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onda bajas, o sea, en la zona visi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0"/>
          <p:cNvSpPr/>
          <p:nvPr/>
        </p:nvSpPr>
        <p:spPr>
          <a:xfrm>
            <a:off x="4587120" y="3916440"/>
            <a:ext cx="360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600" spc="-1" strike="noStrike">
                <a:solidFill>
                  <a:srgbClr val="f7b615"/>
                </a:solidFill>
                <a:latin typeface="Arial"/>
              </a:rPr>
              <a:t>Opac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a la radiación de longitud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nda alt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1"/>
          <p:cNvSpPr/>
          <p:nvPr/>
        </p:nvSpPr>
        <p:spPr>
          <a:xfrm rot="16200000">
            <a:off x="1560960" y="5108760"/>
            <a:ext cx="1584360" cy="2627280"/>
          </a:xfrm>
          <a:prstGeom prst="can">
            <a:avLst>
              <a:gd name="adj" fmla="val 22305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2"/>
          <p:cNvSpPr/>
          <p:nvPr/>
        </p:nvSpPr>
        <p:spPr>
          <a:xfrm>
            <a:off x="785880" y="6494400"/>
            <a:ext cx="316692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3"/>
          <p:cNvSpPr/>
          <p:nvPr/>
        </p:nvSpPr>
        <p:spPr>
          <a:xfrm>
            <a:off x="1003320" y="64944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4"/>
          <p:cNvSpPr/>
          <p:nvPr/>
        </p:nvSpPr>
        <p:spPr>
          <a:xfrm>
            <a:off x="1506600" y="5126040"/>
            <a:ext cx="431640" cy="719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5"/>
          <p:cNvSpPr/>
          <p:nvPr/>
        </p:nvSpPr>
        <p:spPr>
          <a:xfrm>
            <a:off x="1866960" y="5052960"/>
            <a:ext cx="28728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6"/>
          <p:cNvSpPr/>
          <p:nvPr/>
        </p:nvSpPr>
        <p:spPr>
          <a:xfrm>
            <a:off x="2443320" y="5052960"/>
            <a:ext cx="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7"/>
          <p:cNvSpPr/>
          <p:nvPr/>
        </p:nvSpPr>
        <p:spPr>
          <a:xfrm flipH="1">
            <a:off x="2730600" y="5052960"/>
            <a:ext cx="28728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8"/>
          <p:cNvSpPr/>
          <p:nvPr/>
        </p:nvSpPr>
        <p:spPr>
          <a:xfrm>
            <a:off x="3090960" y="4189320"/>
            <a:ext cx="647640" cy="720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20"/>
          <p:cNvSpPr/>
          <p:nvPr/>
        </p:nvSpPr>
        <p:spPr>
          <a:xfrm flipH="1">
            <a:off x="3017520" y="5126040"/>
            <a:ext cx="360360" cy="719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1"/>
          <p:cNvSpPr/>
          <p:nvPr/>
        </p:nvSpPr>
        <p:spPr>
          <a:xfrm>
            <a:off x="2199240" y="4071960"/>
            <a:ext cx="85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0 000 º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2"/>
          <p:cNvSpPr/>
          <p:nvPr/>
        </p:nvSpPr>
        <p:spPr>
          <a:xfrm>
            <a:off x="1887480" y="6205680"/>
            <a:ext cx="1361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" sz="1200" spc="-1" strike="noStrike" baseline="-25000">
                <a:solidFill>
                  <a:srgbClr val="000000"/>
                </a:solidFill>
                <a:latin typeface="Tahoma"/>
              </a:rPr>
              <a:t>inicial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 = 20 – 25º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3"/>
          <p:cNvSpPr/>
          <p:nvPr/>
        </p:nvSpPr>
        <p:spPr>
          <a:xfrm flipH="1" flipV="1">
            <a:off x="1577880" y="5628960"/>
            <a:ext cx="21600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4"/>
          <p:cNvSpPr/>
          <p:nvPr/>
        </p:nvSpPr>
        <p:spPr>
          <a:xfrm flipH="1" flipV="1">
            <a:off x="1938240" y="5628960"/>
            <a:ext cx="21600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5"/>
          <p:cNvSpPr/>
          <p:nvPr/>
        </p:nvSpPr>
        <p:spPr>
          <a:xfrm flipV="1">
            <a:off x="2298600" y="5628960"/>
            <a:ext cx="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6"/>
          <p:cNvSpPr/>
          <p:nvPr/>
        </p:nvSpPr>
        <p:spPr>
          <a:xfrm flipV="1">
            <a:off x="2443320" y="5628960"/>
            <a:ext cx="21564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7"/>
          <p:cNvSpPr/>
          <p:nvPr/>
        </p:nvSpPr>
        <p:spPr>
          <a:xfrm flipV="1">
            <a:off x="2730600" y="5628960"/>
            <a:ext cx="21564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28"/>
          <p:cNvSpPr/>
          <p:nvPr/>
        </p:nvSpPr>
        <p:spPr>
          <a:xfrm flipH="1" flipV="1">
            <a:off x="3593880" y="6060960"/>
            <a:ext cx="649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9"/>
          <p:cNvSpPr/>
          <p:nvPr/>
        </p:nvSpPr>
        <p:spPr>
          <a:xfrm>
            <a:off x="4299840" y="5786280"/>
            <a:ext cx="31536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70c0"/>
                </a:solidFill>
                <a:uFillTx/>
                <a:latin typeface="Tahoma"/>
              </a:rPr>
              <a:t>ATMÓSFER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xígeno, Nitrógeno -&gt; Transm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, H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(v)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-&gt; Absorben, reflejan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1:26:41Z</dcterms:created>
  <dc:creator>Meli Paloma</dc:creator>
  <dc:description/>
  <dc:language>en-US</dc:language>
  <cp:lastModifiedBy>Meli</cp:lastModifiedBy>
  <dcterms:modified xsi:type="dcterms:W3CDTF">2008-09-22T17:35:34Z</dcterms:modified>
  <cp:revision>129</cp:revision>
  <dc:subject/>
  <dc:title>Unidad 1:  Transferencia de calor</dc:title>
</cp:coreProperties>
</file>