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0B47-BD71-430B-892D-4ACA3E9727E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3E4-6E40-475E-AE5B-367A984D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A64-7F64-4F28-B739-DAAB4271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163-06D3-40EB-8223-5B1F5594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2C4-9B98-437D-AA30-06FE4700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B6A-0992-4323-B73F-9F8CB5E1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80A-B59D-46CF-B31E-9F4DA8BD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1312-7D34-4278-A044-B8299BFC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E36-A223-444D-841F-A92387B5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431-93F3-49BE-83FA-DBF685F3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269-4A6D-4B9D-AC3F-A9678B0E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55D-BB50-44F5-8DD0-2F833487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5EB-ABBB-4F80-B937-BE584A3A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3F67-8E36-4C12-A402-03376C0BF0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y Diseño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todologías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ek &amp;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0099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SI (Geologic Strength index), índice geológico de resis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SI=RMR(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iterio de Hoek and Brown (1980,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378936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stante mi para Distintos Tipos de Roca Inta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Escalamiento de Resistencia de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álculo de la resistencia del p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ato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CS=12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SI= 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etría del 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a Tributaria = 195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ea del Pilar = 115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metro del pilar= 4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cho Efectivo = 4 * (area / Perímetro )= 10,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beltez= Altura/ Ancho efectivo= 3,8/10,7 =0,3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fuerzo vertical = 13 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51280" y="1471680"/>
            <a:ext cx="5076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beltez del pilar: 0,3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3/S1= 0,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fuerzo principal mayor =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fuerzo principal menor =  8,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lculo de factor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S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maxima resistencia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indu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S = 72,9/39=1,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cule la variación del factor de seguridad si varía las condiciones de esfuerzos, por esfuerzos induc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sucede con el factor de seguridad si se profundiza la mina 200 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efinición de un ejercicio de apl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una minera que utiliza minería por hundimiento se está analizando las resistencia de pilares considerando distintas configuraciones, para una misma malla de tira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yout tipo Ten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yout tipo He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yout de un sistema revolucionario de ex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diciones de borde del probl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mallas de extracción son de 15x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desitas porfídicas con índices de RMR (Laubscher 1990) que varía entre 50 y 62 con un valor medio de 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índice de resistencia geológico (GSI) propuesto por Hoek tendría valores entre 48 y 60 con un valor medio de 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istencia en compresión simple de la roca intacta es de 120 Mpa y la constante de Hoek mi es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fuerzos Pres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un Ambiente tectónico se 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fuerzo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fuerz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577960"/>
            <a:ext cx="4038840" cy="495360"/>
          </a:xfrm>
          <a:custGeom>
            <a:avLst/>
            <a:gdLst/>
            <a:ahLst/>
            <a:rect l="l" t="t" r="r" b="b"/>
            <a:pathLst>
              <a:path w="2544" h="312">
                <a:moveTo>
                  <a:pt x="0" y="152"/>
                </a:moveTo>
                <a:cubicBezTo>
                  <a:pt x="124" y="128"/>
                  <a:pt x="248" y="104"/>
                  <a:pt x="384" y="104"/>
                </a:cubicBezTo>
                <a:cubicBezTo>
                  <a:pt x="520" y="104"/>
                  <a:pt x="680" y="120"/>
                  <a:pt x="816" y="152"/>
                </a:cubicBezTo>
                <a:cubicBezTo>
                  <a:pt x="952" y="184"/>
                  <a:pt x="1080" y="280"/>
                  <a:pt x="1200" y="296"/>
                </a:cubicBezTo>
                <a:cubicBezTo>
                  <a:pt x="1320" y="312"/>
                  <a:pt x="1432" y="256"/>
                  <a:pt x="1536" y="248"/>
                </a:cubicBezTo>
                <a:cubicBezTo>
                  <a:pt x="1640" y="240"/>
                  <a:pt x="1720" y="280"/>
                  <a:pt x="1824" y="248"/>
                </a:cubicBezTo>
                <a:cubicBezTo>
                  <a:pt x="1928" y="216"/>
                  <a:pt x="2064" y="96"/>
                  <a:pt x="2160" y="56"/>
                </a:cubicBezTo>
                <a:cubicBezTo>
                  <a:pt x="2256" y="16"/>
                  <a:pt x="2336" y="16"/>
                  <a:pt x="2400" y="8"/>
                </a:cubicBezTo>
                <a:cubicBezTo>
                  <a:pt x="2464" y="0"/>
                  <a:pt x="2520" y="8"/>
                  <a:pt x="254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438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6" idx="0"/>
            <a:endCxn id="57" idx="0"/>
          </p:cNvCxnSpPr>
          <p:nvPr/>
        </p:nvCxnSpPr>
        <p:spPr>
          <a:xfrm>
            <a:off x="6857640" y="3047760"/>
            <a:ext cx="10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8077320" y="54100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endCxn id="59" idx="0"/>
          </p:cNvCxnSpPr>
          <p:nvPr/>
        </p:nvCxnSpPr>
        <p:spPr>
          <a:xfrm>
            <a:off x="8343720" y="5105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endCxn id="59" idx="1"/>
          </p:cNvCxnSpPr>
          <p:nvPr/>
        </p:nvCxnSpPr>
        <p:spPr>
          <a:xfrm>
            <a:off x="7810200" y="56383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endCxn id="59" idx="2"/>
          </p:cNvCxnSpPr>
          <p:nvPr/>
        </p:nvCxnSpPr>
        <p:spPr>
          <a:xfrm flipV="1">
            <a:off x="8343720" y="5866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endCxn id="59" idx="3"/>
          </p:cNvCxnSpPr>
          <p:nvPr/>
        </p:nvCxnSpPr>
        <p:spPr>
          <a:xfrm flipH="1">
            <a:off x="8610120" y="5638320"/>
            <a:ext cx="19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8149680" y="48243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35800" y="5483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868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4640" y="3124080"/>
            <a:ext cx="447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v = (Densidad Roca x H) / 100 [Mp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47080" y="4419720"/>
            <a:ext cx="1474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 = k x 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1960" y="5105520"/>
            <a:ext cx="19058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tecton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ile = 2,5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nada = 2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stralia = 1,5 – 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donesia =  0,5 – 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14400" y="1295280"/>
            <a:ext cx="60958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efinición de la malla tipo Ten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1228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08800" y="2243160"/>
            <a:ext cx="2877840" cy="2882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028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4076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0872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5640" y="5157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5013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01080" y="3141720"/>
            <a:ext cx="57456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70840" y="342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56440" y="49989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388360" y="34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836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01160" y="407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616572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y zanjas 4,0x3,8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malla Hende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5157720"/>
            <a:ext cx="511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4,0x3,8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auxiliares 3,0x3,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60840" y="2637000"/>
            <a:ext cx="2831040" cy="1108080"/>
            <a:chOff x="-60840" y="2637000"/>
            <a:chExt cx="2831040" cy="1108080"/>
          </a:xfrm>
        </p:grpSpPr>
        <p:sp>
          <p:nvSpPr>
            <p:cNvPr id="92" name=""/>
            <p:cNvSpPr/>
            <p:nvPr/>
          </p:nvSpPr>
          <p:spPr>
            <a:xfrm rot="20522400">
              <a:off x="34560" y="278748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1856520" y="283140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11160" y="263700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60840" y="1628640"/>
            <a:ext cx="2831040" cy="1108080"/>
            <a:chOff x="-60840" y="1628640"/>
            <a:chExt cx="2831040" cy="1108080"/>
          </a:xfrm>
        </p:grpSpPr>
        <p:sp>
          <p:nvSpPr>
            <p:cNvPr id="96" name=""/>
            <p:cNvSpPr/>
            <p:nvPr/>
          </p:nvSpPr>
          <p:spPr>
            <a:xfrm rot="20522400">
              <a:off x="34560" y="177912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1856520" y="182304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1160" y="162864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-60840" y="3645000"/>
            <a:ext cx="2831040" cy="1108080"/>
            <a:chOff x="-60840" y="3645000"/>
            <a:chExt cx="2831040" cy="1108080"/>
          </a:xfrm>
        </p:grpSpPr>
        <p:sp>
          <p:nvSpPr>
            <p:cNvPr id="100" name=""/>
            <p:cNvSpPr/>
            <p:nvPr/>
          </p:nvSpPr>
          <p:spPr>
            <a:xfrm rot="20522400">
              <a:off x="34560" y="379548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856520" y="383940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1160" y="364500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47520" y="2665440"/>
            <a:ext cx="2831040" cy="1108080"/>
            <a:chOff x="2747520" y="2665440"/>
            <a:chExt cx="2831040" cy="1108080"/>
          </a:xfrm>
        </p:grpSpPr>
        <p:sp>
          <p:nvSpPr>
            <p:cNvPr id="104" name=""/>
            <p:cNvSpPr/>
            <p:nvPr/>
          </p:nvSpPr>
          <p:spPr>
            <a:xfrm rot="20522400">
              <a:off x="2842920" y="281592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4664880" y="285984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19520" y="266544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747520" y="1657440"/>
            <a:ext cx="2831040" cy="1108080"/>
            <a:chOff x="2747520" y="1657440"/>
            <a:chExt cx="2831040" cy="1108080"/>
          </a:xfrm>
        </p:grpSpPr>
        <p:sp>
          <p:nvSpPr>
            <p:cNvPr id="108" name=""/>
            <p:cNvSpPr/>
            <p:nvPr/>
          </p:nvSpPr>
          <p:spPr>
            <a:xfrm rot="20522400">
              <a:off x="2842920" y="180792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4664880" y="185184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19520" y="165744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7520" y="3673440"/>
            <a:ext cx="2831040" cy="1108080"/>
            <a:chOff x="2747520" y="3673440"/>
            <a:chExt cx="2831040" cy="1108080"/>
          </a:xfrm>
        </p:grpSpPr>
        <p:sp>
          <p:nvSpPr>
            <p:cNvPr id="112" name=""/>
            <p:cNvSpPr/>
            <p:nvPr/>
          </p:nvSpPr>
          <p:spPr>
            <a:xfrm rot="20522400">
              <a:off x="2842920" y="3823920"/>
              <a:ext cx="1036440" cy="784440"/>
            </a:xfrm>
            <a:prstGeom prst="parallelogram">
              <a:avLst>
                <a:gd name="adj" fmla="val 330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4664880" y="3867840"/>
              <a:ext cx="1108080" cy="719280"/>
            </a:xfrm>
            <a:prstGeom prst="parallelogram">
              <a:avLst>
                <a:gd name="adj" fmla="val 3851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19520" y="3673440"/>
              <a:ext cx="1154160" cy="84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771520" y="1744560"/>
            <a:ext cx="2831040" cy="1108080"/>
            <a:chOff x="5771520" y="1744560"/>
            <a:chExt cx="2831040" cy="1108080"/>
          </a:xfrm>
        </p:grpSpPr>
        <p:sp>
          <p:nvSpPr>
            <p:cNvPr id="116" name=""/>
            <p:cNvSpPr/>
            <p:nvPr/>
          </p:nvSpPr>
          <p:spPr>
            <a:xfrm rot="20522400">
              <a:off x="5866920" y="1895040"/>
              <a:ext cx="1036440" cy="784440"/>
            </a:xfrm>
            <a:prstGeom prst="parallelogram">
              <a:avLst>
                <a:gd name="adj" fmla="val 3303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688880" y="1938960"/>
              <a:ext cx="1108080" cy="719280"/>
            </a:xfrm>
            <a:prstGeom prst="parallelogram">
              <a:avLst>
                <a:gd name="adj" fmla="val 38514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43520" y="1744560"/>
              <a:ext cx="1154160" cy="846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867280" y="188748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67280" y="1557360"/>
            <a:ext cx="86544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1557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85080" y="155736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48720" y="1916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2782800"/>
            <a:ext cx="86544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828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78280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48720" y="3141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306864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42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866920" y="342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32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191628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007560" y="1907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288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820000" y="2492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713800" y="314172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malla espec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8880" y="1989000"/>
            <a:ext cx="12236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28880" y="2924280"/>
            <a:ext cx="122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8880" y="3860640"/>
            <a:ext cx="12236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98900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2924280"/>
            <a:ext cx="1224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386064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198900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2720" y="2924280"/>
            <a:ext cx="1224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386064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198900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2924280"/>
            <a:ext cx="122400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3860640"/>
            <a:ext cx="1224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1989000"/>
            <a:ext cx="122400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1844640"/>
            <a:ext cx="1511280" cy="10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5964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75840" y="29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5964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948360" y="31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3141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37600" y="29829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675640" y="184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7564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59640" y="213372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3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5157720"/>
            <a:ext cx="511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4,0x3,8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ección de las calles auxiliares 3,0x3,0 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odología de Hoek y Br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1:48:00Z</dcterms:created>
  <dc:creator>earancib</dc:creator>
  <dc:description/>
  <dc:language>en-US</dc:language>
  <cp:lastModifiedBy>WinuE</cp:lastModifiedBy>
  <dcterms:modified xsi:type="dcterms:W3CDTF">2008-10-09T22:05:01Z</dcterms:modified>
  <cp:revision>9</cp:revision>
  <dc:subject/>
  <dc:title>Análisis y Diseño de Pilares</dc:title>
</cp:coreProperties>
</file>