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5FB-DEE8-458B-AE8F-29CA4344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631-BD68-4FB1-89C4-AE8F0C3B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F73-1309-467B-9CDB-0D2C1563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A11-94FB-4FD5-99DE-7D720412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AEA-D1D6-43F9-87A9-E392E06E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7F9-8E40-4727-A556-28544235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46B-5AE2-40EA-A768-DD012A19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501-9073-4454-A7E8-99DAA04B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135-1F29-4968-9847-F202E4DD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D63-D35C-438D-AB53-13933AB8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B31-E3A1-4B35-A44A-0CE34134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299-357E-496B-8DA3-AD7C5FCB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5959-B74E-4F16-9660-B5AC26FB6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916280"/>
            <a:ext cx="8569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 en clases “obligatorios” (se necesitan 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9-03-09T20:12:22Z</dcterms:modified>
  <cp:revision>24</cp:revision>
  <dc:subject/>
  <dc:title>Un curso intensivo de Introducción a la Programación Orientada a Objetos en Java  para estudiantes de secundaria </dc:title>
</cp:coreProperties>
</file>