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9FE-A539-4652-92AC-AC6D1678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6E4-E2B3-4FF0-855B-B07245E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CDC-F6A9-4F31-B162-24B1CF8F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CB1-2BEC-48C0-BCCF-CDA6839C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BFD-195E-4F29-BAD6-DC4F35D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28B-756B-4A11-8B15-1EEE7DDD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0A4-ED96-44F3-B687-6BC9836B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EB0-EC62-4A1D-8109-C21C68C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014-6DA8-497D-AE64-2A6ED0F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CF4-FD16-4626-91DE-50AD4EB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365-B8F3-4F2E-8848-AB2392A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812-1F93-4BFC-A3AB-4E13BDA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E89-479C-4258-8283-9CE111BC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3015E77-6F2A-41FD-855F-C65432BF4AB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Valorización Económic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31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s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espesador.jpg"/>
          <p:cNvPicPr/>
          <p:nvPr/>
        </p:nvPicPr>
        <p:blipFill>
          <a:blip r:embed="rId1"/>
          <a:stretch/>
        </p:blipFill>
        <p:spPr>
          <a:xfrm>
            <a:off x="3200400" y="18288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vimiento desde stock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 generales de la planta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 ≈ 6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ncent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es de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fundición.jpg"/>
          <p:cNvPicPr/>
          <p:nvPr/>
        </p:nvPicPr>
        <p:blipFill>
          <a:blip r:embed="rId1"/>
          <a:stretch/>
        </p:blipFill>
        <p:spPr>
          <a:xfrm>
            <a:off x="2514600" y="2819520"/>
            <a:ext cx="4419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didas de la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bre bl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éditos y cargos de la fu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fr ≈ 0.35 US$/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asumiendo que el bloque está descu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suponiendo que será explo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 bloque puede tener 2 valoriz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planta (Cm + 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botadero (Cm, analizar si B &l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mina es el costo de mover un bloque. Todo el resto de los costos involucrados en la extracción se deben asignar al costo de pl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, costo min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p, costo plant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fr, costo de refinación y fundición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, recuperación del proceso minero y metalúrgico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m, ley media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, precio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, tonelaje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u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o = Ingreso –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 = {(P – Cfr)* R * 2204.6 * Lm – (Cm + Cp)} * T    [US$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 = 1.7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m = 1.86 + 0.07 * d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p = 6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fr = 0.35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 = 8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izar los siguientes bloques (10 x 10 x 15 metros) de acuerdo a las leyes presentadas y los parámetros económicos señalados anteriormente. Considere que los bloques tienen una densidad promedio de 2.7 t/m3, y que la distancia a planta es de 2 Km y a botadero 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1306440" y="4952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3899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P – Cfr) * R/100 * 2204.6 * Lm/100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1.7 – 0.35) * 0.85 * 2204.6 * 0.0029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29,712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Cm + Cp)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{(1.86 + 0.07 * 2) + 6}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32,400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29,712 – 32,400 = - 2,688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bot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Cm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1.86 + 0.07 * 3)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8,884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0 – 8,884 = - 8,884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gr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nel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u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etal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5334120" y="2971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 -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79640" cy="10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2880000" cy="106992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13280" y="5105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426924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849240" y="17524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CuadroTexto"/>
          <p:cNvSpPr/>
          <p:nvPr/>
        </p:nvSpPr>
        <p:spPr>
          <a:xfrm>
            <a:off x="1533960" y="2743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495400" y="2743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3700080" y="441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f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perforación.jpg"/>
          <p:cNvPicPr/>
          <p:nvPr/>
        </p:nvPicPr>
        <p:blipFill>
          <a:blip r:embed="rId1"/>
          <a:stretch/>
        </p:blipFill>
        <p:spPr>
          <a:xfrm>
            <a:off x="3962520" y="1371600"/>
            <a:ext cx="3125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1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Imagen" descr="tronadura.jpg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3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7 – 0.25  US$/t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Imagen" descr="carguío.jpg"/>
          <p:cNvPicPr/>
          <p:nvPr/>
        </p:nvPicPr>
        <p:blipFill>
          <a:blip r:embed="rId1"/>
          <a:stretch/>
        </p:blipFill>
        <p:spPr>
          <a:xfrm>
            <a:off x="4452840" y="14479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ción de los ca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tad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mbeo de 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.04 -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per + Ctro + Ccar + Ctra + C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0.4 – 2.0 US$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molienda.jpg"/>
          <p:cNvPicPr/>
          <p:nvPr/>
        </p:nvPicPr>
        <p:blipFill>
          <a:blip r:embed="rId1"/>
          <a:stretch/>
        </p:blipFill>
        <p:spPr>
          <a:xfrm>
            <a:off x="2514600" y="1600200"/>
            <a:ext cx="6119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3 Imagen" descr="flotación.jpg"/>
          <p:cNvPicPr/>
          <p:nvPr/>
        </p:nvPicPr>
        <p:blipFill>
          <a:blip r:embed="rId1"/>
          <a:stretch/>
        </p:blipFill>
        <p:spPr>
          <a:xfrm>
            <a:off x="2666880" y="16002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4-01T01:49:12Z</dcterms:modified>
  <cp:revision>62</cp:revision>
  <dc:subject/>
  <dc:title>Design and Planning of Block Caving Operations</dc:title>
</cp:coreProperties>
</file>