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163-E0E5-4A12-BCA3-660776A0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A62-422A-4CA9-A2FF-5DC27F32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E13-CC1C-42CD-9790-97A995E8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675-C6B3-4FFE-8224-B196820A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D68-23A7-4318-9959-A6E7E3A0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B48-8FD6-4B5D-B5AE-782CA448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7BB-7452-447C-8DFD-4864D077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628-03B8-425C-B33D-988AED60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E05-59F7-4907-8046-0BB24240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69C-B071-4271-BE84-6C870345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B19-84BB-4205-A6DA-F71A13A4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E30-211E-4E19-B396-BC12872F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F4D3-1D12-4635-BCB3-6586DEBA991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mensiones del cuerpo mineralizado [m x m x m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mensión del bloque (h = 15 m) [m x m x m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úmero de blo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Tonelaje de cada bloque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Tonelaje total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bre por bloque (fino)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bre total (fino total)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nsidad Máxima, Mínima y promedio [ton/m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ey Máxima, Mínima y Promedio [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Valorización de blo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Precio cobre = 1.5 US$/l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mina = 0.18*d + 0.6 US$/t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planta = 4 US$/t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fundición y refinación = 0.25 US$/l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cuperación = 85%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Distancia a botadero = 1 k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Distancia a planta = 2 k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Entregar un Excel o un Word con un resumen del análisis estadístic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0:50:59Z</dcterms:created>
  <dc:creator>JSB</dc:creator>
  <dc:description/>
  <dc:language>en-US</dc:language>
  <cp:lastModifiedBy>Camilo</cp:lastModifiedBy>
  <dcterms:modified xsi:type="dcterms:W3CDTF">2009-04-14T22:40:06Z</dcterms:modified>
  <cp:revision>13</cp:revision>
  <dc:subject/>
  <dc:title>Diapositiva 1</dc:title>
</cp:coreProperties>
</file>