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6D29-8B0C-4527-A573-45C0A0DF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145-01A8-40F4-8347-84C7EAC6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4101-33EA-4DAD-892D-A064EB45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D2F4-DBAC-4C80-A1BF-23329616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1E8D-024E-49BD-BFF7-79184C71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9A2-404C-44DC-9F13-1BD6502F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952A-7188-4C90-A7A3-D468BE6C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AF0-5BDF-42CE-BCCD-9441CEAF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B332-CE24-48CC-82A7-88C55B50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385-2E80-41E6-9BBB-079276F5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19AB-DDDD-4D99-BC46-2148F2F4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44EE-CDF1-44E9-A343-462B0E20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6493-C455-4286-9C47-E2EAA96E8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69FF5D56-A795-42F9-9048-C312ADCFB80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IngMinas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EI2001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ección 24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strategias de decisión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Javier Santibáñe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amilo Mora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12-05-200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yo tengo $1 ho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nto valdría si lo tuviese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ómo saber si un proyecto es más rentable que otr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Quién toma las decisiones estratégic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lor actualizado neto (VPN, VNA, NPV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iene unidades monetarias ($, US$, €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ado una tasa de descuento r, inversión F, ingresos I, costos C, en t periodos, se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357120" y="4343400"/>
            <a:ext cx="842976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V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ado una tasa de descuento r, inversión F, ingresos I, costos C, en t periodos, se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a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1260360" cy="539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 Interna de reto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 de descuento para la cual el VAN es igual a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alquier tasa de descuento r &lt; TIR, implica VAN &gt;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iodo de recuperación de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iene unidades de tiempo (años, meses, día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define como el tiempo en que el proyecto se demora en recuperar la plata invertida al inicio de la operación (F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3352680" y="5105520"/>
            <a:ext cx="2962440" cy="99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4114800" y="1600200"/>
            <a:ext cx="4829040" cy="3051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32767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Camilo</cp:lastModifiedBy>
  <dcterms:modified xsi:type="dcterms:W3CDTF">2009-05-12T21:12:30Z</dcterms:modified>
  <cp:revision>57</cp:revision>
  <dc:subject/>
  <dc:title>Design and Planning of Block Caving Operations</dc:title>
</cp:coreProperties>
</file>