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439E-3088-4F66-801F-92BE88A9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D852-CE81-43A4-B556-EB042B1C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B9D7-888C-44D1-A7BA-556DC8096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0E41-A077-41F5-BCB7-4A41460C1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6A12-BBD6-4153-AF08-04EBB624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3E2E-1398-4C12-A469-9A4E7403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9AC6-077F-4223-A950-40D51C0D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16B9-B4D4-45C4-8DFA-832906E4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78AE-5D66-4DA6-A848-8BF2C345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669E-11AC-490D-B32A-325DD980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BE25-9EB2-48EF-BAC3-38A7125D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0DD8-53AD-4FEE-9B70-2DE99ECA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034F-B65F-4170-9205-D0A61D5D4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173520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mitividad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(o impropiamente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constante dieléctric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 es una constante física que describe cómo un campo eléctrico afecta y es afectado por un medio. La permitividad del vacío     es 8,8541878176x10-12 F/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\varepsilon_0"/>
          <p:cNvPicPr/>
          <p:nvPr/>
        </p:nvPicPr>
        <p:blipFill>
          <a:blip r:embed="rId1"/>
          <a:stretch/>
        </p:blipFill>
        <p:spPr>
          <a:xfrm>
            <a:off x="3956040" y="2384280"/>
            <a:ext cx="223920" cy="168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8360" y="36338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permitividad de un material es usualmente dada como relación a la del vacío, denominándose permitividad relativa,           (también llamada constante dieléctrica en algunos casos). La permitividad absoluta se calcula multiplicando la permitividad relativa por la del vací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                                   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nde            es la susceptibilidad eléctrica del materi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\varepsilon_{r}"/>
          <p:cNvPicPr/>
          <p:nvPr/>
        </p:nvPicPr>
        <p:blipFill>
          <a:blip r:embed="rId2"/>
          <a:stretch/>
        </p:blipFill>
        <p:spPr>
          <a:xfrm>
            <a:off x="5210280" y="4005360"/>
            <a:ext cx="225360" cy="169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\varepsilon = \varepsilon_r \varepsilon_0  = (1+\chi_e)\varepsilon_0 "/>
          <p:cNvPicPr/>
          <p:nvPr/>
        </p:nvPicPr>
        <p:blipFill>
          <a:blip r:embed="rId3"/>
          <a:stretch/>
        </p:blipFill>
        <p:spPr>
          <a:xfrm>
            <a:off x="1476360" y="4829040"/>
            <a:ext cx="2303640" cy="255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\,\chi_e"/>
          <p:cNvPicPr/>
          <p:nvPr/>
        </p:nvPicPr>
        <p:blipFill>
          <a:blip r:embed="rId4"/>
          <a:stretch/>
        </p:blipFill>
        <p:spPr>
          <a:xfrm>
            <a:off x="1403280" y="5087880"/>
            <a:ext cx="289080" cy="212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9640" y="6206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ustificando una consulta en la catedra de 18/03 con respecto a permi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2038320" y="1197000"/>
          <a:ext cx="5068800" cy="4675320"/>
        </p:xfrm>
        <a:graphic>
          <a:graphicData uri="http://schemas.openxmlformats.org/drawingml/2006/table">
            <a:tbl>
              <a:tblPr/>
              <a:tblGrid>
                <a:gridCol w="1538280"/>
                <a:gridCol w="882720"/>
                <a:gridCol w="26478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stencia dieléctrica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kV/m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e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ua a 20 º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quel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-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opre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p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af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exigl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cel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drio pyr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108360" y="620640"/>
            <a:ext cx="89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la siguiente tabla se muestran las permitividades absolutas de algunos dieléctric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02:30:17Z</dcterms:created>
  <dc:creator> </dc:creator>
  <dc:description/>
  <dc:language>en-US</dc:language>
  <cp:lastModifiedBy> </cp:lastModifiedBy>
  <dcterms:modified xsi:type="dcterms:W3CDTF">2009-03-19T02:49:55Z</dcterms:modified>
  <cp:revision>3</cp:revision>
  <dc:subject/>
  <dc:title>Slide 1</dc:title>
</cp:coreProperties>
</file>