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E11-C356-4024-8753-80BA592A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1A72-9C05-43D6-8F3A-37FC1926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0BF-61C2-4A2F-BD53-ADDFAE38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EA01-1F9E-44E8-B553-F7EB2669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C28-2605-4566-AD61-ABC4DA7F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F03D-5440-479D-974D-9ECFD8FE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659-A578-4BA5-87C7-592B065D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BE6-9782-41D6-986F-17D17C9B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D36-93E7-448C-A9D0-3E77FB45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1C2-6778-40DF-BD4E-7B9725B9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6017-AEB3-4DD8-A3C6-467EEF4F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98C-5EA5-4582-B152-55A33188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82F44-EA27-431B-825B-FE93E3FA6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64.xml"/><Relationship Id="rId4" Type="http://schemas.openxmlformats.org/officeDocument/2006/relationships/slide" Target="slide66.xml"/><Relationship Id="rId5" Type="http://schemas.openxmlformats.org/officeDocument/2006/relationships/slide" Target="slide67.xml"/><Relationship Id="rId6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" Target="slide61.xm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unda Part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 Otras clasificaciones import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relevante: Costo futuro que será afectado por una decisión a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undido: Costo inamovible porque ya se produjo o porque una decisión ya tomada lo hace irremed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incremental: Mayor costo derivado de la producción de un conjunto adicional de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marginal:  Costo de producir una unidad 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controlable: Costo que puede ser modificado por el responsable de un departamento o se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histórico: El que ya se produ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estándar: Costo preestablecido o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ación del Costo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ste caso, el objetivo de costo es el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e Produc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en el proceso productivo, y que generalmente se asignan al producto (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no Productiv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e incurren fuera del proceso de producción (gastos de administración y ventas). Generalmente se consideran gastos del período (no inventari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eria Prim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sto de los materiales que forman parte de los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alarios de los trabajadores que participan directamente en la fabricación de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5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ificación de los costos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Indire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teria Prim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Materiales que no forman parte de los productos o que no son medibles en forma económicamente factible. Ej: Repuestos, lubricantes, pegament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ano de Obra Indirect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Salarios de trabajadores tales como capataces, personal de mantención, guardia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55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Gastos Generales de Fabric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Otros costos, tales como depreciación, arriendos, seguros, energía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irecto d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teria prim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o de obra directa j usada en el product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 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Producción de la Empres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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+ 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l Producto i = C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ujo de Exist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terias Prim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en Proce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. Term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Consu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I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C.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P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o de Obr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eldos  Distrib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Distri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1830240"/>
            <a:ext cx="0" cy="144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0040" y="2819520"/>
            <a:ext cx="228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906560"/>
            <a:ext cx="0" cy="205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560" y="373392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10280" y="190656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5040" y="28195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44974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869080"/>
            <a:ext cx="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10280" y="4497480"/>
            <a:ext cx="0" cy="12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44640" y="22114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3760" y="480060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590920" y="3049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04812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40080" y="601992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3506400"/>
            <a:ext cx="0" cy="2513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4640" y="35812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6960" y="2211480"/>
            <a:ext cx="912960" cy="379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07360" y="22096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763120" y="2211480"/>
            <a:ext cx="0" cy="1522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40480" y="3657600"/>
            <a:ext cx="3122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365904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40480" y="472428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jercic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l año recién terminado se obtuviero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preci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7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terminad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sa de 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costo de producción y de ventas para el año recién termi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strar los flujos de existencias en las cuentas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feccionar el Estado de Resultados para 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materias prim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rectas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compr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2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s primas directas disponible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materias primas direc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2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inici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4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teria prima directa utiliz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s finales de productos en proces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13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iniciales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6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producción 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83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ductos terminados disponibles para la v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9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xistencia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inal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productos terminad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8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4920" y="6091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15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stos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8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25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4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astos financier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0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ultado antes de impuesto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mpuesto a la Rent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12.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tilidad del ejercicio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18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3520" y="533520"/>
          <a:ext cx="822960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33520"/>
                    <a:ext cx="8229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Cálculo de Cos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la parte del costo que se imputa al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dónde se imputan los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gún el origen de los da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histó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étodos de Costeo: Absorbente 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stos se deben incluir como costos del produc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Absorbente (o completo o fun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eo Variable (o directo o contribucio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mbos métodos difieren en la forma de tratar los costos indirect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ducto absorbe la totalidad de los costos de producción (fijos y variables), en tanto los costos no  productivos se consideran gastos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damento: Tanto los costos variables como los fijos son necesarios para producir bie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e método es el único aceptado para fine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ostos indirectos de producción fijos no son inventariables, es decir, se consideran gastos del período, al igual que los costos no produ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damento: Los costos indirectos fijos se relacionan con la capacidad de producción, que es función de un períod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e método es de uso interno y presta mucha utilidad a la toma de deci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quema del Estado de Resultados con ambos méto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Absorb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Gastos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2071800"/>
            <a:ext cx="4114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Variabl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gresos por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.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Margen de con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Costos fij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 de adm. y v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 Resultad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Costeo absorbente vs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unitarios de producción ($/un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variab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 fij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5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U. to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4114800"/>
            <a:ext cx="84582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6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5.000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7.50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variable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1.7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 Fijo de adm. y vt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$4.8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inventario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absorben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1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Inici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prod. (6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. Final (1000*5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5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6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3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r costeo varia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entas (5000*75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7.5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s variab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producción (3000*5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7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rgen de Contrib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20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producción (2500*6000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5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Gastos fijos de Adm. y Venta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4.8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ultado Operacion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1.0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alor de los inventario fin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absorbente: 1.000*5.500 = 5.5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or costeo variable: 1.000*3.000 = 3.000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3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s de Co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registros, procedimientos y equipos utilizados para recopilar, en forma rutinaria, la información de los costos de una empre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esa medir los costos por objetivo de costos (no en un saco). Típicamente: departamentos y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bilidad Gerenc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de cost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conve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ción de costos indirectos: método 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s y Decisiones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is costo-volumen-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variables y margen de con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relevantes y problemas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bilidad para la planificación y el control de 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estándar y análisis de desvi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ósito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eo de los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-514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ación y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tapas de un Sistema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umulación de los costos en los centros de responsabilidad (propósito de contr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ª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licación de los costos a los productos (propósito de costeo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996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*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EO POR ÓRDENES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Orden de Trabajo o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usa en empresas que producen a pedido o cuando hay centros de producción que fabrican muchos productos (ej: imprentas, constructora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hoja de costos acompaña al lote de producción, y en ella se registran los costos incurridos en cada departamento (MPD, MOD, C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Unitario Lote i:    MPDi + MODi + C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año Lot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68880" y="5943600"/>
            <a:ext cx="342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eo por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s procesos, que fabrican un sólo producto en grandes cant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usa en empresas con producción en grandes cantidades y en forma continua (Ej.:Productos químicos, textiles, acero, minería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cada proceso se miden los costos de MPD, MOD, CI incurridos en un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ego se determina el costo promedio de pasar una unidad de producto a través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 Unitario Proceso i:          MPD + MOD + 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º de unidades proce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3960" y="6248520"/>
            <a:ext cx="373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sumos de un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inicial con u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alorado a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provenientes del proceso anterior, valoradas en P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</a:rPr>
              <a:t>u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conversión = MOD + 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oductos del Proce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ventario Final, con grado de terminación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valorado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idades terminadas y enviadas al proceso siguiente, valoradas en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$/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Órdenes de Trabaj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Una fábrica recibe durante un determinado período dos órdenes de trabajo, para fabricar 5.000 unidades del producto X y 1.000 unidades del producto Y, respectivamente. Las hojas de costos muestran la siguient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 kg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rden de Fabricación Producto 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 kg de PVC (3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 hrs (2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pto. B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teria Prim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 kg de látex (1.000$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ano de Obra Directa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 hrs (400$/h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demás, los costos indirectos de los departamentos A y B son de $200 mil y $250 mil, resp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ide determinar el costo unitario de los productos X e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distribuir los costos indirectos usaremos como base de asignación las horas de mano de ob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.000 / 7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2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57.1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85,71*5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tribución de los Costos Indirectos del Depto.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oras de MOD utilizada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ota de Costos Indirecto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/ Base   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0.000 / 1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 $/h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X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1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6.6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 asignados a Y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666,7*5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3.3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*300 + 10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2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200 + 10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8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7.143 + 166.667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23.81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28.8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5,76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sumen de costos del produc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P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00*300 + 5*1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65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O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00*200 + 50*4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2.857 + 83.33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26.19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.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idad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11,19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eptos Prev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tivos de la Contabilidad Gerencial y de la Contabilidad de Co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Gerenci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información para apoyar la toma de deci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planificación y el control de las ope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abilidad de Co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ificar, acumular, controlar y asignar los co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información para la elaboración de los estados financieros (valorizar existencias y determinar costo de ven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se dedica a la fabricación de pernos, a través de dos procesos. En el primer departamento se fabrica la cabeza del perno, a partir de un cilindro metálico que es la materia prima. En el segundo proceso o departamento, se toman las unidades provenientes del proceso anterior y se les fabrica el “hil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abe que los costos de conversión del primer departamento son de $600.000 por concepto de mano de obra directa y $300.000 por concepto de costos indirectos. El costo de la materia prima es de $40 la unidad y durante el período se procesaron y terminaron 30.000 un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iendo que no hay inventarios de productos en proceso, determine el valor del producto a la salida del primer proce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 de Costeo por Procesos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00.000 + 300.000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Conversión Unit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00.000 / 3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del Producto al salir del primer proce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$40 + $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0 $/un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681120"/>
                <a:tab algn="l" pos="1362240"/>
                <a:tab algn="l" pos="2043000"/>
                <a:tab algn="l" pos="2724120"/>
                <a:tab algn="l" pos="3405240"/>
                <a:tab algn="l" pos="4086360"/>
                <a:tab algn="l" pos="4767120"/>
                <a:tab algn="l" pos="5448240"/>
                <a:tab algn="l" pos="6129360"/>
                <a:tab algn="l" pos="6810480"/>
                <a:tab algn="l" pos="7491240"/>
                <a:tab algn="l" pos="8172360"/>
                <a:tab algn="l" pos="8853480"/>
                <a:tab algn="l" pos="9534600"/>
                <a:tab algn="l" pos="1021572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n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bjetiv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ignar todos los costos indirectos incurridos en el período a los productos fabricados. Para ello se debe seleccionar un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se de Asigna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Base de Asignación es un método sistemático de relacionar un determinado costo o grupo de costos con un objetivo de costos. La selección de la base de asignación debe ser guiada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pósito perseg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costo o esfuerzo necesario para la asig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bases de asignación más utilizada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de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 mano de obra dire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de la materia prima o costo pr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perficie o espaci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n una fábrica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Produ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demás h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Pla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Servi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 de Departamentos de 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conveniente departamentalizar los CI, puesto que un determinado producto no necesariamente requiere de la participación de todos los departa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partamento (Centro de Costo)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dad que realiza una función específica, que es responsable de determinados costos y que ocupa un espacio físico de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a Departamentos de 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Prim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92480" indent="0" algn="just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ción Secund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gnar CI de los Departamentos de Producción a los produ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096920"/>
            <a:ext cx="876312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2998800"/>
            <a:ext cx="784872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825480"/>
            <a:ext cx="85341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28600" y="782640"/>
            <a:ext cx="86104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ducción del patrimonio. Concepto de la contabilidad financiera vinculado a los principios contables o legislación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acrificio de recursos que se hace con la esperanza de obtener algún beneficio futuro. Concepto de la contabilidad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. Costos que no son gasto: Costo de oport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tos que no son costo: Impuesto a la r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920" y="2055960"/>
            <a:ext cx="85341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77960"/>
            <a:ext cx="86104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1312920"/>
            <a:ext cx="8534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880" y="1305000"/>
            <a:ext cx="86108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1244520"/>
            <a:ext cx="876312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signación de Costos Indirectos: Método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BC (Activity-Based Cos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3000" y="1866960"/>
          <a:ext cx="688824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66960"/>
                    <a:ext cx="688824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deas claves del ABC - Cos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roductos no consumen costos, sino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actividades son las que consumen re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adecuada gestión de costos debe actuar sobre las actividades (mejora continua; AB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 mayor consumo de actividades por parte de un producto mayor asignación de costos indirec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BC - Co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ualquier trabajo realizado al interior de una organización. (Ej: Emisión de facturas, preparar pedidos, mantención de equipos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unit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lín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ctividades a nivel de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uso de recursos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 de re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cantidad de recursos utilizados (consumidos) por una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4200" y="30470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jetivo de Cost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ósito o actividad para la cual se miden en forma separada los costos. Ej: productos, departamentos, territori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eligen en función de las decisiones que se desean to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dores de actividad 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Drivers de activida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 medida de la intensidad y frecuencia de la demanda de actividades por parte de los objetos de costos. Es utilizada para asignar los costos de las actividades a los objetos de costos. Identifican una relación de causa-efecto entre amb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240" y="42660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 Planificación de la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ses y Etapas del Proceso de Asignación ABC - C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2405520"/>
            <a:ext cx="175248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as actividades de cada cen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6480"/>
            <a:ext cx="17524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termina-ción del costo de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Asignación de los costos indirectos a los cen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Identificación de las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Elección de los generadores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) Reclasificación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ne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órdenes curs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e de materia pri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estas a punto de las máqui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as máqu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Unitario = Costo actividad / número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gen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o de la actividad * N° de generadores de c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rId1" action="ppaction://hlinksldjump"/>
          </p:cNvPr>
          <p:cNvSpPr/>
          <p:nvPr/>
        </p:nvSpPr>
        <p:spPr>
          <a:xfrm>
            <a:off x="7238880" y="586728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jempl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tecedentes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fabrica dos productos, X e Y, para los cuales se tien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a la producción la empresa cuenta con cuatro departamento, para los que se conocen los siguientes da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umulación de costos y sistemas de cost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mulación de costos es la recopilación de información de costos en una forma organizada mediante un sistema de contabi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stema significa “regularida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eo de las Actividad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tividades de maquina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6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pedid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stión de Client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3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stos total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6.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hora entonces corresponde elegir para cada actividad el generador (driver) de actividades, para luego asignar el costo de las actividades a los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resumen, los costos de cada producto son los sigu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acuerdo a su identificación con el objetivo de co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se pueden identificar específicamente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Indirect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quellos que no pueden ser identificados con un solo objetivo de costo, en forma económicamente fac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de los Co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acuerdo a su variabilidad con el nivel de produ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son independientes, en un cierto rango, del nivel de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Aquellos que varían en proporción directa con el nivel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fijo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Crecen a saltos según se alcanzan ciertos volúmenes de activ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s semivariabl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: Fijos hasta un cierto nivel y luego 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Michael Jorrat De Luis</cp:lastModifiedBy>
  <cp:lastPrinted>2000-06-08T22:31:45Z</cp:lastPrinted>
  <dcterms:modified xsi:type="dcterms:W3CDTF">2004-10-22T01:04:35Z</dcterms:modified>
  <cp:revision>28</cp:revision>
  <dc:subject/>
  <dc:title>Contabilidad Administrativa</dc:title>
</cp:coreProperties>
</file>