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A3AF-C27D-41B9-9008-898EEA911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2608-1A9C-4CB4-B72C-CAB251A0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7874-2FF2-4D1A-A2C8-BFD2B7D0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61E9-4D45-4431-83DE-30C51E89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ADB7-BB9E-4A60-A017-9176F211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D5D0-90CE-47A9-A6F4-B2A05D46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E63A-D940-4C63-9636-8FE5D01C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2890-86F3-4451-895A-6773E3B5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FEDF-C749-4CD9-9FF6-00AF59C6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02C3-85FD-492E-A40D-C484A403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1B87-D28C-491D-9A8B-CC1D91EC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EED7-AE8B-4714-A434-4781CF9C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B3C9-08CA-4812-AA2A-157A376A5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Análisis Financiero</a:t>
            </a: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Metro Santia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Héctor Alvar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2680" y="1552680"/>
            <a:ext cx="8918640" cy="3752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08000" y="5462640"/>
            <a:ext cx="888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Indicadores - Liquid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-347760" y="1957320"/>
          <a:ext cx="9156960" cy="2371680"/>
        </p:xfrm>
        <a:graphic>
          <a:graphicData uri="http://schemas.openxmlformats.org/drawingml/2006/table">
            <a:tbl>
              <a:tblPr/>
              <a:tblGrid>
                <a:gridCol w="3281400"/>
                <a:gridCol w="3979800"/>
                <a:gridCol w="947880"/>
                <a:gridCol w="947880"/>
              </a:tblGrid>
              <a:tr h="3988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lación de Liquidez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os Circul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7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7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sivos Circul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st Acido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. Circulante - Existenc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7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7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sivos Circul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Indicadores - Endeud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0120" y="1285920"/>
          <a:ext cx="7716960" cy="4449600"/>
        </p:xfrm>
        <a:graphic>
          <a:graphicData uri="http://schemas.openxmlformats.org/drawingml/2006/table">
            <a:tbl>
              <a:tblPr/>
              <a:tblGrid>
                <a:gridCol w="3309840"/>
                <a:gridCol w="2768760"/>
                <a:gridCol w="819000"/>
                <a:gridCol w="819360"/>
              </a:tblGrid>
              <a:tr h="3988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zón de endeudamiento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sivo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4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4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o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zon Deuda/Patrimonio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sivo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4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4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trimo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bertura de Intereses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ultado Oper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4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1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stos Financie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Indicadores - Rent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865160" y="2100240"/>
          <a:ext cx="5443560" cy="2841480"/>
        </p:xfrm>
        <a:graphic>
          <a:graphicData uri="http://schemas.openxmlformats.org/drawingml/2006/table">
            <a:tbl>
              <a:tblPr/>
              <a:tblGrid>
                <a:gridCol w="952560"/>
                <a:gridCol w="2768400"/>
                <a:gridCol w="903600"/>
                <a:gridCol w="8190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A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ultado Oper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os Tot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E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tilidad del Ejerci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,0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trimo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Indicadores - Activ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24000" y="1700280"/>
          <a:ext cx="8459640" cy="3914640"/>
        </p:xfrm>
        <a:graphic>
          <a:graphicData uri="http://schemas.openxmlformats.org/drawingml/2006/table">
            <a:tbl>
              <a:tblPr/>
              <a:tblGrid>
                <a:gridCol w="4056120"/>
                <a:gridCol w="2454120"/>
                <a:gridCol w="974880"/>
                <a:gridCol w="974520"/>
              </a:tblGrid>
              <a:tr h="3988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tación de Existencias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o de Ven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357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877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istenc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tacion de Cuentas por Cobrar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gresos por Ven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,7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,1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uentas por Cobr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tación de Activos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n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8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os Tot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nformació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nto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visión 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nálisis Indic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Información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mpresa servicios de transpo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rvicio diario de 2,2 Millones de Pasaj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ctualmente cuenta con 85 Kms. de vías en 92 Est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uevos proyectos sumarán 20 kms. y 13 estaciones m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mpresa Privada-Esta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rfo 59,5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isco 40,4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nto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yectos Ampliación de Lín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dquisición de nuevos coc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lumna vertebral de Transanti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nexistencia de Compet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mpresa de SERVIC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30320" y="1763640"/>
            <a:ext cx="888336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rcRect l="0" t="2819" r="0" b="2750"/>
          <a:stretch/>
        </p:blipFill>
        <p:spPr>
          <a:xfrm>
            <a:off x="71280" y="1486080"/>
            <a:ext cx="8964720" cy="2447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52280" y="4221000"/>
            <a:ext cx="888372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30320" y="1776240"/>
            <a:ext cx="888336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8000" y="1413000"/>
            <a:ext cx="8883720" cy="2249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08000" y="3645000"/>
            <a:ext cx="8883720" cy="25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3301" r="0" b="0"/>
          <a:stretch/>
        </p:blipFill>
        <p:spPr>
          <a:xfrm>
            <a:off x="152280" y="1287360"/>
            <a:ext cx="8883720" cy="2141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rcRect l="0" t="1079" r="0" b="0"/>
          <a:stretch/>
        </p:blipFill>
        <p:spPr>
          <a:xfrm>
            <a:off x="152280" y="3500280"/>
            <a:ext cx="8883720" cy="158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52280" y="5318280"/>
            <a:ext cx="8883720" cy="1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7:47:26Z</dcterms:created>
  <dc:creator>Toshiba</dc:creator>
  <dc:description/>
  <dc:language>en-US</dc:language>
  <cp:lastModifiedBy>Toshiba</cp:lastModifiedBy>
  <dcterms:modified xsi:type="dcterms:W3CDTF">2009-05-05T19:00:02Z</dcterms:modified>
  <cp:revision>7</cp:revision>
  <dc:subject/>
  <dc:title>Analisis Financiero Metro Santiago</dc:title>
</cp:coreProperties>
</file>