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FAE6-BEDE-451D-9458-EA14E869D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0E95-DB8D-437A-926E-A0AE13043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F776-6242-4AE6-A06D-34B28328E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3C9C-1BF7-49DD-94C9-7C0402A5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A30-4726-487F-B9DD-31BDC08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3C84-F579-45A5-AEA7-CA9312E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4947-F932-4A01-B618-C15BA68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52D9-4030-480F-A36A-A6E26E1CC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ACD7-7468-4C03-8948-926B1E4C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E146-794D-493B-8E2D-9DF5119D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E6E5-62A6-49EF-B20A-48AB7700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F4A-BC99-4A9D-A9ED-01600A28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9CA3-EF2D-4ABB-95FC-E15B98D76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790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2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793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797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800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803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808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812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814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7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818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823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4756320" y="5137200"/>
            <a:ext cx="14040" cy="147600"/>
          </a:xfrm>
          <a:custGeom>
            <a:avLst/>
            <a:gdLst/>
            <a:ahLst/>
            <a:rect l="l" t="t" r="r" b="b"/>
            <a:pathLst>
              <a:path w="36" h="374">
                <a:moveTo>
                  <a:pt x="0" y="374"/>
                </a:moveTo>
                <a:lnTo>
                  <a:pt x="36" y="157"/>
                </a:lnTo>
                <a:lnTo>
                  <a:pt x="3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4592160" y="4751280"/>
            <a:ext cx="65160" cy="123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363920" y="4397400"/>
            <a:ext cx="81000" cy="115920"/>
          </a:xfrm>
          <a:custGeom>
            <a:avLst/>
            <a:gdLst/>
            <a:ahLst/>
            <a:rect l="l" t="t" r="r" b="b"/>
            <a:pathLst>
              <a:path w="202" h="289">
                <a:moveTo>
                  <a:pt x="202" y="289"/>
                </a:moveTo>
                <a:lnTo>
                  <a:pt x="196" y="279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 flipV="1">
            <a:off x="4111560" y="4060440"/>
            <a:ext cx="85680" cy="1112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841920" y="3733920"/>
            <a:ext cx="90360" cy="106200"/>
          </a:xfrm>
          <a:custGeom>
            <a:avLst/>
            <a:gdLst/>
            <a:ahLst/>
            <a:rect l="l" t="t" r="r" b="b"/>
            <a:pathLst>
              <a:path w="229" h="269">
                <a:moveTo>
                  <a:pt x="229" y="269"/>
                </a:moveTo>
                <a:lnTo>
                  <a:pt x="70" y="7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57520" y="3425760"/>
            <a:ext cx="96840" cy="101520"/>
          </a:xfrm>
          <a:custGeom>
            <a:avLst/>
            <a:gdLst/>
            <a:ahLst/>
            <a:rect l="l" t="t" r="r" b="b"/>
            <a:pathLst>
              <a:path w="244" h="255">
                <a:moveTo>
                  <a:pt x="244" y="255"/>
                </a:moveTo>
                <a:lnTo>
                  <a:pt x="209" y="21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3260520" y="3126960"/>
            <a:ext cx="99720" cy="9684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2950920" y="2839680"/>
            <a:ext cx="104760" cy="9540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625840" y="2575080"/>
            <a:ext cx="110880" cy="85680"/>
          </a:xfrm>
          <a:custGeom>
            <a:avLst/>
            <a:gdLst/>
            <a:ahLst/>
            <a:rect l="l" t="t" r="r" b="b"/>
            <a:pathLst>
              <a:path w="280" h="216">
                <a:moveTo>
                  <a:pt x="280" y="216"/>
                </a:moveTo>
                <a:lnTo>
                  <a:pt x="196" y="14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274840" y="2340000"/>
            <a:ext cx="120600" cy="73080"/>
          </a:xfrm>
          <a:custGeom>
            <a:avLst/>
            <a:gdLst/>
            <a:ahLst/>
            <a:rect l="l" t="t" r="r" b="b"/>
            <a:pathLst>
              <a:path w="303" h="184">
                <a:moveTo>
                  <a:pt x="303" y="184"/>
                </a:moveTo>
                <a:lnTo>
                  <a:pt x="87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882800" y="2238480"/>
            <a:ext cx="133200" cy="47520"/>
          </a:xfrm>
          <a:custGeom>
            <a:avLst/>
            <a:gdLst/>
            <a:ahLst/>
            <a:rect l="l" t="t" r="r" b="b"/>
            <a:pathLst>
              <a:path w="337" h="120">
                <a:moveTo>
                  <a:pt x="337" y="0"/>
                </a:moveTo>
                <a:lnTo>
                  <a:pt x="134" y="6"/>
                </a:lnTo>
                <a:lnTo>
                  <a:pt x="0" y="12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840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841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846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H="1">
            <a:off x="3317400" y="204480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3317760" y="23814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>
            <a:off x="3316320" y="2719440"/>
            <a:ext cx="1440" cy="111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 flipH="1">
            <a:off x="3314880" y="3056040"/>
            <a:ext cx="144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314880" y="3392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flipH="1">
            <a:off x="3312720" y="3728880"/>
            <a:ext cx="180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311640" y="4740120"/>
            <a:ext cx="1440" cy="113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3309480" y="507852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309840" y="54151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79680" y="37879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917720" y="37908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254320" y="379260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590920" y="3795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928960" y="3797280"/>
            <a:ext cx="111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265560" y="3800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602160" y="3803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40200" y="3805200"/>
            <a:ext cx="111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276800" y="38084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340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950000" y="381312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8040" y="3816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888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2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893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899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409760" y="3594240"/>
            <a:ext cx="128520" cy="56880"/>
          </a:xfrm>
          <a:custGeom>
            <a:avLst/>
            <a:gdLst/>
            <a:ahLst/>
            <a:rect l="l" t="t" r="r" b="b"/>
            <a:pathLst>
              <a:path w="323" h="143">
                <a:moveTo>
                  <a:pt x="0" y="143"/>
                </a:moveTo>
                <a:lnTo>
                  <a:pt x="256" y="19"/>
                </a:lnTo>
                <a:lnTo>
                  <a:pt x="32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1808280" y="349200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2222640" y="3429000"/>
            <a:ext cx="139680" cy="15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2641680" y="3389400"/>
            <a:ext cx="1396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V="1">
            <a:off x="3062160" y="3370320"/>
            <a:ext cx="139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693960" y="3368520"/>
            <a:ext cx="1396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114800" y="3387600"/>
            <a:ext cx="139680" cy="11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533840" y="3429000"/>
            <a:ext cx="13824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948200" y="3503520"/>
            <a:ext cx="135000" cy="36720"/>
          </a:xfrm>
          <a:custGeom>
            <a:avLst/>
            <a:gdLst/>
            <a:ahLst/>
            <a:rect l="l" t="t" r="r" b="b"/>
            <a:pathLst>
              <a:path w="340" h="92">
                <a:moveTo>
                  <a:pt x="0" y="0"/>
                </a:moveTo>
                <a:lnTo>
                  <a:pt x="217" y="47"/>
                </a:lnTo>
                <a:lnTo>
                  <a:pt x="340" y="9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913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19920" y="243828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935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939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0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2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973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4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389480" y="4729320"/>
            <a:ext cx="52200" cy="136440"/>
          </a:xfrm>
          <a:custGeom>
            <a:avLst/>
            <a:gdLst/>
            <a:ahLst/>
            <a:rect l="l" t="t" r="r" b="b"/>
            <a:pathLst>
              <a:path w="133" h="341">
                <a:moveTo>
                  <a:pt x="133" y="341"/>
                </a:moveTo>
                <a:lnTo>
                  <a:pt x="33" y="6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175280" y="4349880"/>
            <a:ext cx="75960" cy="123840"/>
          </a:xfrm>
          <a:custGeom>
            <a:avLst/>
            <a:gdLst/>
            <a:ahLst/>
            <a:rect l="l" t="t" r="r" b="b"/>
            <a:pathLst>
              <a:path w="193" h="310">
                <a:moveTo>
                  <a:pt x="193" y="310"/>
                </a:moveTo>
                <a:lnTo>
                  <a:pt x="75" y="1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 flipV="1">
            <a:off x="3924360" y="3994200"/>
            <a:ext cx="8712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652920" y="3652920"/>
            <a:ext cx="93600" cy="112680"/>
          </a:xfrm>
          <a:custGeom>
            <a:avLst/>
            <a:gdLst/>
            <a:ahLst/>
            <a:rect l="l" t="t" r="r" b="b"/>
            <a:pathLst>
              <a:path w="232" h="283">
                <a:moveTo>
                  <a:pt x="232" y="283"/>
                </a:moveTo>
                <a:lnTo>
                  <a:pt x="144" y="1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H="1" flipV="1">
            <a:off x="2910960" y="2854440"/>
            <a:ext cx="103320" cy="101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592360" y="2558880"/>
            <a:ext cx="108000" cy="96840"/>
          </a:xfrm>
          <a:custGeom>
            <a:avLst/>
            <a:gdLst/>
            <a:ahLst/>
            <a:rect l="l" t="t" r="r" b="b"/>
            <a:pathLst>
              <a:path w="272" h="244">
                <a:moveTo>
                  <a:pt x="272" y="244"/>
                </a:moveTo>
                <a:lnTo>
                  <a:pt x="82" y="7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 flipV="1">
            <a:off x="2253960" y="2282400"/>
            <a:ext cx="114120" cy="88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1484280" y="1933560"/>
            <a:ext cx="138240" cy="52560"/>
          </a:xfrm>
          <a:custGeom>
            <a:avLst/>
            <a:gdLst/>
            <a:ahLst/>
            <a:rect l="l" t="t" r="r" b="b"/>
            <a:pathLst>
              <a:path w="348" h="133">
                <a:moveTo>
                  <a:pt x="348" y="6"/>
                </a:moveTo>
                <a:lnTo>
                  <a:pt x="323" y="0"/>
                </a:lnTo>
                <a:lnTo>
                  <a:pt x="121" y="21"/>
                </a:lnTo>
                <a:lnTo>
                  <a:pt x="0" y="13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2970360" y="173520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 flipH="1">
            <a:off x="2968200" y="20844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968560" y="243360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2968200" y="278136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2967120" y="31305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65320" y="3652920"/>
            <a:ext cx="180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2964960" y="4002120"/>
            <a:ext cx="180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63880" y="44560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2963880" y="4835520"/>
            <a:ext cx="1440" cy="117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2962440" y="522288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171440" y="354024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1000" y="3543480"/>
            <a:ext cx="115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870200" y="354492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217600" y="3546360"/>
            <a:ext cx="117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567160" y="3549600"/>
            <a:ext cx="115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16360" y="355284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265560" y="35542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613320" y="3557520"/>
            <a:ext cx="117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962520" y="356076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11720" y="356220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608360" y="356544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010120" y="3568680"/>
            <a:ext cx="115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822240" y="3429000"/>
            <a:ext cx="109800" cy="108000"/>
          </a:xfrm>
          <a:custGeom>
            <a:avLst/>
            <a:gdLst/>
            <a:ahLst/>
            <a:rect l="l" t="t" r="r" b="b"/>
            <a:pathLst>
              <a:path w="275" h="273">
                <a:moveTo>
                  <a:pt x="0" y="273"/>
                </a:moveTo>
                <a:lnTo>
                  <a:pt x="117" y="108"/>
                </a:lnTo>
                <a:lnTo>
                  <a:pt x="27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198440" y="3278160"/>
            <a:ext cx="139680" cy="38160"/>
          </a:xfrm>
          <a:custGeom>
            <a:avLst/>
            <a:gdLst/>
            <a:ahLst/>
            <a:rect l="l" t="t" r="r" b="b"/>
            <a:pathLst>
              <a:path w="352" h="98">
                <a:moveTo>
                  <a:pt x="0" y="98"/>
                </a:moveTo>
                <a:lnTo>
                  <a:pt x="208" y="33"/>
                </a:lnTo>
                <a:lnTo>
                  <a:pt x="35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22520" y="3193920"/>
            <a:ext cx="142920" cy="24120"/>
          </a:xfrm>
          <a:custGeom>
            <a:avLst/>
            <a:gdLst/>
            <a:ahLst/>
            <a:rect l="l" t="t" r="r" b="b"/>
            <a:pathLst>
              <a:path w="361" h="63">
                <a:moveTo>
                  <a:pt x="0" y="63"/>
                </a:moveTo>
                <a:lnTo>
                  <a:pt x="321" y="6"/>
                </a:lnTo>
                <a:lnTo>
                  <a:pt x="36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 flipV="1">
            <a:off x="2054160" y="3143160"/>
            <a:ext cx="144360" cy="12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V="1">
            <a:off x="2489040" y="3111120"/>
            <a:ext cx="14472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924280" y="3102120"/>
            <a:ext cx="145800" cy="1440"/>
          </a:xfrm>
          <a:custGeom>
            <a:avLst/>
            <a:gdLst/>
            <a:ahLst/>
            <a:rect l="l" t="t" r="r" b="b"/>
            <a:pathLst>
              <a:path w="365" h="3">
                <a:moveTo>
                  <a:pt x="0" y="3"/>
                </a:moveTo>
                <a:lnTo>
                  <a:pt x="94" y="0"/>
                </a:lnTo>
                <a:lnTo>
                  <a:pt x="3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60600" y="3103560"/>
            <a:ext cx="14472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795840" y="3124080"/>
            <a:ext cx="144360" cy="11160"/>
          </a:xfrm>
          <a:custGeom>
            <a:avLst/>
            <a:gdLst/>
            <a:ahLst/>
            <a:rect l="l" t="t" r="r" b="b"/>
            <a:pathLst>
              <a:path w="366" h="28">
                <a:moveTo>
                  <a:pt x="0" y="0"/>
                </a:moveTo>
                <a:lnTo>
                  <a:pt x="258" y="17"/>
                </a:lnTo>
                <a:lnTo>
                  <a:pt x="366" y="2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444920" y="3198960"/>
            <a:ext cx="14292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4659480" y="3241800"/>
            <a:ext cx="13968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 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9424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14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28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30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69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274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05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22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36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41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46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47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8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4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55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7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58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66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390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00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09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17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24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29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35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39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12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17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21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24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27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537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558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562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565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572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577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581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584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623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628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634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638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658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659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248520" y="2209680"/>
            <a:ext cx="2895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 en dirección 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675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680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684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691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696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9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700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703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5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484440" y="3352680"/>
            <a:ext cx="935280" cy="93528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3938760" y="21574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38760" y="248292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3936600" y="28083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H="1">
            <a:off x="3935520" y="31338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35520" y="3457440"/>
            <a:ext cx="1440" cy="109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935520" y="378288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H="1">
            <a:off x="3933360" y="410832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33720" y="443376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H="1">
            <a:off x="3932280" y="4759200"/>
            <a:ext cx="14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H="1">
            <a:off x="3930120" y="5084640"/>
            <a:ext cx="18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930480" y="5408640"/>
            <a:ext cx="1800" cy="109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936800" y="383688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262240" y="384012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587680" y="384336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13120" y="3844800"/>
            <a:ext cx="108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238560" y="384660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26000" y="3851280"/>
            <a:ext cx="107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051440" y="385272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376880" y="385596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700520" y="3857760"/>
            <a:ext cx="109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5960" y="3860640"/>
            <a:ext cx="109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51400" y="386244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676840" y="3865680"/>
            <a:ext cx="108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741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746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752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753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"/>
          <p:cNvSpPr/>
          <p:nvPr/>
        </p:nvSpPr>
        <p:spPr>
          <a:xfrm>
            <a:off x="1936800" y="3738600"/>
            <a:ext cx="100080" cy="98280"/>
          </a:xfrm>
          <a:custGeom>
            <a:avLst/>
            <a:gdLst/>
            <a:ahLst/>
            <a:rect l="l" t="t" r="r" b="b"/>
            <a:pathLst>
              <a:path w="254" h="252">
                <a:moveTo>
                  <a:pt x="0" y="252"/>
                </a:moveTo>
                <a:lnTo>
                  <a:pt x="206" y="22"/>
                </a:lnTo>
                <a:lnTo>
                  <a:pt x="25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2286000" y="3597120"/>
            <a:ext cx="1303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681280" y="3517920"/>
            <a:ext cx="133200" cy="23760"/>
          </a:xfrm>
          <a:custGeom>
            <a:avLst/>
            <a:gdLst/>
            <a:ahLst/>
            <a:rect l="l" t="t" r="r" b="b"/>
            <a:pathLst>
              <a:path w="335" h="61">
                <a:moveTo>
                  <a:pt x="0" y="61"/>
                </a:moveTo>
                <a:lnTo>
                  <a:pt x="299" y="4"/>
                </a:lnTo>
                <a:lnTo>
                  <a:pt x="33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084480" y="3468600"/>
            <a:ext cx="133560" cy="15840"/>
          </a:xfrm>
          <a:custGeom>
            <a:avLst/>
            <a:gdLst/>
            <a:ahLst/>
            <a:rect l="l" t="t" r="r" b="b"/>
            <a:pathLst>
              <a:path w="338" h="38">
                <a:moveTo>
                  <a:pt x="0" y="38"/>
                </a:moveTo>
                <a:lnTo>
                  <a:pt x="286" y="3"/>
                </a:lnTo>
                <a:lnTo>
                  <a:pt x="3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3489480" y="3440160"/>
            <a:ext cx="13464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3894120" y="3432240"/>
            <a:ext cx="136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02000" y="3435480"/>
            <a:ext cx="1350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707000" y="3454560"/>
            <a:ext cx="13500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111640" y="3494160"/>
            <a:ext cx="13500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511960" y="3565440"/>
            <a:ext cx="129960" cy="34920"/>
          </a:xfrm>
          <a:custGeom>
            <a:avLst/>
            <a:gdLst/>
            <a:ahLst/>
            <a:rect l="l" t="t" r="r" b="b"/>
            <a:pathLst>
              <a:path w="329" h="89">
                <a:moveTo>
                  <a:pt x="0" y="0"/>
                </a:moveTo>
                <a:lnTo>
                  <a:pt x="210" y="46"/>
                </a:lnTo>
                <a:lnTo>
                  <a:pt x="329" y="8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770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771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 ivan</cp:lastModifiedBy>
  <dcterms:modified xsi:type="dcterms:W3CDTF">2004-06-17T20:05:29Z</dcterms:modified>
  <cp:revision>286</cp:revision>
  <dc:subject/>
  <dc:title>Sin título de diapositiva</dc:title>
</cp:coreProperties>
</file>