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FDD-B7EB-4B4E-BA8F-0A8B59B8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BF92-EF44-48C2-97A6-991B51C2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EF08-008B-4F79-B4BA-A79D0130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A4B0-4540-4ED3-8C55-8AD7CB60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291-2140-4C5E-AD35-374DAB181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5A1-F701-489B-8487-FA74FCFC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396-5F32-4C25-AAF5-CA4524A8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1CA-555E-414B-910D-5FD54AAD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9FE3-320F-4CE3-8B04-13B94649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0981-AC82-439C-9C65-21AE964E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2B61-EC16-4B53-91B2-9733DDA3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E93-D139-4AEA-9135-BF3AF208A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64AE-5A09-42BF-BFF1-8C74B2B98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53352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219320"/>
            <a:ext cx="693432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puede definir como la técnica para obtener información cuantitativa y cualitativa a partir de fotografías aé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a técnica puede dividirse principalmente en la fotogrametría métrica y la fotointerpre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 productos más comunes obtenidos a partir de la fotogrametría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Á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lúm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vantamiento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incipio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0" r="4469" b="11060"/>
          <a:stretch/>
        </p:blipFill>
        <p:spPr>
          <a:xfrm>
            <a:off x="1828800" y="838080"/>
            <a:ext cx="4648320" cy="4800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90720" y="56386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ón estereoscópica de un par de fotografías aéreas con recubr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6668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cubrimientos de los fotogra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4444920" cy="4321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676520" y="5105520"/>
            <a:ext cx="2163600" cy="16081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257800" y="1066680"/>
            <a:ext cx="3505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nera de poder reproducir en forma posterior el efecto de visión binocular es generando recubrimientos entre los fotogram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rcRect l="46166" t="0" r="0" b="27185"/>
          <a:stretch/>
        </p:blipFill>
        <p:spPr>
          <a:xfrm>
            <a:off x="5715000" y="4114800"/>
            <a:ext cx="2971800" cy="23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90720" y="3049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undamentos geométricos de la Fotogrametr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752480" y="990720"/>
            <a:ext cx="4038840" cy="5638680"/>
            <a:chOff x="1752480" y="990720"/>
            <a:chExt cx="4038840" cy="5638680"/>
          </a:xfrm>
        </p:grpSpPr>
        <p:pic>
          <p:nvPicPr>
            <p:cNvPr id="53" name="" descr=""/>
            <p:cNvPicPr/>
            <p:nvPr/>
          </p:nvPicPr>
          <p:blipFill>
            <a:blip r:embed="rId2"/>
            <a:srcRect l="13554" t="3867" r="9144" b="3943"/>
            <a:stretch/>
          </p:blipFill>
          <p:spPr>
            <a:xfrm>
              <a:off x="1752480" y="990720"/>
              <a:ext cx="4038840" cy="56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419720" y="18288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181480" y="34290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4952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6477120" y="1752480"/>
                <a:ext cx="99036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42051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400800" y="2895480"/>
                <a:ext cx="137160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88620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248520" y="4114800"/>
                <a:ext cx="1904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H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5335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ipos de fotogramas, visión estereoscóp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2109" r="6439" b="0"/>
          <a:stretch/>
        </p:blipFill>
        <p:spPr>
          <a:xfrm>
            <a:off x="609480" y="1752480"/>
            <a:ext cx="777240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14400" y="2286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Restitución Aerofotogramét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5240" y="1192320"/>
            <a:ext cx="755172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Fotografía Aérea e interpre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572000" y="3352680"/>
            <a:ext cx="4356000" cy="3278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095880" y="914400"/>
            <a:ext cx="2103480" cy="2133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3962520" cy="3492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04920" y="5105520"/>
            <a:ext cx="396216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533520"/>
            <a:ext cx="57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evantamientos Sateli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2795760" cy="22795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886200" y="2133720"/>
            <a:ext cx="4495680" cy="36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0:53:58Z</dcterms:created>
  <dc:creator> ivan</dc:creator>
  <dc:description/>
  <dc:language>en-US</dc:language>
  <cp:lastModifiedBy> ivan</cp:lastModifiedBy>
  <dcterms:modified xsi:type="dcterms:W3CDTF">2003-10-21T18:26:20Z</dcterms:modified>
  <cp:revision>5</cp:revision>
  <dc:subject/>
  <dc:title>Presentación de PowerPoint</dc:title>
</cp:coreProperties>
</file>