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B5CD-9B83-42A7-AA02-DEA19C3D20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052E-0114-4E4B-990D-D488C16FFA7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1F017-E157-4ECD-862B-D6B08F1E05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E99BC-4B19-477E-A7B6-6280E0661A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7F014-C4BF-44B9-AC68-E6DFC659BF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A9D3B-1E97-43A6-9027-C325F2FBB01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87638-48BF-451B-8388-C683A413B6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DFA3B-EFB0-432D-8839-0DADB70E78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B0261-C371-4278-A6B5-F174D045F2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5329C-5633-4DFC-9248-4EE511291F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2F9CE-996F-439F-8C2E-66D1C263CF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03751-0052-44F5-8D32-7A80A43D64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7EFA4-CE2E-401C-B4D3-2D935106DF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298D5-62E5-4E20-8A16-C7B6CA11B6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8C569-B5C4-4A90-B41A-6D890EE98D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46D21-7AF2-4F4E-BDA9-B87A145AF7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BAD95-2F92-4874-91AF-EA32A81274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7BC54-00DD-4E68-B852-15D1C105E7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58F-268B-4CD1-B1E7-C0689E6A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926-A011-46DD-BDD1-06400FD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2D1-2BD2-4D62-9C5C-BEDF8BB4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BE4-2136-481F-B04C-41A0F73D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2C3-45EA-4E47-9452-D9BD6EAF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05C-E54B-4241-BAC2-63E1892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A55-20EF-4661-A510-D7CB0486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699-94C3-465C-B9AF-966F5E0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662-A0FC-431A-8365-B6EA84FD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8E0-D9DC-45FE-9791-A62A109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2DE-0F5D-4D74-ABE1-52371F5E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23C-579B-455D-AF21-DD38D0B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90D21-2A31-455E-80DE-81F2C6883C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931EB-2BA2-452D-B075-CFA92AC2D2F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19640" y="90792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25600" y="1811160"/>
                <a:ext cx="5184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1066680" y="380988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Gum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20920" y="5005440"/>
                <a:ext cx="602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6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1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4572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Valor aproximado para fdp Pearson3 y L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1143000"/>
            <a:ext cx="36576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≤ B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≥ A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62720" y="1371600"/>
            <a:ext cx="3276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3162240"/>
                <a:ext cx="2533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27600" y="2941560"/>
                <a:ext cx="2994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1280" y="4078440"/>
                <a:ext cx="299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57200" y="4406760"/>
                <a:ext cx="216216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AutoShape 9">
            <a:hlinkClick r:id="rId1" action="ppaction://hlinksldjump"/>
          </p:cNvPr>
          <p:cNvSpPr/>
          <p:nvPr/>
        </p:nvSpPr>
        <p:spPr>
          <a:xfrm>
            <a:off x="84582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72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57150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=100 años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19720" y="617220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=297,3 y A=1563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istribución normal y 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ntervalos exactos con distribución student t no cent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43000" y="2819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51460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905120"/>
          <a:ext cx="8458200" cy="4260600"/>
        </p:xfrm>
        <a:graphic>
          <a:graphicData uri="http://schemas.openxmlformats.org/drawingml/2006/table">
            <a:tbl>
              <a:tblPr/>
              <a:tblGrid>
                <a:gridCol w="1600200"/>
                <a:gridCol w="68580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x(i) ordenados vs. z(pi), donde z(pi) es la variable normal estándar para p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qi y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robabilidad de excedencia seg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n fórmula general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i – a)/(n + 1 – 2a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a = 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[x(i)] ordenados versus z(pi). Usar a = 3/8 para estimar probabilidad de exce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bel y Weib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Gumbel 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icar observaciones ordenadas x(i) versus variable reducida yi = -ln[-ln(1-qi)]. Usar posiciones de g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ico de Gringorten. Para Weibull graficar l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ln[-ln(qi)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observaciones ordenadas x(i)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. Papel lognormal también sirv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trucción de gráficos de prob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743200"/>
          <a:ext cx="6934320" cy="289548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57"/>
          <p:cNvSpPr/>
          <p:nvPr/>
        </p:nvSpPr>
        <p:spPr>
          <a:xfrm>
            <a:off x="1391760" y="56386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ifornia: pi = i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19600" y="1417680"/>
                <a:ext cx="2162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27288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ames McPhee.TOPANGA\My Documents\Docencia\ci41c_04_2\Mat_apoyo\Boulder-Creek-Damage_bw.jpg"/>
          <p:cNvPicPr/>
          <p:nvPr/>
        </p:nvPicPr>
        <p:blipFill>
          <a:blip r:embed="rId1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James McPhee.TOPANGA\My Documents\Docencia\ci41c_04_2\Mat_apoyo\flood.jpg"/>
          <p:cNvPicPr/>
          <p:nvPr/>
        </p:nvPicPr>
        <p:blipFill>
          <a:blip r:embed="rId2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James McPhee.TOPANGA\My Documents\Docencia\ci41c_04_2\Mat_apoyo\img004.jpg"/>
          <p:cNvPicPr/>
          <p:nvPr/>
        </p:nvPicPr>
        <p:blipFill>
          <a:blip r:embed="rId3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James McPhee.TOPANGA\My Documents\Docencia\ci41c_04_2\Mat_apoyo\00180018.jpg"/>
          <p:cNvPicPr/>
          <p:nvPr/>
        </p:nvPicPr>
        <p:blipFill>
          <a:blip r:embed="rId4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Documents and Settings\James McPhee.TOPANGA\My Documents\Docencia\ci41c_04_2\Mat_apoyo\img005.jpg"/>
          <p:cNvPicPr/>
          <p:nvPr/>
        </p:nvPicPr>
        <p:blipFill>
          <a:blip r:embed="rId5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James McPhee.TOPANGA\My Documents\Docencia\ci41c_04_2\Mat_apoyo\slackwater.jpg"/>
          <p:cNvPicPr/>
          <p:nvPr/>
        </p:nvPicPr>
        <p:blipFill>
          <a:blip r:embed="rId1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James McPhee.TOPANGA\My Documents\Docencia\ci41c_04_2\Mat_apoyo\img007.jpg"/>
          <p:cNvPicPr/>
          <p:nvPr/>
        </p:nvPicPr>
        <p:blipFill>
          <a:blip r:embed="rId2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Documents and Settings\James McPhee.TOPANGA\My Documents\Docencia\ci41c_04_2\Mat_apoyo\chiricahua flood scar.jpg"/>
          <p:cNvPicPr/>
          <p:nvPr/>
        </p:nvPicPr>
        <p:blipFill>
          <a:blip r:embed="rId3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40464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dato registro sistemático de longitud n es el mayor (m=1) en un periodo de r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09480" y="762120"/>
            <a:ext cx="381240" cy="1371600"/>
          </a:xfrm>
          <a:custGeom>
            <a:avLst/>
            <a:gdLst>
              <a:gd name="textAreaLeft" fmla="*/ 51120 w 381240"/>
              <a:gd name="textAreaRight" fmla="*/ 330120 w 38124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1676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≥Q*)=1/(r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9480" y="2384280"/>
            <a:ext cx="8382240" cy="44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etermina un caudal máximo por las trazas dejadas en la r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no se sabe lo sucedido en período intermedio (antes de iniciarse el registro sistemático), agregar como valor adicional en muestra. Se tiene n+1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sabe que es el mayor valor del período, agregar a la muestra insertándolo en el orden que corresponde. Todos los valores de mayor orden cambian su prob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fectos de análisis hidrológico, muchas veces es necesario estimar caudales cuyo período de retorno T es superior al período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fortunadamente, se encuentra que las variables hidrológicas de interés se “distribuyen” de acuerdo a funciones conocidas de densidad de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324000" y="1557360"/>
            <a:ext cx="4572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1600" y="62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 Frecuencias de muestras con Valores N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684360" y="1823040"/>
            <a:ext cx="2739960" cy="195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pacio Mues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1801080"/>
            <a:ext cx="2057400" cy="19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b conjunto valores  &gt;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35400" y="5056200"/>
                <a:ext cx="5214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ento</m:t>
                    </m:r>
                    <m:r>
                      <m:t xml:space="preserve">&gt;</m:t>
                    </m:r>
                    <m:r>
                      <m:t xml:space="preserve">x</m:t>
                    </m:r>
                    <m:f>
                      <m:fPr>
                        <m:type m:val="lin"/>
                      </m:fPr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eventos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7"/>
          <p:cNvSpPr/>
          <p:nvPr/>
        </p:nvSpPr>
        <p:spPr>
          <a:xfrm>
            <a:off x="4187160" y="1954080"/>
            <a:ext cx="5405760" cy="25164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2338800">
            <a:off x="4689000" y="27622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880800">
            <a:off x="5752800" y="4000320"/>
            <a:ext cx="1143000" cy="76212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95200">
            <a:off x="6426360" y="3230280"/>
            <a:ext cx="380880" cy="3657600"/>
          </a:xfrm>
          <a:custGeom>
            <a:avLst/>
            <a:gdLst>
              <a:gd name="textAreaLeft" fmla="*/ 0 w 380880"/>
              <a:gd name="textAreaRight" fmla="*/ 13752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3348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lisis de frecuencia series con valores n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ípico de regiones con clima semi-a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plica mismo criterio que en incorporación de info. hist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tal N observaciones, r son mayores que 0 (o algún otro límite de det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5557680"/>
            <a:ext cx="1828800" cy="462240"/>
          </a:xfrm>
          <a:prstGeom prst="borderCallout2">
            <a:avLst>
              <a:gd name="adj1" fmla="val 18750"/>
              <a:gd name="adj2" fmla="val -8333"/>
              <a:gd name="adj3" fmla="val 24740"/>
              <a:gd name="adj4" fmla="val 125523"/>
              <a:gd name="adj5" fmla="val -112712"/>
              <a:gd name="adj6" fmla="val 1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hay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572000" y="5334120"/>
            <a:ext cx="426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87"/>
              <a:gd name="adj5" fmla="val -46092"/>
              <a:gd name="adj6" fmla="val -1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excedencia dado que hubo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25560" y="4070520"/>
                <a:ext cx="3200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838080" y="609480"/>
            <a:ext cx="6934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eriodos de Retorno para el Diseño de Obras Hidráu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00200" y="2133720"/>
            <a:ext cx="6858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Principal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Secundaria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lcant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90720" y="380880"/>
            <a:ext cx="6858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renaj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Grand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5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ero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ertederos de Presas sin Riesgo de Pérdida de Vid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Intermedi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&gt;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8080" y="609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Pequeñ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7 a 12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Intermedi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2 a 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randes Presa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&gt;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3880" y="3200400"/>
            <a:ext cx="7010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existe riesgo de pérdida de vidas humanas se estima la crecida máxima probable (VLE) y el vertedero se diseñ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50 a 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16000" y="914400"/>
            <a:ext cx="1307880" cy="4546440"/>
          </a:xfrm>
          <a:prstGeom prst="pie">
            <a:avLst/>
          </a:pr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38080" y="1143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609480" y="1676520"/>
            <a:ext cx="914400" cy="412740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762120"/>
            <a:ext cx="800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iesgo: estructura falla si Caudal de diseño se excede al menos 1 vez, durante la vida útil de l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819520"/>
            <a:ext cx="655308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R=1-[1-P(x≥x</a:t>
            </a:r>
            <a:r>
              <a:rPr b="1" lang="es-ES_tradnl" sz="40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)]</a:t>
            </a:r>
            <a:r>
              <a:rPr b="1" lang="es-ES_tradnl" sz="4000" spc="-1" strike="noStrike" baseline="30000">
                <a:solidFill>
                  <a:srgbClr val="000066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28800" y="5105520"/>
            <a:ext cx="4419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S=C/L     o     MS=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3886200"/>
            <a:ext cx="2209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adop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197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2819160" y="4572000"/>
            <a:ext cx="228600" cy="6094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5790960" y="5486400"/>
            <a:ext cx="1522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30492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nálisi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83808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determina el periodo de retorno óptimo que es aquel que minimiza los costos conjuntos de la inversión y los d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2666880"/>
            <a:ext cx="716292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iseña par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, la estructura prevendrá de los daños para x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90720" y="472428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l costo esperado anual de daños se determina como el producto de la probabilidad f(x)dx de que ese evento ocurra en cualquier año y el daño D(x) que resultaria de ese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276720" y="3581280"/>
            <a:ext cx="2514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880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3"/>
          <p:cNvSpPr/>
          <p:nvPr/>
        </p:nvSpPr>
        <p:spPr>
          <a:xfrm>
            <a:off x="7086600" y="1600200"/>
            <a:ext cx="1219320" cy="4419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114800" y="1981080"/>
            <a:ext cx="3581280" cy="1600200"/>
            <a:chOff x="4114800" y="1981080"/>
            <a:chExt cx="3581280" cy="160020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14800" y="1981080"/>
                  <a:ext cx="2476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≡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Line 6"/>
            <p:cNvSpPr/>
            <p:nvPr/>
          </p:nvSpPr>
          <p:spPr>
            <a:xfrm>
              <a:off x="6553080" y="2590920"/>
              <a:ext cx="1143000" cy="99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3637080"/>
                <a:ext cx="5272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º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488880"/>
            <a:ext cx="82296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ienzo del curso repasamos algunas distribuciones probabilísticas contínuas que se usan en hidrolo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-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trema tipo I, II 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a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l factor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o sab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T, si F es invertible, uno podría encontrar x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F rara vez es invertible! enton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52680" y="228600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05320" y="5276880"/>
                <a:ext cx="205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Line Callout 2 5"/>
          <p:cNvSpPr/>
          <p:nvPr/>
        </p:nvSpPr>
        <p:spPr>
          <a:xfrm>
            <a:off x="5410080" y="59436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7861"/>
              <a:gd name="adj6" fmla="val -16467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frecuencia, varia dependiendo de la distribución u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533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s de ajuste a una distribución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Verdana"/>
              </a:rPr>
              <a:t>Mo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2057400"/>
            <a:ext cx="716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omentos de fdp son iguales a los de la muestra (ej: distribución expon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4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λ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7816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4037040"/>
                <a:ext cx="30481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λ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Text Box 8"/>
          <p:cNvSpPr/>
          <p:nvPr/>
        </p:nvSpPr>
        <p:spPr>
          <a:xfrm>
            <a:off x="5867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μ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/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5791320" y="5562720"/>
            <a:ext cx="1904760" cy="459720"/>
            <a:chOff x="5791320" y="5562720"/>
            <a:chExt cx="1904760" cy="459720"/>
          </a:xfrm>
        </p:grpSpPr>
        <p:sp>
          <p:nvSpPr>
            <p:cNvPr id="67" name="Text Box 10"/>
            <p:cNvSpPr/>
            <p:nvPr/>
          </p:nvSpPr>
          <p:spPr>
            <a:xfrm>
              <a:off x="5791320" y="5562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6858000" y="563868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67280" y="26028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5640" y="9144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ejor valor de los parámetros son aquellos que maximizan la probabilidad conjunta de ocurrencia de la mu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04760" y="2644920"/>
                <a:ext cx="291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6095880" y="3306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1" lang="es-ES_tradnl" sz="28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5240"/>
                <a:ext cx="327636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8320" y="4575240"/>
                <a:ext cx="3200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AutoShape 8"/>
          <p:cNvSpPr/>
          <p:nvPr/>
        </p:nvSpPr>
        <p:spPr>
          <a:xfrm>
            <a:off x="4267080" y="525780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648320" y="6095880"/>
            <a:ext cx="1904760" cy="459720"/>
            <a:chOff x="4648320" y="6095880"/>
            <a:chExt cx="1904760" cy="459720"/>
          </a:xfrm>
        </p:grpSpPr>
        <p:sp>
          <p:nvSpPr>
            <p:cNvPr id="77" name="Text Box 10"/>
            <p:cNvSpPr/>
            <p:nvPr/>
          </p:nvSpPr>
          <p:spPr>
            <a:xfrm>
              <a:off x="4648320" y="60958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5715000" y="617184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Callout 2 11"/>
          <p:cNvSpPr/>
          <p:nvPr/>
        </p:nvSpPr>
        <p:spPr>
          <a:xfrm>
            <a:off x="2933640" y="20574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3291"/>
              <a:gd name="adj6" fmla="val -62574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 de verosimi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71760" y="26028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ruebas de Bondad de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600200"/>
            <a:ext cx="64771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hi cuadrado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: compara frecuencia relativa de muestra (f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 con valor teórico de distribución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71560" y="3206880"/>
                <a:ext cx="3627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5486400" y="3581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e compara con fdp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2 con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grados de libertad y nivel de confianza 1-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80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m-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56386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parámetros de la f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905120" y="5028840"/>
            <a:ext cx="15228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800600" y="5029200"/>
            <a:ext cx="403848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chaza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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52880" y="838080"/>
            <a:ext cx="403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olmogorov Smir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143000" y="4678200"/>
            <a:ext cx="380880" cy="46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42195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interv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K, logramos ajustar una fdp, obtuvimos el factor de frecuencia, y calculamos x_T en función de los datos observados; cuál es el grado de confiabilidad que merecen nuestras estim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5335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a precisión de resultados depende de la longitud de los registr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219320" y="1905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de suponerse que la estimación tiene distribució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1640" y="3921120"/>
                <a:ext cx="332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5105520" cy="39178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7620120" y="3733920"/>
            <a:ext cx="183960" cy="761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5105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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8660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08660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7531200" y="3860640"/>
            <a:ext cx="253800" cy="6224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209680" y="4114800"/>
            <a:ext cx="5410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12:51Z</dcterms:created>
  <dc:creator>James McPhee</dc:creator>
  <dc:description/>
  <dc:language>en-US</dc:language>
  <cp:lastModifiedBy>James McPhee</cp:lastModifiedBy>
  <cp:lastPrinted>2008-10-27T14:45:47Z</cp:lastPrinted>
  <dcterms:modified xsi:type="dcterms:W3CDTF">2009-10-05T15:34:12Z</dcterms:modified>
  <cp:revision>9</cp:revision>
  <dc:subject/>
  <dc:title>Análisis de Frecuencia</dc:title>
</cp:coreProperties>
</file>