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Jungle%20Restore%20Up.wav" ContentType="audio/x-wav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24F8AF-25E4-4F83-A6C8-BA81DE77B10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681160-7EAD-4166-86B6-7AF847EC561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F18B24-AD7E-489B-995E-416D7686278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C436B6-52C6-4E71-9134-F9FDC0FF21E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14A54C-8BA3-4FCE-9025-C8B8D3158F2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0EDCBF-3F50-4B2E-AC86-475B2F73D00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BEB95D-B6B0-41A9-A3C3-FB19DCA468D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3A1131-3F81-4E9C-B6C9-EC958AA8310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56B542-A4A0-4FE7-B108-FDCAE70FC2F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8E5513-AB57-4347-97A7-C9D32573675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6961E6-0567-45DE-B1CE-40C8065720F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2F3C61-279A-45D0-8930-7F29ACBD773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A117-769B-485B-90C7-107D6A89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529-F2C2-461F-9DCB-54F4371B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701-D251-472E-898E-F560AA5D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AE7-1127-4281-A307-F8EB56C2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6663-66D5-4C5E-A0F7-40CBC733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2AD-3D52-427D-AD34-9930D06E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BDF-D2CA-4F18-B457-340C2870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227-7953-4409-B0FE-01BBA09E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E84-7CBA-4396-9774-EE763067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467-A8CA-4DF6-89CF-A20B0198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4DA-87A1-4485-9DDD-42E2C963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A7E-2579-4E3D-ADFE-89E5594E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AB8D-53C2-483B-B872-D46D878E4EF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cfm_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0"/>
          <a:ext cx="297180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9718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Jungle%20Restore%20Up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fcfm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557000"/>
            <a:ext cx="5977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 41C HIDR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24000" y="33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00"/>
                </a:solidFill>
                <a:latin typeface="Tahoma"/>
              </a:rPr>
              <a:t>CAPÍ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826920" y="4869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ESTUDIO DE CRECIDA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600200" y="45720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R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= 0,39 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28600" y="137160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debe corregir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Zona Homogénea 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295280" y="358128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Copperplate Gothic Bold"/>
              </a:rPr>
              <a:t>V-K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=7,4 m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80880" y="2971800"/>
            <a:ext cx="266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=1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362320" y="42670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Copperplate Gothic Bold"/>
              </a:rPr>
              <a:t>FR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=8,9 m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85800" y="51055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Copperplate Gothic Bold"/>
              </a:rPr>
              <a:t>HU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= 45,3   m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5486400" y="6172200"/>
            <a:ext cx="3352680" cy="5101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QMI 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Copperplate Gothic Bold"/>
              </a:rPr>
              <a:t>A-R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= 7,8 m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172200" y="4800600"/>
            <a:ext cx="297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A.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5562720" y="5562720"/>
            <a:ext cx="3200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d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10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4,1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181480" y="457200"/>
          <a:ext cx="37432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57200"/>
                    <a:ext cx="37432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075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_WEL_009"/>
          <p:cNvPicPr/>
          <p:nvPr/>
        </p:nvPicPr>
        <p:blipFill>
          <a:blip r:embed="rId1"/>
          <a:stretch/>
        </p:blipFill>
        <p:spPr>
          <a:xfrm>
            <a:off x="1295280" y="74304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ccff"/>
                </a:solidFill>
                <a:latin typeface="Arial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4792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ESTUDIO DE CRECI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ANALISIS DE FRECUENCIAS REG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Restore%20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610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696000" cy="2086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69055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705360" cy="395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820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107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371600" y="762120"/>
            <a:ext cx="73915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A HOMOGENEA Dp (PLUVIAL-GUMBEL-EXORRE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A DE FRECUENCIA REGIONAL QMD MAX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"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T)/Q(10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OLV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ño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SUP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0.5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0.8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2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28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4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6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7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619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28600" y="380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jemplo de A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0" y="380880"/>
            <a:ext cx="41911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uenca en R. Metr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L=9 Km;  Lg=4 Km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ota Salida=800 ms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 =0,47    PMA=50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24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10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9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631800" y="1531800"/>
            <a:ext cx="1801800" cy="1711440"/>
            <a:chOff x="631800" y="1531800"/>
            <a:chExt cx="1801800" cy="1711440"/>
          </a:xfrm>
        </p:grpSpPr>
        <p:sp>
          <p:nvSpPr>
            <p:cNvPr id="69" name="Freeform 5"/>
            <p:cNvSpPr/>
            <p:nvPr/>
          </p:nvSpPr>
          <p:spPr>
            <a:xfrm>
              <a:off x="631800" y="1531800"/>
              <a:ext cx="1801800" cy="1711440"/>
            </a:xfrm>
            <a:prstGeom prst="pi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6"/>
            <p:cNvSpPr/>
            <p:nvPr/>
          </p:nvSpPr>
          <p:spPr>
            <a:xfrm>
              <a:off x="642960" y="2478240"/>
              <a:ext cx="1428840" cy="55872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"/>
            <p:cNvSpPr/>
            <p:nvPr/>
          </p:nvSpPr>
          <p:spPr>
            <a:xfrm>
              <a:off x="1274760" y="1892160"/>
              <a:ext cx="299880" cy="100332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8"/>
          <p:cNvSpPr/>
          <p:nvPr/>
        </p:nvSpPr>
        <p:spPr>
          <a:xfrm>
            <a:off x="2362320" y="3429000"/>
            <a:ext cx="601956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 Aportante Pluvial según Línea de nie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atitud 33,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N en 2000ms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=19 K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 y H =120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33520" y="5943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c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0,78 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352680" y="5486400"/>
            <a:ext cx="4419720" cy="12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1,72 hrs  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91,52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s/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0,313 hrs 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8 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06:24Z</dcterms:created>
  <dc:creator>PUBLISIGA</dc:creator>
  <dc:description/>
  <dc:language>en-US</dc:language>
  <cp:lastModifiedBy>James McPhee</cp:lastModifiedBy>
  <dcterms:modified xsi:type="dcterms:W3CDTF">2008-11-17T13:01:36Z</dcterms:modified>
  <cp:revision>24</cp:revision>
  <dc:subject/>
  <dc:title>titulo</dc:title>
</cp:coreProperties>
</file>