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C29-1AE8-46B8-890D-3B948BEE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124-539D-48DD-B99C-A58D3755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204-FD09-4D54-AE64-DED7A135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B7B-DB24-4E92-9FEC-B08D3CEA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D75-0F31-4348-B90C-2171E9F2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5B3-A293-4DC7-956F-5218DC0D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A2C2-C4BC-40A8-B770-86CAE3C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D58-DD2C-4937-83CD-303A942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2C9D-8BE8-4B98-A1DC-842F35E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D4FA-9C3E-4C25-BEBA-17AE50BC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C891-B651-4E01-A8B9-5B719531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1DE-0F3D-4AB5-98DF-C69F0A5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AFCF-6924-4DAD-A407-C897F0D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A48-4190-4B88-8F95-29FD0D5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0CD7-D382-44EB-9F0C-325C4398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7835-38EF-4AE4-927F-4295DF06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982-1656-49AA-B9BB-50B37B9D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00C7F-94CA-42A7-A859-F7192C3D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36CFD-166A-47D3-A9FE-E8569C5C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673AB-52F9-4B17-87DB-5D7FC502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25598-54E1-498F-A42A-9D2D7656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A6DB2-CF80-46F3-A8FC-D3FDAA2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D01-43A0-4889-9522-7B470912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9F5C1-93EF-4740-B4FD-C41248F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DF7E3-2C0B-48F0-B547-F528D0E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2052A-379D-4232-B7DD-549C52C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8EC34-9D27-422F-A34E-65A8ACF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CB66A-590F-42E3-B401-72DD3BC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0620A-ED39-45DD-91F7-DF5A3294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12767-BF0D-4A89-A64A-A570BF0C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77E4-9391-4BF9-8225-C87124B6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92AC-9A20-4993-9524-856FCE3B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F783-6858-464D-AA7D-372A6A4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E0F-3059-4268-8225-977E9D1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F0B5-7703-4A4A-9A8B-1F606AD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6372-265D-43A5-AB1D-C95EB771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D398-01FC-486B-8B31-1F619AC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A65F-46BD-461A-8389-50DFA89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932D-044B-43EA-980A-BEBE1CB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C42A-B682-4D11-97EA-C304573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C2B9-90AF-4401-9C87-498A130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A32D-BB14-4BC7-AA07-8FBE861E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4D50-BB93-48C8-9577-F5EBE1EB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833CA-085B-4805-868A-95FDCA74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E2B-5617-49EF-8895-72D3879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5CE10-5657-4629-AAA7-9F124393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A941E-15F2-4196-8734-4131238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C439E-2E65-40C4-8EEB-6A7A258E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A668C-1505-4E58-A80B-3B7BBF2B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03A22-35F0-41C1-956A-BB7E437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B2E5B-DD01-4E41-AF22-BCC65549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31B87-5EB9-4885-BB22-6135AA1E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8DFD0-F168-4BA9-8555-65A8FABB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A30CC-C14F-40B0-BEA2-972F48F8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E056B-F170-4F31-930A-F6EBD286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6FA-1CB2-4098-9FA9-CCA2683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7B06E-281D-4FCA-95C4-82BE132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370B3-176A-43DF-9866-2749D746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18363-A048-48D6-BF51-6FD7D76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5ECDA-092D-48E4-A394-F2BD66EC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5A191-BEAD-4B51-A452-2E1856A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2E17C-3919-462A-8429-92E5FFF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234EF-FE0C-4F8C-AF6F-1B221277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5FDE9-0CBC-4982-82FD-657724A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A66A7-F462-42C8-B746-DDE5790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A0696-E64C-433A-A30D-64B7647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7A0-4248-477E-8722-0E6EF17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75608-211B-4C8F-99BA-685969A7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C62C0-827E-4830-AEEB-582FF2F2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0AC19-1623-4375-81C9-755CFDFF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4359F-259B-479C-AE58-F53D3D35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BBB1E-DAB7-444A-A153-E80E877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E49BF-810C-4E0C-8341-C3CD04B6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2F46C-1BAB-4A2F-BEB4-222B761E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475AA-E63F-40A2-904E-CC795E67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18992-9CD9-415F-8ACF-9440118E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F6EC4-11F9-449B-B88B-594D8ACE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D9B-98FC-4E0C-9BFE-75D2BE0E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45D54-A76B-4458-8B9F-7F73786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E6D4D-6DCE-479F-BA6F-AEE99F8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086DE-8094-4B37-9D16-AFDD193C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DACFE-5584-4A1D-BD2D-8257002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C3662-81A4-4BE1-B93D-9534BC3C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A78-7BC3-439B-A01F-C2A595C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47A-19D3-4FB7-A2F9-B05D6F6DEAB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A8AE-185A-4606-B6B4-F283EF2551E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4C7-AF29-46CF-B17A-EA65B3EC115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EEF6-FC76-4352-B8BE-1835394E680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B76-AED2-4906-B3AA-64E29A93B7E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C42D-E08B-46CA-8CF3-CED96ABE921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048F-B82F-45E7-8CB9-CF830991C4E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pende principalmente del estado anímico del observador, es algo interno, no externo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    </a:t>
            </a: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99" name="7 CuadroTexto"/>
          <p:cNvSpPr/>
          <p:nvPr/>
        </p:nvSpPr>
        <p:spPr>
          <a:xfrm>
            <a:off x="857160" y="1143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57160" y="1643040"/>
            <a:ext cx="47865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402" name="7 CuadroTexto"/>
          <p:cNvSpPr/>
          <p:nvPr/>
        </p:nvSpPr>
        <p:spPr>
          <a:xfrm>
            <a:off x="857160" y="1143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4 Imagen" descr="ni%C3%B1a%2Bfeliz.jpg"/>
          <p:cNvPicPr/>
          <p:nvPr/>
        </p:nvPicPr>
        <p:blipFill>
          <a:blip r:embed="rId2"/>
          <a:stretch/>
        </p:blipFill>
        <p:spPr>
          <a:xfrm>
            <a:off x="5786280" y="1714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04" name="5 Imagen" descr="y1p8HvPgQZjjwT_exhALsXlkz7kzOniewTic70RINyrtygM9mPOtuoChrCZJO6_0qJ_4vw9CbgD4fFIDD9jUoEswVnCFWBKNz25.jpg"/>
          <p:cNvPicPr/>
          <p:nvPr/>
        </p:nvPicPr>
        <p:blipFill>
          <a:blip r:embed="rId3"/>
          <a:stretch/>
        </p:blipFill>
        <p:spPr>
          <a:xfrm>
            <a:off x="5715000" y="385776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713880" y="1857240"/>
            <a:ext cx="30718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76092"/>
                </a:solidFill>
                <a:latin typeface="Trebuchet MS"/>
              </a:rPr>
              <a:t>La tarde está solead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58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5 Imagen" descr="primavera2.jpg"/>
          <p:cNvPicPr/>
          <p:nvPr/>
        </p:nvPicPr>
        <p:blipFill>
          <a:blip r:embed="rId2"/>
          <a:stretch/>
        </p:blipFill>
        <p:spPr>
          <a:xfrm>
            <a:off x="4370400" y="1305000"/>
            <a:ext cx="3780000" cy="4029120"/>
          </a:xfrm>
          <a:prstGeom prst="rect">
            <a:avLst/>
          </a:prstGeom>
          <a:ln w="0">
            <a:noFill/>
          </a:ln>
        </p:spPr>
      </p:pic>
      <p:sp>
        <p:nvSpPr>
          <p:cNvPr id="360" name="9 CuadroTexto"/>
          <p:cNvSpPr/>
          <p:nvPr/>
        </p:nvSpPr>
        <p:spPr>
          <a:xfrm>
            <a:off x="4572000" y="45720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La profesora es muy du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10 Imagen" descr="profesora1.jpg"/>
          <p:cNvPicPr/>
          <p:nvPr/>
        </p:nvPicPr>
        <p:blipFill>
          <a:blip r:embed="rId3"/>
          <a:stretch/>
        </p:blipFill>
        <p:spPr>
          <a:xfrm>
            <a:off x="927000" y="3139920"/>
            <a:ext cx="286380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76092"/>
                </a:solidFill>
                <a:latin typeface="Century Schoolbook"/>
              </a:rPr>
              <a:t>Actos lingüístic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Afirmaciones o descrip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Declaraciones (de quiebre, del no, del sí, de la ignorancia, de gratitud, del perdón, de am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rome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eti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Ofer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Juicios (de valor, de responsabilidad, de poder, de posibilidad, de facticidad, etc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64" name="7 CuadroTexto"/>
          <p:cNvSpPr/>
          <p:nvPr/>
        </p:nvSpPr>
        <p:spPr>
          <a:xfrm>
            <a:off x="857160" y="1143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1785960"/>
            <a:ext cx="45720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Century Schoolbook"/>
              </a:rPr>
              <a:t>Son expresiones de opinión basados en el pasado individual de cada persona, puede tener un fundamento, pero al declarar un juicio debo fundarl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67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4 Imagen" descr="mujer.jpg"/>
          <p:cNvPicPr/>
          <p:nvPr/>
        </p:nvPicPr>
        <p:blipFill>
          <a:blip r:embed="rId2"/>
          <a:stretch/>
        </p:blipFill>
        <p:spPr>
          <a:xfrm>
            <a:off x="5522760" y="1646280"/>
            <a:ext cx="2829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13880" y="1856880"/>
            <a:ext cx="407196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Consecuencias de los juicios mal fund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Cierran posibilidad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Limitan accion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1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 Imagen" descr="onion.jpg"/>
          <p:cNvPicPr/>
          <p:nvPr/>
        </p:nvPicPr>
        <p:blipFill>
          <a:blip r:embed="rId2"/>
          <a:stretch/>
        </p:blipFill>
        <p:spPr>
          <a:xfrm>
            <a:off x="4705200" y="2017800"/>
            <a:ext cx="36100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14240" y="1856880"/>
            <a:ext cx="442944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Interrupción en el fluir de la vida(Heiddeger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8 Imagen" descr="flores09.jpg"/>
          <p:cNvPicPr/>
          <p:nvPr/>
        </p:nvPicPr>
        <p:blipFill>
          <a:blip r:embed="rId2"/>
          <a:stretch/>
        </p:blipFill>
        <p:spPr>
          <a:xfrm>
            <a:off x="5187960" y="1994040"/>
            <a:ext cx="33829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9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4 CuadroTexto"/>
          <p:cNvGrpSpPr/>
          <p:nvPr/>
        </p:nvGrpSpPr>
        <p:grpSpPr>
          <a:xfrm>
            <a:off x="85680" y="1590840"/>
            <a:ext cx="2181240" cy="792000"/>
            <a:chOff x="85680" y="1590840"/>
            <a:chExt cx="2181240" cy="792000"/>
          </a:xfrm>
        </p:grpSpPr>
        <p:pic>
          <p:nvPicPr>
            <p:cNvPr id="381" name="4 CuadroTexto" descr=""/>
            <p:cNvPicPr/>
            <p:nvPr/>
          </p:nvPicPr>
          <p:blipFill>
            <a:blip r:embed="rId2"/>
            <a:stretch/>
          </p:blipFill>
          <p:spPr>
            <a:xfrm>
              <a:off x="85680" y="1590840"/>
              <a:ext cx="2181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14200" y="171468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5 Más"/>
          <p:cNvSpPr/>
          <p:nvPr/>
        </p:nvSpPr>
        <p:spPr>
          <a:xfrm>
            <a:off x="2357280" y="1500120"/>
            <a:ext cx="78588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8 Más"/>
          <p:cNvSpPr/>
          <p:nvPr/>
        </p:nvSpPr>
        <p:spPr>
          <a:xfrm>
            <a:off x="2071800" y="3929040"/>
            <a:ext cx="85716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3 CuadroTexto"/>
          <p:cNvSpPr/>
          <p:nvPr/>
        </p:nvSpPr>
        <p:spPr>
          <a:xfrm>
            <a:off x="3286080" y="157176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4 Igual que"/>
          <p:cNvSpPr/>
          <p:nvPr/>
        </p:nvSpPr>
        <p:spPr>
          <a:xfrm>
            <a:off x="5214960" y="164304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5 CuadroTexto"/>
          <p:cNvSpPr/>
          <p:nvPr/>
        </p:nvSpPr>
        <p:spPr>
          <a:xfrm>
            <a:off x="6143760" y="1785960"/>
            <a:ext cx="26431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Oport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6 Rectángulo"/>
          <p:cNvSpPr/>
          <p:nvPr/>
        </p:nvSpPr>
        <p:spPr>
          <a:xfrm>
            <a:off x="3000240" y="400068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7 CuadroTexto"/>
          <p:cNvSpPr/>
          <p:nvPr/>
        </p:nvSpPr>
        <p:spPr>
          <a:xfrm>
            <a:off x="6072120" y="414324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18 CuadroTexto"/>
          <p:cNvGrpSpPr/>
          <p:nvPr/>
        </p:nvGrpSpPr>
        <p:grpSpPr>
          <a:xfrm>
            <a:off x="85680" y="4017960"/>
            <a:ext cx="2176560" cy="1194120"/>
            <a:chOff x="85680" y="4017960"/>
            <a:chExt cx="2176560" cy="1194120"/>
          </a:xfrm>
        </p:grpSpPr>
        <p:pic>
          <p:nvPicPr>
            <p:cNvPr id="391" name="18 CuadroTexto" descr=""/>
            <p:cNvPicPr/>
            <p:nvPr/>
          </p:nvPicPr>
          <p:blipFill>
            <a:blip r:embed="rId3"/>
            <a:stretch/>
          </p:blipFill>
          <p:spPr>
            <a:xfrm>
              <a:off x="85680" y="4017960"/>
              <a:ext cx="2176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85840" y="4143240"/>
              <a:ext cx="178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19 Igual que"/>
          <p:cNvSpPr/>
          <p:nvPr/>
        </p:nvSpPr>
        <p:spPr>
          <a:xfrm>
            <a:off x="5000760" y="407196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13880" y="1856880"/>
            <a:ext cx="76438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A partir de los quiebres se devel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compromisos (promesas y compromi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ayuda(peti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Artefactos que se pueden hacer cargo del quiebre (innova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9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ssy</cp:lastModifiedBy>
  <dcterms:modified xsi:type="dcterms:W3CDTF">2009-08-22T16:33:22Z</dcterms:modified>
  <cp:revision>29</cp:revision>
  <dc:subject/>
  <dc:title>Diapositiva 1</dc:title>
</cp:coreProperties>
</file>