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005638" cy="9215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3867-DB71-4C0A-9D02-45783DA89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8360" y="3773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E69C-4613-4046-9AF3-D5EB4B9B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8360" y="3773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85400" y="3773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5F79-FD47-498F-95C4-54046EF22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8360" y="3773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50800" y="3773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33240" y="3773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E5F8-D11D-45A0-9889-3B32875B9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360" y="3773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FFC3-0CDB-4794-84F9-4963E0E5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5400" y="3773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8360" y="3773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360" y="3773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8360" y="3773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5400" y="3773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8360" y="3773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50800" y="3773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33240" y="3773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E38B-889C-47FB-B6D7-F74B1414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FD1A-3AC8-4B21-96B9-9EEFC191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205D-64A9-408C-9E2C-F27DF923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4778-8331-41E2-AF1D-6BC6FF07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73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8F7F-B0C4-4345-86CC-40391EAC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5400" y="3773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DB62-CF90-47C3-88A0-D03668FF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8360" y="3773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6D4C-FC86-4A10-AF2C-A2304E23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556000" y="1412640"/>
            <a:ext cx="527832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40080" indent="-127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96040" indent="-127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0A63-9506-47BC-8F2F-5D77178180DC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31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33 Elipse"/>
          <p:cNvSpPr/>
          <p:nvPr/>
        </p:nvSpPr>
        <p:spPr>
          <a:xfrm>
            <a:off x="1908000" y="4508640"/>
            <a:ext cx="365400" cy="365040"/>
          </a:xfrm>
          <a:prstGeom prst="ellipse">
            <a:avLst/>
          </a:prstGeom>
          <a:solidFill>
            <a:srgbClr val="00008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25" descr="logo cms"/>
          <p:cNvPicPr/>
          <p:nvPr/>
        </p:nvPicPr>
        <p:blipFill>
          <a:blip r:embed="rId2"/>
          <a:stretch/>
        </p:blipFill>
        <p:spPr>
          <a:xfrm>
            <a:off x="5867280" y="4724280"/>
            <a:ext cx="2846520" cy="16066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4" descr="logo fcfm"/>
          <p:cNvPicPr/>
          <p:nvPr/>
        </p:nvPicPr>
        <p:blipFill>
          <a:blip r:embed="rId3"/>
          <a:stretch/>
        </p:blipFill>
        <p:spPr>
          <a:xfrm>
            <a:off x="5867280" y="404640"/>
            <a:ext cx="2818080" cy="925560"/>
          </a:xfrm>
          <a:prstGeom prst="rect">
            <a:avLst/>
          </a:prstGeom>
          <a:ln w="0">
            <a:noFill/>
          </a:ln>
        </p:spPr>
      </p:pic>
      <p:sp>
        <p:nvSpPr>
          <p:cNvPr id="8" name="16 Rectángulo"/>
          <p:cNvSpPr/>
          <p:nvPr/>
        </p:nvSpPr>
        <p:spPr>
          <a:xfrm>
            <a:off x="395280" y="0"/>
            <a:ext cx="60948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7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18 Rectángulo"/>
          <p:cNvSpPr/>
          <p:nvPr/>
        </p:nvSpPr>
        <p:spPr>
          <a:xfrm>
            <a:off x="97164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9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20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23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24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25 Conector recto"/>
          <p:cNvSpPr/>
          <p:nvPr/>
        </p:nvSpPr>
        <p:spPr>
          <a:xfrm>
            <a:off x="169236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26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28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29 Elipse"/>
          <p:cNvSpPr/>
          <p:nvPr/>
        </p:nvSpPr>
        <p:spPr>
          <a:xfrm>
            <a:off x="611280" y="3429000"/>
            <a:ext cx="1295280" cy="1295280"/>
          </a:xfrm>
          <a:prstGeom prst="ellipse">
            <a:avLst/>
          </a:prstGeom>
          <a:solidFill>
            <a:srgbClr val="00008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30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6 Conector recto"/>
          <p:cNvSpPr/>
          <p:nvPr/>
        </p:nvSpPr>
        <p:spPr>
          <a:xfrm>
            <a:off x="87487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6 Conector recto"/>
          <p:cNvSpPr/>
          <p:nvPr/>
        </p:nvSpPr>
        <p:spPr>
          <a:xfrm>
            <a:off x="8964720" y="21600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6 Conector recto"/>
          <p:cNvSpPr/>
          <p:nvPr/>
        </p:nvSpPr>
        <p:spPr>
          <a:xfrm>
            <a:off x="9180360" y="43164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3" descr="logo cms"/>
          <p:cNvPicPr/>
          <p:nvPr/>
        </p:nvPicPr>
        <p:blipFill>
          <a:blip r:embed="rId2"/>
          <a:stretch/>
        </p:blipFill>
        <p:spPr>
          <a:xfrm>
            <a:off x="539640" y="5950080"/>
            <a:ext cx="1295640" cy="731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logo fcfm"/>
          <p:cNvPicPr/>
          <p:nvPr/>
        </p:nvPicPr>
        <p:blipFill>
          <a:blip r:embed="rId3"/>
          <a:stretch/>
        </p:blipFill>
        <p:spPr>
          <a:xfrm>
            <a:off x="6516720" y="6021360"/>
            <a:ext cx="2087640" cy="68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ómo hacemos que nuestros productos tengan éxito en el merca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15640" y="328428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rketing y Venta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un proceso indispensable para sobrevivir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El Modelo</a:t>
            </a: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692360" y="1484280"/>
            <a:ext cx="5400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S.T.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1403280" y="3213000"/>
            <a:ext cx="1657440" cy="2303640"/>
          </a:xfrm>
          <a:prstGeom prst="upArrow">
            <a:avLst>
              <a:gd name="adj1" fmla="val 50000"/>
              <a:gd name="adj2" fmla="val 347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G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51280" y="3429000"/>
            <a:ext cx="1657440" cy="2303640"/>
          </a:xfrm>
          <a:prstGeom prst="upArrow">
            <a:avLst>
              <a:gd name="adj1" fmla="val 50000"/>
              <a:gd name="adj2" fmla="val 347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ARG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12000" y="3141720"/>
            <a:ext cx="1657080" cy="2303280"/>
          </a:xfrm>
          <a:prstGeom prst="upArrow">
            <a:avLst>
              <a:gd name="adj1" fmla="val 50000"/>
              <a:gd name="adj2" fmla="val 347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OSICION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1280" y="28526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AHORA A LA TÁ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rebuchet MS"/>
              </a:rPr>
              <a:t>Las 4 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7821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rebuchet MS"/>
              </a:rPr>
              <a:t>Produc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ásico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spectos intangibles     Aspecto aumen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rebuchet MS"/>
              </a:rPr>
              <a:t>Preci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¿Cómo defino el preci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irculo virtuoso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Calidad – Pre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rebuchet MS"/>
              </a:rPr>
              <a:t>Plaza (distribución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estión de la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Cadena de distrib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rebuchet MS"/>
              </a:rPr>
              <a:t>Promoción (publicidad, promociones, venta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5445000"/>
            <a:ext cx="2016000" cy="936720"/>
          </a:xfrm>
          <a:prstGeom prst="rightArrow">
            <a:avLst>
              <a:gd name="adj1" fmla="val 50000"/>
              <a:gd name="adj2" fmla="val 538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76720" y="5373720"/>
            <a:ext cx="215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Las ventas son sólo una parte del plan de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84720" y="5392800"/>
            <a:ext cx="21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Sin embargo es una de las más impor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95640" y="1989000"/>
            <a:ext cx="288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59280" y="1989000"/>
            <a:ext cx="289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re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20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Precio: precio de etiqueta + tiempo de compra + otros cos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Las empresas fijan precios dentro de un rango (fijado por la competenc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El precio se elige según el lugar que quieran ocupar en el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Costos v/s disposición a pagar del cli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479736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Trebuchet MS"/>
              </a:rPr>
              <a:t>El precio es la más sensible de las 4P, y afecta notoriamente las utilidades del negocio en el cort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8002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e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0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1.-Descremar el mercado: partir con precios altos y bajarlos con el tie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Trebuchet MS"/>
              </a:rPr>
              <a:t>Ventajas: equilibra demanda con capacidad de producción, Crea efecto deseo y es ren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Trebuchet MS"/>
              </a:rPr>
              <a:t>Desventajas: atrae competidores rápidamente, puede desposicionar el producto, fuerte inversión en promo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2.- Penetración de mercado: partir con precios bajos y subirlos con el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Trebuchet MS"/>
              </a:rPr>
              <a:t>Ventajas: desanima competencia, rápidamente uno se posiciona, ventas amplias (economías de esca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Trebuchet MS"/>
              </a:rPr>
              <a:t>Desventajas: si nos equivocamos podemos arruinarnos, no es aconsejable en marcados de status, poco entable si el ciclo de vida del negocio es co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59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e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326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rebuchet MS"/>
              </a:rPr>
              <a:t>Precio personaliz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recios distinto según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Ejemplos: gasfiter, abogado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MX" sz="2800" spc="-1" strike="noStrike">
                <a:solidFill>
                  <a:srgbClr val="333399"/>
                </a:solidFill>
                <a:latin typeface="Trebuchet MS"/>
              </a:rPr>
              <a:t>Versonalización del 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Variantes del producto a distintos pre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Ejemplos: líneas aérea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MX" sz="2800" spc="-1" strike="noStrike">
                <a:solidFill>
                  <a:srgbClr val="333399"/>
                </a:solidFill>
                <a:latin typeface="Trebuchet MS"/>
              </a:rPr>
              <a:t>Precios por seg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Líneas de productos, descuentos por cantidad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9400" y="287280"/>
            <a:ext cx="81738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e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2 Marcador de contenido"/>
          <p:cNvSpPr/>
          <p:nvPr/>
        </p:nvSpPr>
        <p:spPr>
          <a:xfrm>
            <a:off x="324000" y="1268280"/>
            <a:ext cx="785808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  <a:ea typeface="Arial"/>
              </a:rPr>
              <a:t>Consideraciones impor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  <a:ea typeface="Arial"/>
              </a:rPr>
              <a:t>Percepciones sobre las diferencias de Pre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rebuchet MS"/>
                <a:ea typeface="Arial"/>
              </a:rPr>
              <a:t>Las personas evalúan la diferencia de precio entre dos productos de forma porcentual, sobre el precio 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rebuchet MS"/>
                <a:ea typeface="Arial"/>
              </a:rPr>
              <a:t>Ejemplo:   Azúcar : 550 a 450 (2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rebuchet MS"/>
                <a:ea typeface="Arial"/>
              </a:rPr>
              <a:t>                    </a:t>
            </a:r>
            <a:r>
              <a:rPr b="0" lang="es-MX" sz="1600" spc="-1" strike="noStrike">
                <a:solidFill>
                  <a:srgbClr val="000000"/>
                </a:solidFill>
                <a:latin typeface="Trebuchet MS"/>
                <a:ea typeface="Arial"/>
              </a:rPr>
              <a:t>Aceite de Oliva: 2500 a 2400(4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  <a:ea typeface="Arial"/>
              </a:rPr>
              <a:t>Los números imp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rebuchet MS"/>
                <a:ea typeface="Arial"/>
              </a:rPr>
              <a:t>Es conveniente terminar en números impa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  <a:ea typeface="Arial"/>
              </a:rPr>
              <a:t>Los precios de la línea como refe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rebuchet MS"/>
                <a:ea typeface="Arial"/>
              </a:rPr>
              <a:t>Más vale tener 3 productos que 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9400" y="287280"/>
            <a:ext cx="817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re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2 Marcador de contenido"/>
          <p:cNvSpPr/>
          <p:nvPr/>
        </p:nvSpPr>
        <p:spPr>
          <a:xfrm>
            <a:off x="324000" y="1125360"/>
            <a:ext cx="785808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  <a:ea typeface="Arial"/>
              </a:rPr>
              <a:t>Elasticidades asimétr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Trebuchet MS"/>
                <a:ea typeface="Arial"/>
              </a:rPr>
              <a:t>No conviene hacer promociones de los precios más bajos, sí de los superiores o intermedios. Salvo que sea por ganar nuevos compradores o por generar ima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  <a:ea typeface="Arial"/>
              </a:rPr>
              <a:t>Efectos de O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rebuchet MS"/>
                <a:ea typeface="Arial"/>
              </a:rPr>
              <a:t>3.500, 5.600, 9.900.,15.800, 21.3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rebuchet MS"/>
                <a:ea typeface="Arial"/>
              </a:rPr>
              <a:t>21.350, 15.800, 9.900, 5.600, 3.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rebuchet MS"/>
                <a:ea typeface="Arial"/>
              </a:rPr>
              <a:t>Ventas promedios mayor en el segundo ca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  <a:ea typeface="Arial"/>
              </a:rPr>
              <a:t>El último precio pagado como precio de refe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rebuchet MS"/>
                <a:ea typeface="Arial"/>
              </a:rPr>
              <a:t>Hacer referencia la último precio pag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romoción</a:t>
            </a: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s la acción de COMUNICAR, ejercida por el PRODUCTOR, destinada al potencial comprador con el objeto de influenciar sus: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ctitu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port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ntimiento post-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Las acciones de Promo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62643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99"/>
                </a:solidFill>
                <a:latin typeface="Trebuchet MS"/>
              </a:rPr>
              <a:t>Venta Pers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Directamente con el cliente, vía correo electrónico, teléfono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99"/>
                </a:solidFill>
                <a:latin typeface="Trebuchet MS"/>
              </a:rPr>
              <a:t>Promoción de vent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Estimular la venta en el momento de la decisión de comp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Presentación del producto, descuen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99"/>
                </a:solidFill>
                <a:latin typeface="Trebuchet MS"/>
              </a:rPr>
              <a:t>Public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A través de un medio masivo: Radio, Diario, Revistas, T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99"/>
                </a:solidFill>
                <a:latin typeface="Trebuchet MS"/>
              </a:rPr>
              <a:t>Relaciones Públi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99"/>
                </a:solidFill>
                <a:latin typeface="Trebuchet MS"/>
              </a:rPr>
              <a:t>Boca en Bo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04000" y="1484280"/>
            <a:ext cx="1943280" cy="3745080"/>
          </a:xfrm>
          <a:prstGeom prst="upArrow">
            <a:avLst>
              <a:gd name="adj1" fmla="val 50000"/>
              <a:gd name="adj2" fmla="val 481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Tengamos en cuenta que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79520" y="1719360"/>
            <a:ext cx="7859520" cy="36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rebuchet MS"/>
              </a:rPr>
              <a:t>El proceso de la venta</a:t>
            </a: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 corresponde a una etapa particular de la </a:t>
            </a:r>
            <a:r>
              <a:rPr b="1" lang="en-US" sz="3000" spc="-1" strike="noStrike">
                <a:solidFill>
                  <a:srgbClr val="333399"/>
                </a:solidFill>
                <a:latin typeface="Trebuchet MS"/>
              </a:rPr>
              <a:t>Táctica de Marketing</a:t>
            </a: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 de una Empres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romo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7991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Trebuchet MS"/>
              </a:rPr>
              <a:t>Tipos de promo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Basadas en el produ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Generar conciencia (prueba gratis): Productos nue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Generar volumen (lleve 2 y pague 1): Aumento del consumo, ro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Basadas en el pre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Rebajas en el pr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Cupones de descu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Premios y con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Debe tener valor para el consum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4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9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4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4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9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4" dur="20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9" dur="2000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4" dur="2000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Ve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a venta es un proce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sarrol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érm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a venta es una actividad de conquista humana, </a:t>
            </a: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no de engañ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haroni"/>
              </a:rPr>
              <a:t>Prospec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haroni"/>
              </a:rPr>
              <a:t>Entrev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haroni"/>
              </a:rPr>
              <a:t>Presentación del 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haroni"/>
              </a:rPr>
              <a:t>Obje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haroni"/>
              </a:rPr>
              <a:t>Cierre y Post-V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06436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ospec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nsiste en identificar buenos clientes potenciales, o buscar posibles nuevos negocios con clientes actu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 debe aprender todo lo posible del potencial cliente antes del primer contac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 debe planificar hasta el más mínimo detalle, para el momento de la entrevi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08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ntrev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Generar empatí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aludo cordial, … pero no adul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uidar detalles (saberse el nombre, no invadir su espacio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Vender” al cliente que es importante hablar conmig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Venderse”, pero cuidado con sonar soberbio o arrogante o parecer “charlatá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333399"/>
                </a:solidFill>
                <a:latin typeface="Trebuchet MS"/>
              </a:rPr>
              <a:t>La idea es hacer atractivo el encuentro, o sea, que el encuentro con el potencial comprador sea de importancia para él (que le genere valo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79200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ntes de presentar el producto, debe decidir alguno de estos 3 enfoq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rebuchet MS"/>
              </a:rPr>
              <a:t>Detección de necesidad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Vendedor primero sólo hace preguntas y ESCUCH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Luego diseña un “traje a la medid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rebuchet MS"/>
              </a:rPr>
              <a:t>Presentación envasa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Vendedor hace una presentación estándar previamente prepa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rebuchet MS"/>
              </a:rPr>
              <a:t>Mix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Vendedor primero sólo hace preguntas, y luego hace una presentación previamente prepar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22640" indent="-42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esentar el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-39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¿Qué es el produc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-39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¿Qué son cada uno de sus atribut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-39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¿Para que sirve cada uno de sus atribut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-39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¿Para que sirve el produc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-39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¿Cómo se usa el produc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-39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¿Por qué el producto es bueno para el clien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-39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¿Cómo beneficia el producto a mi clien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-39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¿Cómo transformar cada atributo en beneficios para cada clien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9640" y="2349360"/>
            <a:ext cx="1584360" cy="719280"/>
          </a:xfrm>
          <a:prstGeom prst="rightArrow">
            <a:avLst>
              <a:gd name="adj1" fmla="val 50000"/>
              <a:gd name="adj2" fmla="val 550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9640" y="3502080"/>
            <a:ext cx="1584360" cy="718920"/>
          </a:xfrm>
          <a:prstGeom prst="rightArrow">
            <a:avLst>
              <a:gd name="adj1" fmla="val 50000"/>
              <a:gd name="adj2" fmla="val 550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340000" y="249084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no no vende productos, vende benef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40000" y="3571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ransformar cada atributo en benef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9640" y="4726080"/>
            <a:ext cx="1584360" cy="718920"/>
          </a:xfrm>
          <a:prstGeom prst="rightArrow">
            <a:avLst>
              <a:gd name="adj1" fmla="val 50000"/>
              <a:gd name="adj2" fmla="val 550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340000" y="4653000"/>
            <a:ext cx="64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 el vendedor no conoce, ni está convencido de los beneficios de su oferta, es difícil que venda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11280" y="14842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esentación del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9128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bje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as objeciones son juicios de oposición ante el discurso de alguna persona en partic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o común es enojarse ante las objeciones que propone el cliente o consumid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Perder ve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Perder fide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Empeora la im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Un cliente mal atendido comunica más que uno cont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bje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5640" y="2781360"/>
            <a:ext cx="1728720" cy="8636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43280" y="2924280"/>
            <a:ext cx="56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ue las objeciones no nos mole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56000" y="3716280"/>
            <a:ext cx="1728720" cy="649440"/>
          </a:xfrm>
          <a:prstGeom prst="rightArrow">
            <a:avLst>
              <a:gd name="adj1" fmla="val 50000"/>
              <a:gd name="adj2" fmla="val 665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643280" y="378936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o cambiar actit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43280" y="436572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o perder la cal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43280" y="494172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tercambiar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  <a:ea typeface="Aharoni"/>
              </a:rPr>
              <a:t>¿Qué es el market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rebuchet MS"/>
              </a:rPr>
              <a:t>Marketing es el proceso de planifica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El segmento de mercado al cual me voy a atacar y ver como me quiero posicion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la concepción, precio, promoción y distribución de bienes y servici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333399"/>
                </a:solidFill>
                <a:latin typeface="Trebuchet MS"/>
              </a:rPr>
              <a:t>"Marketing es tener el producto adecuado, en el momento adecuado, adaptado a la demanda, en el tiempo correcto y con el precio mas justo".</a:t>
            </a:r>
            <a:r>
              <a:rPr b="0" lang="es-CL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rebuchet MS"/>
              </a:rPr>
              <a:t>Obje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l Manejo de objeciones: Aprender a “surfear” en el mar de dudas y comentarios (des)calificadores del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n general las objeciones se repiten</a:t>
            </a: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, son predecibles y control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Ej.: Seguros de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No tengo plat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Déjeme consultarlo con mi señor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5300640"/>
            <a:ext cx="1800360" cy="936720"/>
          </a:xfrm>
          <a:prstGeom prst="rightArrow">
            <a:avLst>
              <a:gd name="adj1" fmla="val 50000"/>
              <a:gd name="adj2" fmla="val 48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627280" y="5229360"/>
            <a:ext cx="568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Es vital contar con un discurso que    sea capaz de manejar las distintas objeciones que el cliente prop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91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ier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eneralmente el cliente “necesita un empujoncito”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ero se debe buscar el momento oportuno, sin apresurarlo pero tampoco dilatar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ost-V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a venta no termina una vez que el producto ha sido entreg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na variable importante en la fidelización del cliente es el 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segu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n cliente fiel me compra nuevamente (y es más rentable que un cliente nuev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ost-V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frecer Soporte Téc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frecer nuevos productos y/o Servicios asoci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troali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508720" y="836640"/>
            <a:ext cx="295272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rebuchet MS"/>
              </a:rPr>
              <a:t>Surgimiento de la ide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508720" y="2852280"/>
            <a:ext cx="2952720" cy="1154520"/>
            <a:chOff x="5508720" y="2852280"/>
            <a:chExt cx="2952720" cy="1154520"/>
          </a:xfrm>
        </p:grpSpPr>
        <p:sp>
          <p:nvSpPr>
            <p:cNvPr id="108" name=""/>
            <p:cNvSpPr/>
            <p:nvPr/>
          </p:nvSpPr>
          <p:spPr>
            <a:xfrm>
              <a:off x="5508720" y="3213000"/>
              <a:ext cx="2952720" cy="793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Segmentación 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Targeting (Objetivo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9" name=""/>
            <p:cNvCxnSpPr>
              <a:stCxn id="110" idx="2"/>
              <a:endCxn id="108" idx="0"/>
            </p:cNvCxnSpPr>
            <p:nvPr/>
          </p:nvCxnSpPr>
          <p:spPr>
            <a:xfrm>
              <a:off x="6984720" y="2852280"/>
              <a:ext cx="108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11" name=""/>
          <p:cNvGrpSpPr/>
          <p:nvPr/>
        </p:nvGrpSpPr>
        <p:grpSpPr>
          <a:xfrm>
            <a:off x="5508720" y="5230440"/>
            <a:ext cx="2952720" cy="1222920"/>
            <a:chOff x="5508720" y="5230440"/>
            <a:chExt cx="2952720" cy="1222920"/>
          </a:xfrm>
        </p:grpSpPr>
        <p:sp>
          <p:nvSpPr>
            <p:cNvPr id="112" name=""/>
            <p:cNvSpPr/>
            <p:nvPr/>
          </p:nvSpPr>
          <p:spPr>
            <a:xfrm>
              <a:off x="5508720" y="5661000"/>
              <a:ext cx="2952720" cy="792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Las 4 P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(</a:t>
              </a:r>
              <a:r>
                <a:rPr b="1" lang="en-US" sz="1500" spc="-1" strike="noStrike">
                  <a:solidFill>
                    <a:srgbClr val="333399"/>
                  </a:solidFill>
                  <a:latin typeface="Trebuchet MS"/>
                </a:rPr>
                <a:t>P</a:t>
              </a: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roducto, </a:t>
              </a:r>
              <a:r>
                <a:rPr b="1" lang="en-US" sz="1500" spc="-1" strike="noStrike">
                  <a:solidFill>
                    <a:srgbClr val="333399"/>
                  </a:solidFill>
                  <a:latin typeface="Trebuchet MS"/>
                </a:rPr>
                <a:t>P</a:t>
              </a: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reci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r>
                <a:rPr b="1" lang="en-US" sz="1500" spc="-1" strike="noStrike">
                  <a:solidFill>
                    <a:srgbClr val="333399"/>
                  </a:solidFill>
                  <a:latin typeface="Trebuchet MS"/>
                </a:rPr>
                <a:t>P</a:t>
              </a: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laza y </a:t>
              </a:r>
              <a:r>
                <a:rPr b="1" lang="en-US" sz="1500" spc="-1" strike="noStrike">
                  <a:solidFill>
                    <a:srgbClr val="333399"/>
                  </a:solidFill>
                  <a:latin typeface="Trebuchet MS"/>
                </a:rPr>
                <a:t>P</a:t>
              </a: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romoción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14" idx="2"/>
              <a:endCxn id="112" idx="0"/>
            </p:cNvCxnSpPr>
            <p:nvPr/>
          </p:nvCxnSpPr>
          <p:spPr>
            <a:xfrm>
              <a:off x="6984720" y="5230440"/>
              <a:ext cx="1080" cy="430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15" name=""/>
          <p:cNvSpPr/>
          <p:nvPr/>
        </p:nvSpPr>
        <p:spPr>
          <a:xfrm>
            <a:off x="4859280" y="836640"/>
            <a:ext cx="73080" cy="2016000"/>
          </a:xfrm>
          <a:custGeom>
            <a:avLst/>
            <a:gdLst>
              <a:gd name="textAreaLeft" fmla="*/ 46800 w 73080"/>
              <a:gd name="textAreaRight" fmla="*/ 73440 w 7308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59280" y="3213000"/>
            <a:ext cx="73080" cy="2016360"/>
          </a:xfrm>
          <a:custGeom>
            <a:avLst/>
            <a:gdLst>
              <a:gd name="textAreaLeft" fmla="*/ 46800 w 73080"/>
              <a:gd name="textAreaRight" fmla="*/ 73440 w 7308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2720" y="1197000"/>
            <a:ext cx="3959280" cy="13820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Alineación con 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rebuchet MS"/>
              </a:rPr>
              <a:t>Estrategia de la empresa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su misión, las fortalezas y debilidades ante la competencia y las oportunidades y amenazas existentes en el mer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87280" y="3860640"/>
            <a:ext cx="3024360" cy="631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Desarrollo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rebuchet MS"/>
              </a:rPr>
              <a:t>la Estrategia de Mark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58920" y="5734080"/>
            <a:ext cx="3024000" cy="631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rebuchet MS"/>
              </a:rPr>
              <a:t>Plan de mark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La Tác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508720" y="1233000"/>
            <a:ext cx="3211920" cy="1619640"/>
            <a:chOff x="5508720" y="1233000"/>
            <a:chExt cx="3211920" cy="1619640"/>
          </a:xfrm>
        </p:grpSpPr>
        <p:cxnSp>
          <p:nvCxnSpPr>
            <p:cNvPr id="121" name=""/>
            <p:cNvCxnSpPr>
              <a:stCxn id="106" idx="2"/>
              <a:endCxn id="110" idx="0"/>
            </p:cNvCxnSpPr>
            <p:nvPr/>
          </p:nvCxnSpPr>
          <p:spPr>
            <a:xfrm>
              <a:off x="6984720" y="1628640"/>
              <a:ext cx="1080" cy="43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22" name=""/>
            <p:cNvGrpSpPr/>
            <p:nvPr/>
          </p:nvGrpSpPr>
          <p:grpSpPr>
            <a:xfrm>
              <a:off x="5508720" y="1233000"/>
              <a:ext cx="3211920" cy="1619640"/>
              <a:chOff x="5508720" y="1233000"/>
              <a:chExt cx="3211920" cy="1619640"/>
            </a:xfrm>
          </p:grpSpPr>
          <p:sp>
            <p:nvSpPr>
              <p:cNvPr id="110" name=""/>
              <p:cNvSpPr/>
              <p:nvPr/>
            </p:nvSpPr>
            <p:spPr>
              <a:xfrm>
                <a:off x="5508720" y="2060640"/>
                <a:ext cx="2952720" cy="792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rebuchet MS"/>
                  </a:rPr>
                  <a:t>Análisis Interno/Externo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rebuchet MS"/>
                  </a:rPr>
                  <a:t>(</a:t>
                </a:r>
                <a:r>
                  <a:rPr b="1" lang="en-US" sz="1500" spc="-1" strike="noStrike">
                    <a:solidFill>
                      <a:srgbClr val="333399"/>
                    </a:solidFill>
                    <a:latin typeface="Trebuchet MS"/>
                  </a:rPr>
                  <a:t>FODA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Trebuchet MS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3" name=""/>
              <p:cNvCxnSpPr>
                <a:stCxn id="110" idx="3"/>
                <a:endCxn id="106" idx="3"/>
              </p:cNvCxnSpPr>
              <p:nvPr/>
            </p:nvCxnSpPr>
            <p:spPr>
              <a:xfrm flipV="1">
                <a:off x="8461440" y="1233000"/>
                <a:ext cx="2160" cy="1224720"/>
              </a:xfrm>
              <a:prstGeom prst="bentConnector3">
                <a:avLst>
                  <a:gd name="adj1" fmla="val 1440000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124" name=""/>
          <p:cNvGrpSpPr/>
          <p:nvPr/>
        </p:nvGrpSpPr>
        <p:grpSpPr>
          <a:xfrm>
            <a:off x="5508720" y="3609720"/>
            <a:ext cx="3211920" cy="1621080"/>
            <a:chOff x="5508720" y="3609720"/>
            <a:chExt cx="3211920" cy="1621080"/>
          </a:xfrm>
        </p:grpSpPr>
        <p:cxnSp>
          <p:nvCxnSpPr>
            <p:cNvPr id="125" name=""/>
            <p:cNvCxnSpPr>
              <a:stCxn id="108" idx="2"/>
              <a:endCxn id="114" idx="0"/>
            </p:cNvCxnSpPr>
            <p:nvPr/>
          </p:nvCxnSpPr>
          <p:spPr>
            <a:xfrm>
              <a:off x="6984720" y="4006440"/>
              <a:ext cx="1080" cy="430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26" name=""/>
            <p:cNvGrpSpPr/>
            <p:nvPr/>
          </p:nvGrpSpPr>
          <p:grpSpPr>
            <a:xfrm>
              <a:off x="5508720" y="3609720"/>
              <a:ext cx="3211920" cy="1621080"/>
              <a:chOff x="5508720" y="3609720"/>
              <a:chExt cx="3211920" cy="1621080"/>
            </a:xfrm>
          </p:grpSpPr>
          <p:sp>
            <p:nvSpPr>
              <p:cNvPr id="114" name=""/>
              <p:cNvSpPr/>
              <p:nvPr/>
            </p:nvSpPr>
            <p:spPr>
              <a:xfrm>
                <a:off x="5508720" y="4437000"/>
                <a:ext cx="2952720" cy="793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rebuchet MS"/>
                  </a:rPr>
                  <a:t>Posicionamiento 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rebuchet MS"/>
                  </a:rPr>
                  <a:t>(Desarrollo de concepto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7" name=""/>
              <p:cNvCxnSpPr>
                <a:stCxn id="114" idx="3"/>
                <a:endCxn id="108" idx="3"/>
              </p:cNvCxnSpPr>
              <p:nvPr/>
            </p:nvCxnSpPr>
            <p:spPr>
              <a:xfrm flipV="1">
                <a:off x="8461440" y="3609720"/>
                <a:ext cx="2160" cy="1224720"/>
              </a:xfrm>
              <a:prstGeom prst="bentConnector3">
                <a:avLst>
                  <a:gd name="adj1" fmla="val 1440000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001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rebuchet MS"/>
              </a:rPr>
              <a:t>Proceso General del Market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Estrategia: Seg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7040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rresponde a dividir el mercado en grupos identificables y distinguibles entre si, de manera tal de poder realizar una oferta concreta según las necesidades y cualidades como gru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rebuchet MS"/>
              </a:rPr>
              <a:t>Se pueden orientar esfuerzos de MKTG de manera más eficiente, por ejemplo la promoción y las ven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rebuchet MS"/>
              </a:rPr>
              <a:t>Es posible identificar el grupo de personas indicadas a quién debo vender mis produc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920" y="1393560"/>
            <a:ext cx="7129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Geográf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jemplo: buses interurbanos, fanta en bras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Demografía: edad, sexo, ciclo de vida, edu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jemplo: alimentos para bebés, revistas según se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De condu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antidad de uso (Ejemplo: zapatillas para corr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Beneficios o atributos deseados (Ejemplo: pasajes aéreos, pasta de die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Psicográfica o “Estilos de vid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ncorpora variables de opinión, interés. (Ejemplo: agua mineral, pisco, cervez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Estrategia: Seg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7236000" y="1341360"/>
            <a:ext cx="1403280" cy="4444560"/>
            <a:chOff x="7236000" y="1341360"/>
            <a:chExt cx="1403280" cy="4444560"/>
          </a:xfrm>
        </p:grpSpPr>
        <p:sp>
          <p:nvSpPr>
            <p:cNvPr id="134" name=""/>
            <p:cNvSpPr/>
            <p:nvPr/>
          </p:nvSpPr>
          <p:spPr>
            <a:xfrm flipH="1" flipV="1">
              <a:off x="7888320" y="2420640"/>
              <a:ext cx="20880" cy="2205000"/>
            </a:xfrm>
            <a:prstGeom prst="line">
              <a:avLst/>
            </a:prstGeom>
            <a:ln w="7632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236000" y="4726080"/>
              <a:ext cx="140328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3333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Latente (ocult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3333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Comple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58320" y="1341360"/>
              <a:ext cx="138096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3333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Manifiesta (visibl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3333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Si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Requerimientos para una segmentación efec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Tamaño justifi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Distinción entre seg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Homogeneidad (similares) entre los consumidores del seg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Estrategia: Seg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Estrategia: Targeting (objetiv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77756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oceso de selección de aquellos segmentos que presenten el mayor atractivo considerando como base la estrategia de la empresa y la compatibilidad de los recursos y experiencias de la mis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Estrategia: Posicion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3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rebuchet MS"/>
              </a:rPr>
              <a:t>Capacidad de las empresas de construir en la mente del consumidor un lugar preciado, por sobre el que ocupa la competencia, con los distintos productos que ofre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Pas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Identificar los atributos relevantes para el mercado en el cual participa la marca que se desea posicion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Evaluar la percepción que tienen los consumidores de la marca y sus competidores en relación a estas dimensiones releva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Determinar cuál es la mejor posición que la marca debe ocupar en la mente de los consumidores teniendo en cuenta las preferencias de éstos y las posiciones ya ocupadas por la compet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Determinar cuáles son las herramientas de marketing que van a permitir que la marca defienda esta posi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5640" y="5661000"/>
            <a:ext cx="7848720" cy="1079640"/>
          </a:xfrm>
          <a:custGeom>
            <a:avLst/>
            <a:gdLst>
              <a:gd name="textAreaLeft" fmla="*/ 1962000 w 7848720"/>
              <a:gd name="textAreaRight" fmla="*/ 5886720 w 7848720"/>
              <a:gd name="textAreaTop" fmla="*/ 31680 h 1079640"/>
              <a:gd name="textAreaBottom" fmla="*/ 81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Trebuchet MS"/>
              </a:rPr>
              <a:t>Diferenci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7T03:48:16Z</dcterms:created>
  <dc:creator>Pino</dc:creator>
  <dc:description/>
  <dc:language>en-US</dc:language>
  <cp:lastModifiedBy>NeoAula</cp:lastModifiedBy>
  <dcterms:modified xsi:type="dcterms:W3CDTF">2009-10-22T15:52:09Z</dcterms:modified>
  <cp:revision>68</cp:revision>
  <dc:subject/>
  <dc:title>¿Cómo hacemos para vender nuestros productos?</dc:title>
</cp:coreProperties>
</file>