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2D0E-5DDC-4A18-953E-F2165C7E2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5E21-7FEF-459A-917E-CD2D5F27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CAAA-171E-419E-B80D-72255D7B5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6ED-726F-485D-AFAE-8054B83B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0AE1-3EB5-459B-A008-57442F21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FC2-28CD-42CE-A7A6-6280F4F5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B8F-64F4-4D16-8E8E-F041B97F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70F-863B-4263-966D-C70AEE98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1D9-22C8-4DA6-BEB6-ACC5E6E6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CF4-4ABA-4CBD-9E36-34AF4CD8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EA16-7CD8-4B6F-9BF0-AF3BDF39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0A3-F0AF-4D4D-9099-15B8CF8F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12A3-55C0-4C43-ABFC-9FFB9559DF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539720"/>
          <a:ext cx="8569080" cy="311328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NALIZ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enes sean sorprendidos infringiendo estas normas, o realizando actividades que atenten contra la seguridad y/o el normal desarrollo del trabajo del grupo, serán multados, cada vez con un descuento en 5 décimas en su nota individual, y su grupo con una décima en la nota del proyecto correspondiente.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268280"/>
            <a:ext cx="806436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eño de un producto (o mejora de un producto) para el hog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factible de construir en el Taller de Introducción a la Ingeniería. Usando principalmente una plancha de POM de 40x30 c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diseño debe ser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tallado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  e incluir planos para el c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: Planific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826920" y="1413000"/>
          <a:ext cx="7488360" cy="4178160"/>
        </p:xfrm>
        <a:graphic>
          <a:graphicData uri="http://schemas.openxmlformats.org/drawingml/2006/table">
            <a:tbl>
              <a:tblPr/>
              <a:tblGrid>
                <a:gridCol w="1656000"/>
                <a:gridCol w="583236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teamiento del Proyecto, Investigación pers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ción de Grupos: Lluvia de Ideas, Bosquej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o en Cartón Plu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cción de planos e infor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yecto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268280"/>
            <a:ext cx="748836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Dispensadores (de alimentos, de especia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conomizadores ( de agua, de energí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Se evaluará, además de  cumplir con las restricciones, la originalidad, la estética y la justificación del diseñ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El mejor trabajo será implementado en un prototip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Diseñar Para … (DPx) </a:t>
            </a: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(ver 7.4 lib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268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iderar la mayor cantidad de aspectos posi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2349360"/>
            <a:ext cx="302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ncion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samb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nt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 bien comú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5640" y="2360520"/>
            <a:ext cx="396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econó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r amigable con el medio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hace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4535280" cy="2873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724360" y="4797360"/>
            <a:ext cx="291636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¿Qué tiene que ser capaz de hacer un Ingeni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960560"/>
            <a:ext cx="302400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76720" y="2492280"/>
            <a:ext cx="142920" cy="1368360"/>
          </a:xfrm>
          <a:custGeom>
            <a:avLst/>
            <a:gdLst>
              <a:gd name="textAreaLeft" fmla="*/ 0 w 142920"/>
              <a:gd name="textAreaRight" fmla="*/ 514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5600" y="2909880"/>
            <a:ext cx="21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Estructu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2492280"/>
            <a:ext cx="217440" cy="2087640"/>
          </a:xfrm>
          <a:custGeom>
            <a:avLst/>
            <a:gdLst>
              <a:gd name="textAreaLeft" fmla="*/ 0 w 217440"/>
              <a:gd name="textAreaRight" fmla="*/ 78480 w 21744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14880" y="3284640"/>
            <a:ext cx="199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Brazo H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653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constru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987640" y="3933360"/>
            <a:ext cx="129708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16360" y="5445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señ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ara oper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443640" y="4292640"/>
            <a:ext cx="360360" cy="1440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flictos É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81000"/>
            <a:ext cx="3024000" cy="37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ceb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eñ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plemen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27280" y="1341360"/>
            <a:ext cx="25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Para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28000" y="226224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0160" y="2987640"/>
            <a:ext cx="44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on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En qué condicion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9080" y="4149720"/>
            <a:ext cx="23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¿Cuá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48680" y="1700280"/>
            <a:ext cx="4215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 3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Concurso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5600" y="3429000"/>
            <a:ext cx="645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Proyect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O en un Proceso 10 semana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iseño cíclico (proceso iterativ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50692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Ambos proyectos, en lo posible, con el mismo gru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troducción a la Ingeniería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57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0440" y="126828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Evalu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2680" y="2133720"/>
            <a:ext cx="34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0% Nota de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9040" y="2781360"/>
            <a:ext cx="423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80% Nota de Proye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07600" y="3500280"/>
            <a:ext cx="52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25% Proyecto 1: Informe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3000" y="3989520"/>
            <a:ext cx="731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75% Proyecto 2: Ingeniería - Constr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Operación -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7960" y="515772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  <a:ea typeface="Arial"/>
              </a:rPr>
              <a:t>Co-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900000" y="1773360"/>
          <a:ext cx="7417080" cy="3597120"/>
        </p:xfrm>
        <a:graphic>
          <a:graphicData uri="http://schemas.openxmlformats.org/drawingml/2006/table">
            <a:tbl>
              <a:tblPr/>
              <a:tblGrid>
                <a:gridCol w="7417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GEN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asistencia a taller, a las presentaciones y a </a:t>
                      </a:r>
                      <a:r>
                        <a:rPr b="0" lang="es-MX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algunas cátedras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es </a:t>
                      </a: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gatoria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y se reprobará el curso con más de 2 inasistencias no justificadas ante la escuela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átedra se realizarán  periódicamente actividades evaluadas, con notas cualitativas o cuantitativa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rmas de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95280" y="1052640"/>
          <a:ext cx="8424720" cy="4732200"/>
        </p:xfrm>
        <a:graphic>
          <a:graphicData uri="http://schemas.openxmlformats.org/drawingml/2006/table">
            <a:tbl>
              <a:tblPr/>
              <a:tblGrid>
                <a:gridCol w="8424720"/>
              </a:tblGrid>
              <a:tr h="4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ntualidad: La duración del taller es de 2 horas, se pasará lista y los atrasos deben ser justificados, 2 atrasos se consideraran como una inasistencia. Retirarse antes del fin del taller sin autorización puede significar  una inasistencia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 y ayudantes, ante cualquier duda preguntar antes de realizar una activ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de segura, sin generar condiciones de riesgo, respetando las normas específicas dadas. Utilizar elementos de protección personal (EPP): lentes de seguridad, guantes y otros según las herramientas a utiliza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539640" y="333360"/>
          <a:ext cx="8569440" cy="5703840"/>
        </p:xfrm>
        <a:graphic>
          <a:graphicData uri="http://schemas.openxmlformats.org/drawingml/2006/table">
            <a:tbl>
              <a:tblPr/>
              <a:tblGrid>
                <a:gridCol w="8569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NORMAS DE TRABAJO EN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herramientas correctamente, para la función que fueron diseñadas y con la finalidad para la que fueron entregadas (trabajo en los proyect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. Aprovechar el tiempo en el trabajo grupal en el tall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prohíbe estrictamente realizar actividades ajenas al trabajo en el proyecto, en el horario de ta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letar análisis de riesgo: Analista debe entregar un análisis de riesgo antes de cada sesión, realizado y firmado por todos los integrantes del gru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666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do lo que se construya debe ser guardado en el casillero asignad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WinuE</cp:lastModifiedBy>
  <dcterms:modified xsi:type="dcterms:W3CDTF">2009-07-29T03:00:48Z</dcterms:modified>
  <cp:revision>29</cp:revision>
  <dc:subject/>
  <dc:title>EL63A-Taller de Proyecto en Control II</dc:title>
</cp:coreProperties>
</file>