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A8D-7F1B-40CF-9F87-B98715B6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58F-831D-435E-8F52-257E7E2C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45D-1826-4828-A607-2EE8AF12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E22-46D2-4D22-8904-DA1909ED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85E-49B1-4BAF-9CA2-BF8BD8AA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EF0-EA39-45F9-A8A1-2688B38C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649-FFCB-4DFB-9F75-8431791E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46B-791C-4C53-B5F9-E659CCC2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8AB-9267-4B50-B969-69441DA1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D8F-F435-4EC8-BA15-6FC0161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000-FB5B-4FC7-970B-1EA276A3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782-16C6-4C94-AEFF-8251EA6D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8B3D-2CB6-4716-9CA6-F3C100723D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26828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el ho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268280"/>
            <a:ext cx="748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052640"/>
          <a:ext cx="8424720" cy="4732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WinuE</cp:lastModifiedBy>
  <dcterms:modified xsi:type="dcterms:W3CDTF">2009-07-29T03:00:48Z</dcterms:modified>
  <cp:revision>29</cp:revision>
  <dc:subject/>
  <dc:title>EL63A-Taller de Proyecto en Control II</dc:title>
</cp:coreProperties>
</file>