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33E-DFFA-4C4A-B2FB-552CC037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A42-B841-4E24-ACA3-9F34BEC0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310-FFE5-421F-B8DC-71ED9AEC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E7B-D418-4C92-8ADF-9D719027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1F1-C449-4C76-9F93-B521CE4E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AAD-EDC5-415D-8E28-8DDC0D06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31E-F010-4F60-B9CF-8EF5A0D9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4E9-ACF4-450A-8DCE-797234CA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57D-1137-4738-8E2A-004ACB45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A6A-3049-4D68-B225-57CA9A4E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9002-F6EE-4448-8DED-F16D4BCD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3AF-12C3-4257-AE71-3CD3E763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44F9-B6F5-4372-9BA6-5C3A5A833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artes /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4 CuadroTexto"/>
          <p:cNvSpPr/>
          <p:nvPr/>
        </p:nvSpPr>
        <p:spPr>
          <a:xfrm>
            <a:off x="1005120" y="157176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%  Tarea lluvia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5 CuadroTexto"/>
          <p:cNvSpPr/>
          <p:nvPr/>
        </p:nvSpPr>
        <p:spPr>
          <a:xfrm>
            <a:off x="1004040" y="23572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%  Modelo en cartón pluma  (Se evalúa ho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6 CuadroTexto"/>
          <p:cNvSpPr/>
          <p:nvPr/>
        </p:nvSpPr>
        <p:spPr>
          <a:xfrm>
            <a:off x="1049400" y="3284640"/>
            <a:ext cx="495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0% Planos de piezas (Solid Ed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ir a U-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7 CuadroTexto"/>
          <p:cNvSpPr/>
          <p:nvPr/>
        </p:nvSpPr>
        <p:spPr>
          <a:xfrm>
            <a:off x="1044720" y="443700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60% Informe. Subir a U-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Apé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1484280"/>
            <a:ext cx="74883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ferencias (Bibliografía, vínculo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pción de Partes y pi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ual de fabricación/ens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ual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agramas de Cuerpo Li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talle de cálculo de costos- eval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26920" y="1413000"/>
          <a:ext cx="7488360" cy="41781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Investigación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Grupos: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 e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826920" y="4581360"/>
            <a:ext cx="749016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oyecto 1: Informe - E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58920" y="907920"/>
          <a:ext cx="6553080" cy="5448240"/>
        </p:xfrm>
        <a:graphic>
          <a:graphicData uri="http://schemas.openxmlformats.org/drawingml/2006/table">
            <a:tbl>
              <a:tblPr/>
              <a:tblGrid>
                <a:gridCol w="750600"/>
                <a:gridCol w="4994280"/>
                <a:gridCol w="80820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a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t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Portada y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Resumen  Ejecu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3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Introducción a la Ex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4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Resultad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5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Discu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6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Conclusio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7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Apéndic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Helvetica-Narrow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Por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62520" y="1584360"/>
            <a:ext cx="68554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sar modelo – Respetar Normas grá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mbre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mbr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formación Curso-S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gr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62160" y="1584360"/>
            <a:ext cx="32144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áximo una pl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ué se hi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125360"/>
            <a:ext cx="8135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bir marco, (curso, proyec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bjetivos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todología (Pasos 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ecedentes particulares del producto diseñado (qué resuelve, cómo se hace actualmente, productos existentes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nvestig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ados esperados (funcionará?, costo?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orme: Desarrollo -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1125360"/>
            <a:ext cx="7201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scribir etapas y resultado de cada 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deas Individ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luvia de ideas -Bosqu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to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eño final (descripción diseño y funcion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1125360"/>
            <a:ext cx="72010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entajas- desvent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mparación con productos exist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stos – Evaluación producto, evaluación ahorros (si apl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ejoras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teriales altern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e: 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341360"/>
            <a:ext cx="7201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Logro de 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Cumplimiento de 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Aportes del diseño (creatividad, innov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Problemas en la ejecución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WinuE</cp:lastModifiedBy>
  <dcterms:modified xsi:type="dcterms:W3CDTF">2009-08-19T01:40:27Z</dcterms:modified>
  <cp:revision>59</cp:revision>
  <dc:subject/>
  <dc:title>EI1B2 Introducción a la Ingeneiría II</dc:title>
</cp:coreProperties>
</file>