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5B29-7003-4663-A45A-5C0D4B1319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05C2B8AA-DE1B-409F-909F-E96E907A388A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80BAFF6A-CCD3-4E4B-BAD8-C42FB27F9E77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736-78A0-4ADD-8262-3712F3AC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3D8-0C3A-4903-81F6-FC334599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63A-00A0-4B15-9016-EC75B0A9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3E3-9B60-4E7E-8CD7-8D8749E0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403-0264-4BCA-B0FC-FDE7D1CC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D0F-6204-4771-B3F4-08ADFFA1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7C1-AB3D-4A48-ADCA-3DB5C2F0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D71-2A67-453B-A31D-4433821C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6B2-EAD2-45FA-82C6-D861B94A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95A-4DF1-4386-8652-5B67E3F6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FAA-2F7E-4A34-8C36-17DF26A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2FC-9DE2-4441-BE74-9984BB18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83D8-FA12-44EF-AC99-826F285F1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1125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836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4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60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916360" y="2349360"/>
            <a:ext cx="208728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3440" y="3213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520" y="134136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1628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8520" y="476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x4x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95640" y="83664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7400" y="692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óvil autopropul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364000" y="979560"/>
            <a:ext cx="14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2276640"/>
            <a:ext cx="803160" cy="57456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16360" y="2276640"/>
            <a:ext cx="803520" cy="57456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4560" y="2781360"/>
            <a:ext cx="14472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2781360"/>
            <a:ext cx="14436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4520" y="2925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m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47640" y="2924280"/>
            <a:ext cx="1368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5640" y="1557360"/>
            <a:ext cx="539640" cy="809640"/>
          </a:xfrm>
          <a:prstGeom prst="cube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084640"/>
            <a:ext cx="532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1628640"/>
            <a:ext cx="432000" cy="719280"/>
          </a:xfrm>
          <a:prstGeom prst="cube">
            <a:avLst>
              <a:gd name="adj" fmla="val 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1700280"/>
            <a:ext cx="216000" cy="431640"/>
          </a:xfrm>
          <a:prstGeom prst="cube">
            <a:avLst>
              <a:gd name="adj" fmla="val 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0364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160" y="3573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2520" y="135900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1646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43280" y="2349000"/>
            <a:ext cx="0" cy="269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2349360"/>
            <a:ext cx="442800" cy="107964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067280" y="2349360"/>
            <a:ext cx="442800" cy="107964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57640" y="2701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500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62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o y Ancho a definir por el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11640" y="162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V="1" rot="10800000">
            <a:off x="3923640" y="906840"/>
            <a:ext cx="57708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2" idx="2"/>
          </p:cNvCxnSpPr>
          <p:nvPr/>
        </p:nvCxnSpPr>
        <p:spPr>
          <a:xfrm rot="5400000">
            <a:off x="4640400" y="905400"/>
            <a:ext cx="72756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26920" y="141300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1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1 -&gt;Mejoras (M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79280" y="4365720"/>
            <a:ext cx="540000" cy="503280"/>
          </a:xfrm>
          <a:prstGeom prst="rightArrow">
            <a:avLst>
              <a:gd name="adj1" fmla="val 52306"/>
              <a:gd name="adj2" fmla="val 368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229360"/>
            <a:ext cx="682560" cy="431640"/>
          </a:xfrm>
          <a:prstGeom prst="rightArrow">
            <a:avLst>
              <a:gd name="adj1" fmla="val 50000"/>
              <a:gd name="adj2" fmla="val 39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EI11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205000"/>
            <a:ext cx="79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eño, Implementación y Puesta en marcha de un sistema de Transporte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126828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549360"/>
          <a:ext cx="8229600" cy="5999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8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yecto consiste en el diseño, implementación y puesta en marcha de un prototipo funcional. Este prototipo debe ser capaz de transportar y descargar en un determinado lugar  un elemento específic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S DEL PROTO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totipo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ransport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na carga (80x40x40 mm aprox.)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utónomamente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por una distancia de 500 mm, entrar en la zona de descarga, ayudado por rieles de 20 mm de alto que lo encaminan. Allí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tenerse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scarg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n una plataforma de 100x150x50mm, y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ntinu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u marcha despejando la zona de descarg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arga transportada no debe ser volteada (siempre vertica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 dimensiones del móvil son definidas por el equip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versión final se realzará en un material plástico (POM) para lo cual se deben generar planos de las piezas en Solid Edge 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materiales disponibles para cada grupo s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ástico (POM) 3 mm de espesor 300 x 4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mbre de acer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,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s de ac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ás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43700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436572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78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3718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314172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30700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2492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242100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844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77336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1270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Laboratorio de Fluidos</cp:lastModifiedBy>
  <dcterms:modified xsi:type="dcterms:W3CDTF">2009-08-25T14:04:19Z</dcterms:modified>
  <cp:revision>11</cp:revision>
  <dc:subject/>
  <dc:title>Diapositiva 1</dc:title>
</cp:coreProperties>
</file>