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025-4CDD-4D07-ADC8-01301964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FAB-819C-4CF3-962E-92377482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48D-49B2-4DA1-A229-594977A5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83E-167E-4E08-98E5-6AA4FA3F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EFF-C4A0-4BC0-A706-57CAAF0B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480-0FDA-46FA-84CD-D23FF39F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083-0A35-4453-A09F-E3A1D76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A3E-53D2-45D4-9FEB-41573CE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A2F-C9AF-496F-B997-0AEF2C67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0A3-5A1E-4D1F-84B2-288DD6F9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9DE-0E26-46CD-8374-C33C91B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7BB-E760-4FD4-8C91-24EF7471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000-C55E-4156-9C8C-BAD1566A65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gramación de las cl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4" descr=""/>
          <p:cNvPicPr/>
          <p:nvPr/>
        </p:nvPicPr>
        <p:blipFill>
          <a:blip r:embed="rId1"/>
          <a:stretch/>
        </p:blipFill>
        <p:spPr>
          <a:xfrm>
            <a:off x="0" y="2392200"/>
            <a:ext cx="9144000" cy="42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5"/>
          <p:cNvSpPr/>
          <p:nvPr/>
        </p:nvSpPr>
        <p:spPr>
          <a:xfrm>
            <a:off x="40680" y="1084320"/>
            <a:ext cx="786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unes 16:15-19:3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Martes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14:3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-17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ala Q1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ala Gali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36"/>
          <p:cNvSpPr/>
          <p:nvPr/>
        </p:nvSpPr>
        <p:spPr>
          <a:xfrm>
            <a:off x="3419640" y="1197000"/>
            <a:ext cx="0" cy="51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53:00Z</dcterms:created>
  <dc:creator>jlisoni</dc:creator>
  <dc:description/>
  <dc:language>en-US</dc:language>
  <cp:lastModifiedBy>Usuario</cp:lastModifiedBy>
  <dcterms:modified xsi:type="dcterms:W3CDTF">2009-08-04T19:26:09Z</dcterms:modified>
  <cp:revision>22</cp:revision>
  <dc:subject/>
  <dc:title>FI1002 Sistemas Newtonianos</dc:title>
</cp:coreProperties>
</file>