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dt" idx="9"/>
          </p:nvPr>
        </p:nvSpPr>
        <p:spPr>
          <a:xfrm>
            <a:off x="402084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488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0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2FB17-EE10-4D45-9764-FFC162AFA9C7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C04FB-52D6-4C57-B4EE-EF99FE79C2B9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17346-84DE-4EFE-ACB7-5F50EA671B00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7D64-3960-4F77-94C3-67DE288FB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39BE6-072A-4E66-ABA4-883E980B2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F5D0-B7F9-46F0-9EA3-CF60C352A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A893-575E-45BF-880B-1F98979B0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CCFF8-0E82-4C3C-8C69-B596159524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DD957-D122-4E1A-B372-D4259E0438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6573-1B3A-42E4-BEB6-D3E885D35E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7271-DE18-459B-A21A-C6D842A700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D14DB-C263-4240-BDA5-BE12DD8C06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9AACC-4B8F-4470-89A4-DAFEC79A5D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053ED-EA6D-4ABF-8C33-2ABA2586D4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53AB-8765-420F-801F-116F294F1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50E3D-A8EE-439C-8388-E24C6A5A95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3ABE9-B6C7-4985-A371-243D24750D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107A-53E4-4A93-BF25-9484F96C8C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92EA9-98CD-4971-BC22-578356A67B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26790-F4A8-471A-B5A7-9ADA9A1902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8B4-F7B7-4D0A-B566-8FBA9553A6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6DE-90A2-450A-9454-F0DDE07189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22B-131B-47B6-B206-9C177CCF20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A73-7CFA-46AF-B612-EFE3666D07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447-A6A1-463C-8D08-4667433336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206F-EBE6-433C-9B47-F2A9AA14CC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D3D-823E-4529-9F1A-1E4577C5D4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DA0-4A8F-41D1-A571-AFE3473D10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0F8-4E7B-4654-913A-9F6484C3DC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D03-103C-4010-8122-0A95BEB972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629-4910-4BF8-BA24-D9FA61546B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917-4503-4CCB-B6A1-6F2A2AB1CF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16F-4B5A-4FBA-822A-C8B89FD32B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3F303-CA3C-42FF-BC0A-B34A1494E3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346D2-D435-4662-AC97-7D99E14B84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454D7-1766-4FD0-8C4C-01ECC4FB2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D931-8991-443D-BB7E-A20835C2CE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802BA-D6F5-4E07-B200-7660C786FE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7A68D-C08E-42D5-85D7-AF93A2614B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F3A78-801C-482A-A837-D9FE51E6AD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8D149-F5CC-47A4-875D-15D1CDB489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C73A4-DE3E-4899-B8AB-8E65172E27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D1123-A103-4DAA-B66D-B02D81DE8C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BAA03-F49E-4C6C-AF81-F2C5FB8D72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07BD7-B8E4-4F9E-A8C7-FA9633B62DB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128AA-4172-4BC8-A36C-E7A4753E485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08D23-CCCA-4766-9C13-125E6F762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AAA4-5C7D-4767-AB63-A1F382EB69E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3D21D-936F-46F6-8EB2-3E845BD141A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3019A-94B6-46BF-B8BF-94FFC74D215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0A62C-6C32-4714-8493-22CB5F5486C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71A3A-68AA-4FD7-ABB5-DEF826F54BE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C7296-534B-4EFF-B7AC-B5793A2157A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2A4A1-9ED1-4119-8569-601DFF93CD8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D1726-0AEF-4BD9-B8D4-18734C964AB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C7ABF-77C0-42C7-9EF6-96DD83065B4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A2A1F-78CC-4373-AD82-CDA15A7EA83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D82D6-1F09-419D-8F12-A02CD9135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7166-E9E7-4963-A4C7-F65A170234A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8DF58-B920-4D46-81CF-FE7F478B0C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42A9-F1FD-4CD3-9E99-3E2CBCABAF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E5DC-78F6-4A8C-AA7B-2B7CEF8BDB5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B934-193B-4472-899E-8D5DCE50A45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8F91-CB5B-4C88-B9F8-EAEF43F7CB7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838F-7164-4B12-BC55-4DBB1FEE25B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0DE8-F537-45F7-B2DD-2746D6C2944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06F0-BD86-4657-8246-2333CB7D8D8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D7F6-7A03-428D-8786-7FF964AEF6D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3A25-123B-4A8C-8EA7-4ABC1FA3E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DD41-4F41-4670-BC5A-FE60493D2F2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5212-62C7-4134-A005-3AF669CAB18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1626-49DC-4493-9473-7BFE16DD0D9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2016-4031-4CFA-870F-88FBC7ACF14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C7B337-7797-4661-A325-F161100B174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5D83E3-AB12-4E0E-899D-478D3EB401A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275CAD-5604-41F0-B87C-5165571942F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F5630B-0F60-434F-A816-22F905CC1CD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48ADF2-B735-4C0B-A72F-809DD585924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92EE92-26F8-41C4-A979-B47AEF08AB3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9AC4F8-79C7-4966-9725-9AE8E3C5A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BC33-626C-437E-ABDA-804CD6E8A0D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87742B-1085-47A5-AF58-8781A3D4417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FC3AD0-8530-423B-933F-171420209F7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B2D86-D974-45A0-9498-E793499413A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6CC2B5-025F-4759-AF3F-10DB9E9B093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1214C2-D03B-4BA9-A8A0-58658E030E8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3F22E-E151-4205-835C-19FFD0BD58B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021F63-C25C-4C2B-862C-F85F2FB7138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B5148-29B7-4418-9072-752EEAAC2D4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B2FEE-0E05-41B1-952E-924695F5E0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9BB7F-6BA9-4251-9AAD-6351F4175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4A8B-A3D3-4950-97BD-4DA440001A9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0C802-AAB4-4903-80CA-AA8BB61F26C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B6F1F-DBE9-4D6B-BBF0-429AC64F4A9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11B3B-20D0-4414-AD1D-36813A70C7A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47F7C-BFF6-42EC-931A-F7501BA69B5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FC198-8166-4F31-A4FC-A7FAFC8EDD8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0F57D-4E38-4966-9E63-C67D7DE9526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A64F5-3B9B-4BD7-8392-97B94A533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EED115-CD9B-4CB1-94AA-BF2C5A121121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44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914400" y="1407960"/>
            <a:ext cx="228600" cy="222480"/>
            <a:chOff x="914400" y="1407960"/>
            <a:chExt cx="228600" cy="222480"/>
          </a:xfrm>
        </p:grpSpPr>
        <p:pic>
          <p:nvPicPr>
            <p:cNvPr id="49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0"/>
            <p:cNvSpPr/>
            <p:nvPr/>
          </p:nvSpPr>
          <p:spPr>
            <a:xfrm>
              <a:off x="952200" y="1444320"/>
              <a:ext cx="14652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CF5369-C982-4664-9516-EFB9360043CA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2163600" y="2809800"/>
            <a:ext cx="228600" cy="222480"/>
            <a:chOff x="2163600" y="2809800"/>
            <a:chExt cx="228600" cy="222480"/>
          </a:xfrm>
        </p:grpSpPr>
        <p:pic>
          <p:nvPicPr>
            <p:cNvPr id="96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2203200" y="2844360"/>
              <a:ext cx="14436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3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CA8772-F975-4A51-814C-DC06E7FCDC00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247C22-6D29-42FA-94D4-978CC8FDC021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5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52C34E-01D2-4B08-B08D-EC054BE8DA42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B639CF-2C6E-4F7B-98E1-364B29DE8984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1"/>
          <p:cNvGrpSpPr/>
          <p:nvPr/>
        </p:nvGrpSpPr>
        <p:grpSpPr>
          <a:xfrm>
            <a:off x="646200" y="969840"/>
            <a:ext cx="4800600" cy="4799160"/>
            <a:chOff x="646200" y="969840"/>
            <a:chExt cx="4800600" cy="4799160"/>
          </a:xfrm>
        </p:grpSpPr>
        <p:pic>
          <p:nvPicPr>
            <p:cNvPr id="266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060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3"/>
            <p:cNvSpPr/>
            <p:nvPr/>
          </p:nvSpPr>
          <p:spPr>
            <a:xfrm>
              <a:off x="761760" y="1066320"/>
              <a:ext cx="456876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 flipH="1" rot="2100000">
            <a:off x="5003640" y="9399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7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6837B5-9FB3-4BFB-B990-BCA252D80F90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14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8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19683F-F835-4F03-9300-9F209AB750A5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914400" y="21718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FI1002 Sistemas Newtonianos</a:t>
            </a: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Judit Lisoni</a:t>
            </a: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Sección 6</a:t>
            </a:r>
            <a:br>
              <a:rPr sz="4000"/>
            </a:br>
            <a:br>
              <a:rPr sz="4000"/>
            </a:br>
            <a:r>
              <a:rPr b="0" lang="es-ES_tradnl" sz="2800" spc="-1" strike="noStrike" u="sng">
                <a:solidFill>
                  <a:srgbClr val="572314"/>
                </a:solidFill>
                <a:uFillTx/>
                <a:latin typeface="Gill Sans MT"/>
              </a:rPr>
              <a:t>Unidad 4D </a:t>
            </a:r>
            <a:r>
              <a:rPr b="0" lang="es-ES_tradnl" sz="2800" spc="-1" strike="noStrike">
                <a:solidFill>
                  <a:srgbClr val="572314"/>
                </a:solidFill>
                <a:latin typeface="Gill Sans MT"/>
              </a:rPr>
              <a:t>Sólidos rígidos: Rodadura o rodar sin resba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572314"/>
                </a:solidFill>
                <a:latin typeface="Gill Sans MT"/>
              </a:rPr>
              <a:t>Preparación para laboratorio 4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356840" y="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¿Qué debemos saber?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Object 2"/>
              <p:cNvSpPr txBox="1"/>
              <p:nvPr/>
            </p:nvSpPr>
            <p:spPr>
              <a:xfrm>
                <a:off x="1285920" y="1192320"/>
                <a:ext cx="3214800" cy="45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otaciona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aslació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/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0" name="3 CuadroTexto"/>
          <p:cNvSpPr/>
          <p:nvPr/>
        </p:nvSpPr>
        <p:spPr>
          <a:xfrm>
            <a:off x="4657320" y="4714920"/>
            <a:ext cx="23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nde K p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anillo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lindro=0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fera=0.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4 Cerrar llave"/>
          <p:cNvSpPr/>
          <p:nvPr/>
        </p:nvSpPr>
        <p:spPr>
          <a:xfrm>
            <a:off x="4643280" y="1214280"/>
            <a:ext cx="714600" cy="2000520"/>
          </a:xfrm>
          <a:custGeom>
            <a:avLst/>
            <a:gdLst>
              <a:gd name="textAreaLeft" fmla="*/ 0 w 714600"/>
              <a:gd name="textAreaRight" fmla="*/ 258120 w 714600"/>
              <a:gd name="textAreaTop" fmla="*/ 18360 h 2000520"/>
              <a:gd name="textAreaBottom" fmla="*/ 1982160 h 200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16200" y="10800"/>
                  <a:pt x="21600" y="10800"/>
                </a:cubicBezTo>
                <a:cubicBezTo>
                  <a:pt x="162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5 CuadroTexto"/>
          <p:cNvSpPr/>
          <p:nvPr/>
        </p:nvSpPr>
        <p:spPr>
          <a:xfrm>
            <a:off x="5286240" y="153036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suma de ambos términos equivale al 10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6 Cerrar llave"/>
          <p:cNvSpPr/>
          <p:nvPr/>
        </p:nvSpPr>
        <p:spPr>
          <a:xfrm rot="10800000">
            <a:off x="3929040" y="4714560"/>
            <a:ext cx="714240" cy="1785960"/>
          </a:xfrm>
          <a:custGeom>
            <a:avLst/>
            <a:gdLst>
              <a:gd name="textAreaLeft" fmla="*/ 0 w 714240"/>
              <a:gd name="textAreaRight" fmla="*/ 257760 w 714240"/>
              <a:gd name="textAreaTop" fmla="*/ 18360 h 1785960"/>
              <a:gd name="textAreaBottom" fmla="*/ 176760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16200" y="10800"/>
                  <a:pt x="21600" y="10800"/>
                </a:cubicBezTo>
                <a:cubicBezTo>
                  <a:pt x="162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1285920" y="3286080"/>
          <a:ext cx="7191360" cy="3106800"/>
        </p:xfrm>
        <a:graphic>
          <a:graphicData uri="http://schemas.openxmlformats.org/drawingml/2006/table">
            <a:tbl>
              <a:tblPr/>
              <a:tblGrid>
                <a:gridCol w="1438200"/>
                <a:gridCol w="1438200"/>
                <a:gridCol w="1438560"/>
                <a:gridCol w="1438200"/>
                <a:gridCol w="143820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cción de energ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r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mento de Iner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l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ind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f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(1+K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05" name="Object 2"/>
              <p:cNvSpPr txBox="1"/>
              <p:nvPr/>
            </p:nvSpPr>
            <p:spPr>
              <a:xfrm>
                <a:off x="915840" y="0"/>
                <a:ext cx="7489800" cy="33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acción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siderando   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y  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1214280" y="357120"/>
          <a:ext cx="7191360" cy="3106800"/>
        </p:xfrm>
        <a:graphic>
          <a:graphicData uri="http://schemas.openxmlformats.org/drawingml/2006/table">
            <a:tbl>
              <a:tblPr/>
              <a:tblGrid>
                <a:gridCol w="1438560"/>
                <a:gridCol w="1438200"/>
                <a:gridCol w="1438200"/>
                <a:gridCol w="1438200"/>
                <a:gridCol w="143820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cción de energí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r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mento de Iner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t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sl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l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ind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fe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R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(1+K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507" name="3 CuadroTexto"/>
          <p:cNvSpPr/>
          <p:nvPr/>
        </p:nvSpPr>
        <p:spPr>
          <a:xfrm>
            <a:off x="1143000" y="3786120"/>
            <a:ext cx="728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í, el cuerpo que tiene su masa más distribuida hacia el eje de rotación (esfera) rota mucho menos que lo que se traslada y viceversa (anill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mento de inercia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oposición al rot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4 Flecha abajo"/>
          <p:cNvSpPr/>
          <p:nvPr/>
        </p:nvSpPr>
        <p:spPr>
          <a:xfrm>
            <a:off x="4429080" y="557208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jercicio de cálcul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10" name="1 Triángulo rectángulo"/>
          <p:cNvSpPr/>
          <p:nvPr/>
        </p:nvSpPr>
        <p:spPr>
          <a:xfrm>
            <a:off x="0" y="2714760"/>
            <a:ext cx="4214880" cy="164304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3 Elipse"/>
          <p:cNvSpPr/>
          <p:nvPr/>
        </p:nvSpPr>
        <p:spPr>
          <a:xfrm rot="1503000">
            <a:off x="213840" y="1785960"/>
            <a:ext cx="1143000" cy="1214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4 Elipse" descr=""/>
          <p:cNvPicPr/>
          <p:nvPr/>
        </p:nvPicPr>
        <p:blipFill>
          <a:blip r:embed="rId1"/>
          <a:stretch/>
        </p:blipFill>
        <p:spPr>
          <a:xfrm>
            <a:off x="1523880" y="1974960"/>
            <a:ext cx="1200240" cy="1695240"/>
          </a:xfrm>
          <a:prstGeom prst="rect">
            <a:avLst/>
          </a:prstGeom>
          <a:ln w="0">
            <a:noFill/>
          </a:ln>
        </p:spPr>
      </p:pic>
      <p:pic>
        <p:nvPicPr>
          <p:cNvPr id="513" name="6 Elipse" descr=""/>
          <p:cNvPicPr/>
          <p:nvPr/>
        </p:nvPicPr>
        <p:blipFill>
          <a:blip r:embed="rId2"/>
          <a:stretch/>
        </p:blipFill>
        <p:spPr>
          <a:xfrm>
            <a:off x="2865600" y="2730600"/>
            <a:ext cx="2011320" cy="1573200"/>
          </a:xfrm>
          <a:prstGeom prst="rect">
            <a:avLst/>
          </a:prstGeom>
          <a:ln w="0">
            <a:noFill/>
          </a:ln>
        </p:spPr>
      </p:pic>
      <p:sp>
        <p:nvSpPr>
          <p:cNvPr id="514" name="7 CuadroTexto"/>
          <p:cNvSpPr/>
          <p:nvPr/>
        </p:nvSpPr>
        <p:spPr>
          <a:xfrm>
            <a:off x="4572000" y="12254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una rampa caen tres cuerp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TO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masa M y radio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dis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si ahora se sueltan los tres cuerpos desde el reposo y a la misma altura h y se dejan rodar sobre una pendiente, ¿cuál de los tres cuerpos llegará primero al final de la pendiente? Los cuerpos ruedan sin resba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19 Conector recto"/>
          <p:cNvSpPr/>
          <p:nvPr/>
        </p:nvSpPr>
        <p:spPr>
          <a:xfrm flipH="1">
            <a:off x="642960" y="3000240"/>
            <a:ext cx="1440" cy="143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9 CuadroTexto"/>
          <p:cNvSpPr/>
          <p:nvPr/>
        </p:nvSpPr>
        <p:spPr>
          <a:xfrm>
            <a:off x="21636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14 Conector recto"/>
          <p:cNvSpPr/>
          <p:nvPr/>
        </p:nvSpPr>
        <p:spPr>
          <a:xfrm>
            <a:off x="785880" y="1428840"/>
            <a:ext cx="3786120" cy="164304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12 CuadroTexto"/>
          <p:cNvSpPr/>
          <p:nvPr/>
        </p:nvSpPr>
        <p:spPr>
          <a:xfrm>
            <a:off x="2075040" y="1571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17 CuadroTexto"/>
          <p:cNvSpPr/>
          <p:nvPr/>
        </p:nvSpPr>
        <p:spPr>
          <a:xfrm>
            <a:off x="2503440" y="378612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56840" y="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¿Qué debemos saber?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"/>
              <p:cNvSpPr txBox="1"/>
              <p:nvPr/>
            </p:nvSpPr>
            <p:spPr>
              <a:xfrm>
                <a:off x="1285920" y="1285920"/>
                <a:ext cx="62244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cánica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nétic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rotació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nétic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raslació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otencia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raveda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22" name="7 CuadroTexto"/>
          <p:cNvSpPr/>
          <p:nvPr/>
        </p:nvSpPr>
        <p:spPr>
          <a:xfrm>
            <a:off x="1143000" y="435780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almente los tres objetos sólo tienen energía potencial: M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ndo lo que aprendimos del ejercicio anterior, evidentemente la esfera llegará prim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1785960" y="2928960"/>
                <a:ext cx="46674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xse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xse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24" name="9 CuadroTexto"/>
          <p:cNvSpPr/>
          <p:nvPr/>
        </p:nvSpPr>
        <p:spPr>
          <a:xfrm>
            <a:off x="1143000" y="2143080"/>
            <a:ext cx="757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mecánic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l sistema se conser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xperiencia 4D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26" name="2 CuadroTexto"/>
          <p:cNvSpPr/>
          <p:nvPr/>
        </p:nvSpPr>
        <p:spPr>
          <a:xfrm>
            <a:off x="0" y="13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áginas 217-220 del apu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rpos sólidos rotando y trasladánd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7 CuadroTexto"/>
          <p:cNvSpPr/>
          <p:nvPr/>
        </p:nvSpPr>
        <p:spPr>
          <a:xfrm>
            <a:off x="5857920" y="2714760"/>
            <a:ext cx="3286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ilindros iguales y plasticin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ambiar el momento de iner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render el efecto de la distribución de masa en el momento de inercia de un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Quién ganará la carrer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arar con lo predicción teó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6" descr=""/>
          <p:cNvPicPr/>
          <p:nvPr/>
        </p:nvPicPr>
        <p:blipFill>
          <a:blip r:embed="rId1"/>
          <a:stretch/>
        </p:blipFill>
        <p:spPr>
          <a:xfrm>
            <a:off x="0" y="3286080"/>
            <a:ext cx="2257560" cy="2152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8" descr=""/>
          <p:cNvPicPr/>
          <p:nvPr/>
        </p:nvPicPr>
        <p:blipFill>
          <a:blip r:embed="rId2"/>
          <a:stretch/>
        </p:blipFill>
        <p:spPr>
          <a:xfrm>
            <a:off x="2643120" y="35002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Movimiento de rodamiento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uerpo rígid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70" name="2 Elipse"/>
          <p:cNvSpPr/>
          <p:nvPr/>
        </p:nvSpPr>
        <p:spPr>
          <a:xfrm>
            <a:off x="1857240" y="2214720"/>
            <a:ext cx="3286440" cy="335736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4 Conector recto"/>
          <p:cNvSpPr/>
          <p:nvPr/>
        </p:nvSpPr>
        <p:spPr>
          <a:xfrm>
            <a:off x="1143000" y="5572080"/>
            <a:ext cx="45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5 Y"/>
          <p:cNvSpPr/>
          <p:nvPr/>
        </p:nvSpPr>
        <p:spPr>
          <a:xfrm>
            <a:off x="3357720" y="371484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3" name="9 Conector recto de flecha"/>
          <p:cNvCxnSpPr/>
          <p:nvPr/>
        </p:nvCxnSpPr>
        <p:spPr>
          <a:xfrm>
            <a:off x="3456000" y="383076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4" name="10 CuadroTexto"/>
          <p:cNvSpPr/>
          <p:nvPr/>
        </p:nvSpPr>
        <p:spPr>
          <a:xfrm>
            <a:off x="3948480" y="3429000"/>
            <a:ext cx="53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11 Conector"/>
          <p:cNvSpPr/>
          <p:nvPr/>
        </p:nvSpPr>
        <p:spPr>
          <a:xfrm>
            <a:off x="3429000" y="550080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12 CuadroTexto"/>
          <p:cNvSpPr/>
          <p:nvPr/>
        </p:nvSpPr>
        <p:spPr>
          <a:xfrm>
            <a:off x="3574440" y="557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13 Conector"/>
          <p:cNvSpPr/>
          <p:nvPr/>
        </p:nvSpPr>
        <p:spPr>
          <a:xfrm>
            <a:off x="3429000" y="2143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14 CuadroTexto"/>
          <p:cNvSpPr/>
          <p:nvPr/>
        </p:nvSpPr>
        <p:spPr>
          <a:xfrm>
            <a:off x="3574800" y="2214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15 Conector"/>
          <p:cNvSpPr/>
          <p:nvPr/>
        </p:nvSpPr>
        <p:spPr>
          <a:xfrm>
            <a:off x="2143080" y="3286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16 CuadroTexto"/>
          <p:cNvSpPr/>
          <p:nvPr/>
        </p:nvSpPr>
        <p:spPr>
          <a:xfrm>
            <a:off x="22881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1" name="17 Conector recto de flecha"/>
          <p:cNvCxnSpPr/>
          <p:nvPr/>
        </p:nvCxnSpPr>
        <p:spPr>
          <a:xfrm>
            <a:off x="3643200" y="221472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2" name="19 Conector recto de flecha"/>
          <p:cNvCxnSpPr>
            <a:stCxn id="379" idx="0"/>
          </p:cNvCxnSpPr>
          <p:nvPr/>
        </p:nvCxnSpPr>
        <p:spPr>
          <a:xfrm flipV="1">
            <a:off x="2214720" y="2714040"/>
            <a:ext cx="429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3" name="16 CuadroTexto"/>
          <p:cNvSpPr/>
          <p:nvPr/>
        </p:nvSpPr>
        <p:spPr>
          <a:xfrm>
            <a:off x="5429160" y="300024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é movimiento sigue el C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se mueve P`? Lo único que necesitamos es 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diciones para </a:t>
            </a:r>
            <a:r>
              <a:rPr b="0" lang="es-ES" sz="4300" spc="-1" strike="noStrike">
                <a:solidFill>
                  <a:srgbClr val="ff0000"/>
                </a:solidFill>
                <a:latin typeface="Arial"/>
              </a:rPr>
              <a:t>rodadura</a:t>
            </a:r>
            <a:br>
              <a:rPr sz="4300"/>
            </a:br>
            <a:r>
              <a:rPr b="0" lang="es-ES" sz="4300" spc="-1" strike="noStrike">
                <a:solidFill>
                  <a:srgbClr val="ff0000"/>
                </a:solidFill>
                <a:latin typeface="Arial"/>
              </a:rPr>
              <a:t>Se rueda sin deslizar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5" name="2 Elipse"/>
          <p:cNvSpPr/>
          <p:nvPr/>
        </p:nvSpPr>
        <p:spPr>
          <a:xfrm>
            <a:off x="1071720" y="2214720"/>
            <a:ext cx="3286080" cy="335736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4 Conector recto"/>
          <p:cNvSpPr/>
          <p:nvPr/>
        </p:nvSpPr>
        <p:spPr>
          <a:xfrm>
            <a:off x="357120" y="5572080"/>
            <a:ext cx="878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5 Y"/>
          <p:cNvSpPr/>
          <p:nvPr/>
        </p:nvSpPr>
        <p:spPr>
          <a:xfrm>
            <a:off x="2571840" y="371484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8" name="9 Conector recto de flecha"/>
          <p:cNvCxnSpPr/>
          <p:nvPr/>
        </p:nvCxnSpPr>
        <p:spPr>
          <a:xfrm>
            <a:off x="2670120" y="3830760"/>
            <a:ext cx="1286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9" name="10 CuadroTexto"/>
          <p:cNvSpPr/>
          <p:nvPr/>
        </p:nvSpPr>
        <p:spPr>
          <a:xfrm>
            <a:off x="3162600" y="3429000"/>
            <a:ext cx="53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11 Conector"/>
          <p:cNvSpPr/>
          <p:nvPr/>
        </p:nvSpPr>
        <p:spPr>
          <a:xfrm>
            <a:off x="2643120" y="550080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12 CuadroTexto"/>
          <p:cNvSpPr/>
          <p:nvPr/>
        </p:nvSpPr>
        <p:spPr>
          <a:xfrm>
            <a:off x="2788560" y="557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13 Conector"/>
          <p:cNvSpPr/>
          <p:nvPr/>
        </p:nvSpPr>
        <p:spPr>
          <a:xfrm>
            <a:off x="7500960" y="257184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14 CuadroTexto"/>
          <p:cNvSpPr/>
          <p:nvPr/>
        </p:nvSpPr>
        <p:spPr>
          <a:xfrm>
            <a:off x="7646760" y="2643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2 Elipse"/>
          <p:cNvSpPr/>
          <p:nvPr/>
        </p:nvSpPr>
        <p:spPr>
          <a:xfrm>
            <a:off x="4857840" y="2214720"/>
            <a:ext cx="3286080" cy="335736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5 Y"/>
          <p:cNvSpPr/>
          <p:nvPr/>
        </p:nvSpPr>
        <p:spPr>
          <a:xfrm>
            <a:off x="6357960" y="371484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11 Conector"/>
          <p:cNvSpPr/>
          <p:nvPr/>
        </p:nvSpPr>
        <p:spPr>
          <a:xfrm>
            <a:off x="5214960" y="492912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12 CuadroTexto"/>
          <p:cNvSpPr/>
          <p:nvPr/>
        </p:nvSpPr>
        <p:spPr>
          <a:xfrm>
            <a:off x="4931640" y="4857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33 Conector recto"/>
          <p:cNvSpPr/>
          <p:nvPr/>
        </p:nvSpPr>
        <p:spPr>
          <a:xfrm flipH="1">
            <a:off x="6474960" y="3840120"/>
            <a:ext cx="1800" cy="1800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35 Conector recto"/>
          <p:cNvSpPr/>
          <p:nvPr/>
        </p:nvSpPr>
        <p:spPr>
          <a:xfrm flipH="1">
            <a:off x="5336640" y="3830760"/>
            <a:ext cx="1135080" cy="12207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37 Flecha derecha"/>
          <p:cNvSpPr/>
          <p:nvPr/>
        </p:nvSpPr>
        <p:spPr>
          <a:xfrm>
            <a:off x="3857760" y="5929200"/>
            <a:ext cx="1643040" cy="571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38 CuadroTexto"/>
          <p:cNvSpPr/>
          <p:nvPr/>
        </p:nvSpPr>
        <p:spPr>
          <a:xfrm>
            <a:off x="6150240" y="40593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39 Arco"/>
          <p:cNvSpPr/>
          <p:nvPr/>
        </p:nvSpPr>
        <p:spPr>
          <a:xfrm rot="17336400">
            <a:off x="5459040" y="1969560"/>
            <a:ext cx="1357560" cy="13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12 CuadroTexto"/>
          <p:cNvSpPr/>
          <p:nvPr/>
        </p:nvSpPr>
        <p:spPr>
          <a:xfrm>
            <a:off x="6290280" y="164304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4" name="42 Conector recto de flecha"/>
          <p:cNvCxnSpPr/>
          <p:nvPr/>
        </p:nvCxnSpPr>
        <p:spPr>
          <a:xfrm flipH="1" flipV="1">
            <a:off x="5785560" y="5785560"/>
            <a:ext cx="1072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5" name="12 CuadroTexto"/>
          <p:cNvSpPr/>
          <p:nvPr/>
        </p:nvSpPr>
        <p:spPr>
          <a:xfrm>
            <a:off x="6724800" y="55720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rza de r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12 CuadroTexto"/>
          <p:cNvSpPr/>
          <p:nvPr/>
        </p:nvSpPr>
        <p:spPr>
          <a:xfrm>
            <a:off x="5652000" y="27860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rco S=R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12 CuadroTexto"/>
          <p:cNvSpPr/>
          <p:nvPr/>
        </p:nvSpPr>
        <p:spPr>
          <a:xfrm>
            <a:off x="5574960" y="4214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47 Forma libre"/>
          <p:cNvSpPr/>
          <p:nvPr/>
        </p:nvSpPr>
        <p:spPr>
          <a:xfrm>
            <a:off x="5335560" y="5062680"/>
            <a:ext cx="1179720" cy="51912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diciones para caso de rodadura pura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10" name="13 Conector"/>
          <p:cNvSpPr/>
          <p:nvPr/>
        </p:nvSpPr>
        <p:spPr>
          <a:xfrm>
            <a:off x="3071880" y="2143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14 CuadroTexto"/>
          <p:cNvSpPr/>
          <p:nvPr/>
        </p:nvSpPr>
        <p:spPr>
          <a:xfrm>
            <a:off x="3217680" y="2214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2 Elipse"/>
          <p:cNvSpPr/>
          <p:nvPr/>
        </p:nvSpPr>
        <p:spPr>
          <a:xfrm>
            <a:off x="428760" y="1785960"/>
            <a:ext cx="3286080" cy="335772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5 Y"/>
          <p:cNvSpPr/>
          <p:nvPr/>
        </p:nvSpPr>
        <p:spPr>
          <a:xfrm>
            <a:off x="1928880" y="328608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11 Conector"/>
          <p:cNvSpPr/>
          <p:nvPr/>
        </p:nvSpPr>
        <p:spPr>
          <a:xfrm>
            <a:off x="785880" y="4500720"/>
            <a:ext cx="142920" cy="14256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12 CuadroTexto"/>
          <p:cNvSpPr/>
          <p:nvPr/>
        </p:nvSpPr>
        <p:spPr>
          <a:xfrm>
            <a:off x="502560" y="442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8 Conector recto"/>
          <p:cNvSpPr/>
          <p:nvPr/>
        </p:nvSpPr>
        <p:spPr>
          <a:xfrm flipH="1">
            <a:off x="2045880" y="3411360"/>
            <a:ext cx="1800" cy="1800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9 Conector recto"/>
          <p:cNvSpPr/>
          <p:nvPr/>
        </p:nvSpPr>
        <p:spPr>
          <a:xfrm flipH="1">
            <a:off x="907560" y="3402000"/>
            <a:ext cx="1135080" cy="12207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10 CuadroTexto"/>
          <p:cNvSpPr/>
          <p:nvPr/>
        </p:nvSpPr>
        <p:spPr>
          <a:xfrm>
            <a:off x="1721160" y="3630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11 Arco"/>
          <p:cNvSpPr/>
          <p:nvPr/>
        </p:nvSpPr>
        <p:spPr>
          <a:xfrm rot="17336400">
            <a:off x="1029960" y="1541160"/>
            <a:ext cx="1357200" cy="13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12 CuadroTexto"/>
          <p:cNvSpPr/>
          <p:nvPr/>
        </p:nvSpPr>
        <p:spPr>
          <a:xfrm>
            <a:off x="1860840" y="121428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1" name="13 Conector recto de flecha"/>
          <p:cNvCxnSpPr/>
          <p:nvPr/>
        </p:nvCxnSpPr>
        <p:spPr>
          <a:xfrm flipH="1" flipV="1">
            <a:off x="1356480" y="535752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2" name="12 CuadroTexto"/>
          <p:cNvSpPr/>
          <p:nvPr/>
        </p:nvSpPr>
        <p:spPr>
          <a:xfrm>
            <a:off x="2295720" y="51436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rza de r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12 CuadroTexto"/>
          <p:cNvSpPr/>
          <p:nvPr/>
        </p:nvSpPr>
        <p:spPr>
          <a:xfrm>
            <a:off x="1222920" y="2357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rco S=R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114588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17 Forma libre"/>
          <p:cNvSpPr/>
          <p:nvPr/>
        </p:nvSpPr>
        <p:spPr>
          <a:xfrm>
            <a:off x="906480" y="4633920"/>
            <a:ext cx="1179360" cy="51912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4 Conector recto"/>
          <p:cNvSpPr/>
          <p:nvPr/>
        </p:nvSpPr>
        <p:spPr>
          <a:xfrm>
            <a:off x="357120" y="5143680"/>
            <a:ext cx="364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4643280" y="2643120"/>
                <a:ext cx="3938760" cy="20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ωR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f>
                          <m:num>
                            <m:r>
                              <m:t xml:space="preserve">d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α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diciones para caso de rodadura pura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30" name="13 Conector"/>
          <p:cNvSpPr/>
          <p:nvPr/>
        </p:nvSpPr>
        <p:spPr>
          <a:xfrm>
            <a:off x="3071880" y="2143080"/>
            <a:ext cx="142920" cy="14292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14 CuadroTexto"/>
          <p:cNvSpPr/>
          <p:nvPr/>
        </p:nvSpPr>
        <p:spPr>
          <a:xfrm>
            <a:off x="3217680" y="22147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2 Elipse"/>
          <p:cNvSpPr/>
          <p:nvPr/>
        </p:nvSpPr>
        <p:spPr>
          <a:xfrm>
            <a:off x="428760" y="1785960"/>
            <a:ext cx="3286080" cy="335772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5 Y"/>
          <p:cNvSpPr/>
          <p:nvPr/>
        </p:nvSpPr>
        <p:spPr>
          <a:xfrm>
            <a:off x="1928880" y="3286080"/>
            <a:ext cx="214200" cy="21420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11 Conector"/>
          <p:cNvSpPr/>
          <p:nvPr/>
        </p:nvSpPr>
        <p:spPr>
          <a:xfrm>
            <a:off x="785880" y="4500720"/>
            <a:ext cx="142920" cy="142560"/>
          </a:xfrm>
          <a:prstGeom prst="flowChartConnector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12 CuadroTexto"/>
          <p:cNvSpPr/>
          <p:nvPr/>
        </p:nvSpPr>
        <p:spPr>
          <a:xfrm>
            <a:off x="502560" y="442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8 Conector recto"/>
          <p:cNvSpPr/>
          <p:nvPr/>
        </p:nvSpPr>
        <p:spPr>
          <a:xfrm flipH="1">
            <a:off x="2045880" y="3411360"/>
            <a:ext cx="1800" cy="18003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9 Conector recto"/>
          <p:cNvSpPr/>
          <p:nvPr/>
        </p:nvSpPr>
        <p:spPr>
          <a:xfrm flipH="1">
            <a:off x="907560" y="3402000"/>
            <a:ext cx="1135080" cy="122076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10 CuadroTexto"/>
          <p:cNvSpPr/>
          <p:nvPr/>
        </p:nvSpPr>
        <p:spPr>
          <a:xfrm>
            <a:off x="1721160" y="363060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11 Arco"/>
          <p:cNvSpPr/>
          <p:nvPr/>
        </p:nvSpPr>
        <p:spPr>
          <a:xfrm rot="17336400">
            <a:off x="1029960" y="1541160"/>
            <a:ext cx="1357200" cy="13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12 CuadroTexto"/>
          <p:cNvSpPr/>
          <p:nvPr/>
        </p:nvSpPr>
        <p:spPr>
          <a:xfrm>
            <a:off x="1860840" y="121428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1" name="13 Conector recto de flecha"/>
          <p:cNvCxnSpPr/>
          <p:nvPr/>
        </p:nvCxnSpPr>
        <p:spPr>
          <a:xfrm flipH="1" flipV="1">
            <a:off x="1356480" y="535752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2" name="12 CuadroTexto"/>
          <p:cNvSpPr/>
          <p:nvPr/>
        </p:nvSpPr>
        <p:spPr>
          <a:xfrm>
            <a:off x="2295720" y="51436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erza de ro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12 CuadroTexto"/>
          <p:cNvSpPr/>
          <p:nvPr/>
        </p:nvSpPr>
        <p:spPr>
          <a:xfrm>
            <a:off x="1222920" y="2357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Arco S=R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12 CuadroTexto"/>
          <p:cNvSpPr/>
          <p:nvPr/>
        </p:nvSpPr>
        <p:spPr>
          <a:xfrm>
            <a:off x="114588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17 Forma libre"/>
          <p:cNvSpPr/>
          <p:nvPr/>
        </p:nvSpPr>
        <p:spPr>
          <a:xfrm>
            <a:off x="906480" y="4633920"/>
            <a:ext cx="1179360" cy="519120"/>
          </a:xfrm>
          <a:prstGeom prst="pie">
            <a:avLst/>
          </a:pr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4 Conector recto"/>
          <p:cNvSpPr/>
          <p:nvPr/>
        </p:nvSpPr>
        <p:spPr>
          <a:xfrm>
            <a:off x="357120" y="5143680"/>
            <a:ext cx="364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48" name="22 CuadroTexto"/>
          <p:cNvSpPr/>
          <p:nvPr/>
        </p:nvSpPr>
        <p:spPr>
          <a:xfrm>
            <a:off x="4114440" y="1071720"/>
            <a:ext cx="50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ergía  cinética del cilind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4"/>
              <p:cNvSpPr txBox="1"/>
              <p:nvPr/>
            </p:nvSpPr>
            <p:spPr>
              <a:xfrm>
                <a:off x="4786200" y="1643040"/>
                <a:ext cx="3929040" cy="480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0" name="5 Rectángulo"/>
          <p:cNvSpPr/>
          <p:nvPr/>
        </p:nvSpPr>
        <p:spPr>
          <a:xfrm>
            <a:off x="4286160" y="5500800"/>
            <a:ext cx="4429080" cy="1143000"/>
          </a:xfrm>
          <a:prstGeom prst="rect">
            <a:avLst/>
          </a:prstGeom>
          <a:solidFill>
            <a:srgbClr val="00b8ff">
              <a:alpha val="16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1 Triángulo rectángulo"/>
          <p:cNvSpPr/>
          <p:nvPr/>
        </p:nvSpPr>
        <p:spPr>
          <a:xfrm>
            <a:off x="0" y="2643120"/>
            <a:ext cx="3786120" cy="157176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2 Elipse"/>
          <p:cNvSpPr/>
          <p:nvPr/>
        </p:nvSpPr>
        <p:spPr>
          <a:xfrm>
            <a:off x="571680" y="1857240"/>
            <a:ext cx="1143000" cy="121464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3" name="5 Conector recto de flecha"/>
          <p:cNvCxnSpPr/>
          <p:nvPr/>
        </p:nvCxnSpPr>
        <p:spPr>
          <a:xfrm flipH="1">
            <a:off x="1141200" y="2500200"/>
            <a:ext cx="216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4" name="7 Conector recto de flecha"/>
          <p:cNvCxnSpPr/>
          <p:nvPr/>
        </p:nvCxnSpPr>
        <p:spPr>
          <a:xfrm flipV="1">
            <a:off x="927720" y="2714040"/>
            <a:ext cx="143640" cy="286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5" name="11 Conector recto de flecha"/>
          <p:cNvCxnSpPr/>
          <p:nvPr/>
        </p:nvCxnSpPr>
        <p:spPr>
          <a:xfrm flipH="1" flipV="1">
            <a:off x="285840" y="2785680"/>
            <a:ext cx="643320" cy="286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56" name="14 Conector recto"/>
          <p:cNvSpPr/>
          <p:nvPr/>
        </p:nvSpPr>
        <p:spPr>
          <a:xfrm>
            <a:off x="1143000" y="2500200"/>
            <a:ext cx="2643120" cy="114300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12 CuadroTexto"/>
          <p:cNvSpPr/>
          <p:nvPr/>
        </p:nvSpPr>
        <p:spPr>
          <a:xfrm>
            <a:off x="2432160" y="2643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2 Elipse"/>
          <p:cNvSpPr/>
          <p:nvPr/>
        </p:nvSpPr>
        <p:spPr>
          <a:xfrm>
            <a:off x="3286080" y="3000240"/>
            <a:ext cx="1143000" cy="1214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17 CuadroTexto"/>
          <p:cNvSpPr/>
          <p:nvPr/>
        </p:nvSpPr>
        <p:spPr>
          <a:xfrm>
            <a:off x="2646360" y="378612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19 Conector recto"/>
          <p:cNvSpPr/>
          <p:nvPr/>
        </p:nvSpPr>
        <p:spPr>
          <a:xfrm flipH="1">
            <a:off x="999720" y="3071880"/>
            <a:ext cx="18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20 CuadroTexto"/>
          <p:cNvSpPr/>
          <p:nvPr/>
        </p:nvSpPr>
        <p:spPr>
          <a:xfrm>
            <a:off x="57384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1 Título"/>
          <p:cNvSpPr/>
          <p:nvPr/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servación de la energía para caso de rodadura pura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22 CuadroTexto"/>
          <p:cNvSpPr/>
          <p:nvPr/>
        </p:nvSpPr>
        <p:spPr>
          <a:xfrm>
            <a:off x="109080" y="2857680"/>
            <a:ext cx="7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r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23 CuadroTexto"/>
          <p:cNvSpPr/>
          <p:nvPr/>
        </p:nvSpPr>
        <p:spPr>
          <a:xfrm>
            <a:off x="6469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24 CuadroTexto"/>
          <p:cNvSpPr/>
          <p:nvPr/>
        </p:nvSpPr>
        <p:spPr>
          <a:xfrm>
            <a:off x="4643280" y="1571760"/>
            <a:ext cx="450072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Se conserva la energía mecánica para el caso de rodadura pur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ejerce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roc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o ejerce trabajo ya que el punto de contacto siempre está en reposos instantán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mecánica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si se conser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1 Triángulo rectángulo"/>
          <p:cNvSpPr/>
          <p:nvPr/>
        </p:nvSpPr>
        <p:spPr>
          <a:xfrm>
            <a:off x="0" y="2714760"/>
            <a:ext cx="4214880" cy="164304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2 Elipse"/>
          <p:cNvSpPr/>
          <p:nvPr/>
        </p:nvSpPr>
        <p:spPr>
          <a:xfrm>
            <a:off x="571680" y="1857240"/>
            <a:ext cx="1143000" cy="1214640"/>
          </a:xfrm>
          <a:prstGeom prst="ellipse">
            <a:avLst/>
          </a:prstGeom>
          <a:solidFill>
            <a:srgbClr val="00b8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8" name="5 Conector recto de flecha"/>
          <p:cNvCxnSpPr/>
          <p:nvPr/>
        </p:nvCxnSpPr>
        <p:spPr>
          <a:xfrm flipH="1">
            <a:off x="1141200" y="2500200"/>
            <a:ext cx="216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9" name="7 Conector recto de flecha"/>
          <p:cNvCxnSpPr/>
          <p:nvPr/>
        </p:nvCxnSpPr>
        <p:spPr>
          <a:xfrm flipV="1">
            <a:off x="927720" y="2714040"/>
            <a:ext cx="143640" cy="286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70" name="11 Conector recto de flecha"/>
          <p:cNvCxnSpPr/>
          <p:nvPr/>
        </p:nvCxnSpPr>
        <p:spPr>
          <a:xfrm flipH="1" flipV="1">
            <a:off x="285840" y="2785680"/>
            <a:ext cx="643320" cy="286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1" name="14 Conector recto"/>
          <p:cNvSpPr/>
          <p:nvPr/>
        </p:nvSpPr>
        <p:spPr>
          <a:xfrm>
            <a:off x="1143000" y="2500200"/>
            <a:ext cx="1928880" cy="85752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12 CuadroTexto"/>
          <p:cNvSpPr/>
          <p:nvPr/>
        </p:nvSpPr>
        <p:spPr>
          <a:xfrm>
            <a:off x="2146680" y="2500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2 Elipse"/>
          <p:cNvSpPr/>
          <p:nvPr/>
        </p:nvSpPr>
        <p:spPr>
          <a:xfrm>
            <a:off x="2500200" y="2643120"/>
            <a:ext cx="1143000" cy="1214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17 CuadroTexto"/>
          <p:cNvSpPr/>
          <p:nvPr/>
        </p:nvSpPr>
        <p:spPr>
          <a:xfrm>
            <a:off x="3075120" y="39290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19 Conector recto"/>
          <p:cNvSpPr/>
          <p:nvPr/>
        </p:nvSpPr>
        <p:spPr>
          <a:xfrm flipH="1">
            <a:off x="999720" y="3000240"/>
            <a:ext cx="1800" cy="1430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20 CuadroTexto"/>
          <p:cNvSpPr/>
          <p:nvPr/>
        </p:nvSpPr>
        <p:spPr>
          <a:xfrm>
            <a:off x="573840" y="3500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1 Título"/>
          <p:cNvSpPr/>
          <p:nvPr/>
        </p:nvSpPr>
        <p:spPr>
          <a:xfrm>
            <a:off x="0" y="0"/>
            <a:ext cx="914400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servación de la energía para caso de rodadura pura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22 CuadroTexto"/>
          <p:cNvSpPr/>
          <p:nvPr/>
        </p:nvSpPr>
        <p:spPr>
          <a:xfrm>
            <a:off x="109080" y="2857680"/>
            <a:ext cx="73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ro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23 CuadroTexto"/>
          <p:cNvSpPr/>
          <p:nvPr/>
        </p:nvSpPr>
        <p:spPr>
          <a:xfrm>
            <a:off x="646920" y="2428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2"/>
              <p:cNvSpPr txBox="1"/>
              <p:nvPr/>
            </p:nvSpPr>
            <p:spPr>
              <a:xfrm>
                <a:off x="3143160" y="1643040"/>
                <a:ext cx="6000840" cy="422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icia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ravitacion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xse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n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ωR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ina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xse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xsen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M</m:t>
                                        </m:r>
                                      </m:sub>
                                    </m:sSub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gxsen</m:t>
                                </m:r>
                                <m:r>
                                  <m:t xml:space="preserve">θ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1" name="5 Rectángulo"/>
          <p:cNvSpPr/>
          <p:nvPr/>
        </p:nvSpPr>
        <p:spPr>
          <a:xfrm>
            <a:off x="2786040" y="4429080"/>
            <a:ext cx="6215040" cy="1571760"/>
          </a:xfrm>
          <a:prstGeom prst="rect">
            <a:avLst/>
          </a:prstGeom>
          <a:solidFill>
            <a:srgbClr val="00b8ff">
              <a:alpha val="16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momentos de inercia de sistemas conocidos"/>
          <p:cNvPicPr/>
          <p:nvPr/>
        </p:nvPicPr>
        <p:blipFill>
          <a:blip r:embed="rId1"/>
          <a:stretch/>
        </p:blipFill>
        <p:spPr>
          <a:xfrm>
            <a:off x="1403280" y="1341360"/>
            <a:ext cx="7128000" cy="5091120"/>
          </a:xfrm>
          <a:prstGeom prst="rect">
            <a:avLst/>
          </a:prstGeom>
          <a:ln w="0">
            <a:noFill/>
          </a:ln>
        </p:spPr>
      </p:pic>
      <p:sp>
        <p:nvSpPr>
          <p:cNvPr id="483" name="1 Título"/>
          <p:cNvSpPr/>
          <p:nvPr/>
        </p:nvSpPr>
        <p:spPr>
          <a:xfrm>
            <a:off x="108000" y="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mentos de inercia de sistemas conoc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1547640" y="1081080"/>
            <a:ext cx="2016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lindro sólido o disco, ejes de simet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3419640" y="1347840"/>
            <a:ext cx="201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illo a través de su eje de simet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5364000" y="1341360"/>
            <a:ext cx="100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fera sól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6948360" y="981000"/>
            <a:ext cx="2016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rilla alrededor de su centro de simet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1476360" y="5877000"/>
            <a:ext cx="201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lindro sólido, diámetro cent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9"/>
          <p:cNvSpPr/>
          <p:nvPr/>
        </p:nvSpPr>
        <p:spPr>
          <a:xfrm>
            <a:off x="3419640" y="5805360"/>
            <a:ext cx="165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illo a través del diáme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5292720" y="5877000"/>
            <a:ext cx="1655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squete esférico hue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6948360" y="5805360"/>
            <a:ext cx="165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arilla a través de un extr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jercicio de cálcul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93" name="1 Triángulo rectángulo"/>
          <p:cNvSpPr/>
          <p:nvPr/>
        </p:nvSpPr>
        <p:spPr>
          <a:xfrm>
            <a:off x="0" y="2714760"/>
            <a:ext cx="4214880" cy="1643040"/>
          </a:xfrm>
          <a:prstGeom prst="rtTriangl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3 Elipse"/>
          <p:cNvSpPr/>
          <p:nvPr/>
        </p:nvSpPr>
        <p:spPr>
          <a:xfrm rot="1503000">
            <a:off x="213840" y="1785960"/>
            <a:ext cx="1143000" cy="1214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4 Elipse" descr=""/>
          <p:cNvPicPr/>
          <p:nvPr/>
        </p:nvPicPr>
        <p:blipFill>
          <a:blip r:embed="rId1"/>
          <a:stretch/>
        </p:blipFill>
        <p:spPr>
          <a:xfrm>
            <a:off x="1523880" y="1974960"/>
            <a:ext cx="1200240" cy="1695240"/>
          </a:xfrm>
          <a:prstGeom prst="rect">
            <a:avLst/>
          </a:prstGeom>
          <a:ln w="0">
            <a:noFill/>
          </a:ln>
        </p:spPr>
      </p:pic>
      <p:pic>
        <p:nvPicPr>
          <p:cNvPr id="496" name="6 Elipse" descr=""/>
          <p:cNvPicPr/>
          <p:nvPr/>
        </p:nvPicPr>
        <p:blipFill>
          <a:blip r:embed="rId2"/>
          <a:stretch/>
        </p:blipFill>
        <p:spPr>
          <a:xfrm>
            <a:off x="2865600" y="2730600"/>
            <a:ext cx="2011320" cy="1573200"/>
          </a:xfrm>
          <a:prstGeom prst="rect">
            <a:avLst/>
          </a:prstGeom>
          <a:ln w="0">
            <a:noFill/>
          </a:ln>
        </p:spPr>
      </p:pic>
      <p:sp>
        <p:nvSpPr>
          <p:cNvPr id="497" name="7 CuadroTexto"/>
          <p:cNvSpPr/>
          <p:nvPr/>
        </p:nvSpPr>
        <p:spPr>
          <a:xfrm>
            <a:off x="5286240" y="1500120"/>
            <a:ext cx="36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una rampa caen tres cuerpos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TOD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masa M y radio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an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dis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esf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ál es el porcentaje de energía cinética traslacional para cada cuerp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9:10:16Z</dcterms:created>
  <dc:creator>jlisoni</dc:creator>
  <dc:description/>
  <dc:language>en-US</dc:language>
  <cp:lastModifiedBy>jlisoni</cp:lastModifiedBy>
  <dcterms:modified xsi:type="dcterms:W3CDTF">2009-09-09T15:15:41Z</dcterms:modified>
  <cp:revision>357</cp:revision>
  <dc:subject/>
  <dc:title>Diapositiva 1</dc:title>
</cp:coreProperties>
</file>