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094-E0F2-4313-A893-DF452CE3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AD4-9CEE-4E03-B72B-646C965F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305-0914-402B-BA47-63D463C9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1AD2-E1EC-4CA5-B6B4-50B4748F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01C-96CC-486D-8A83-DCADE8FA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37D3-AE84-44DD-8A5D-CA0D83C3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2E2D-52B6-473D-84B8-CB4E4771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850-5D87-42E1-A773-72646BE7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B30-3977-49DD-92B5-A14CBD42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5EC-006D-4615-8B47-E05B7B2C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1A6-9FFE-4919-911B-5EB665F6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A5F-403C-4CFB-813F-EBE82E20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2C0B-7E0B-4A72-8575-EDF78B0113A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rol de Gestión Estratég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án Álvarez 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avera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un barco sin timón, cualquier viento es favor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arco"/>
          <p:cNvPicPr/>
          <p:nvPr/>
        </p:nvPicPr>
        <p:blipFill>
          <a:blip r:embed="rId1"/>
          <a:stretch/>
        </p:blipFill>
        <p:spPr>
          <a:xfrm>
            <a:off x="2666880" y="2743200"/>
            <a:ext cx="3276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mpresas están insertas en un mundo que cada vez más global, de cambios veloces y enfrentando una competencia cada vez más agres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ste contexto, la empresa debe trazar el rumbo que marcará su futuro. (“Diseña su futuro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ocumento que recoge este plan se denomina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lan Estratégico es el conjunto de análisis, decisiones y acciones que una organización lleva a cabo para crear y mantener ventajas competitivas sustentables a lo largo d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457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Fases de la gestión empresarial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Visión Trad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rganización y asignación de recursos (dot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2971800" y="3809880"/>
            <a:ext cx="5257800" cy="762120"/>
          </a:xfrm>
          <a:prstGeom prst="wedgeRectCallout">
            <a:avLst>
              <a:gd name="adj1" fmla="val -49004"/>
              <a:gd name="adj2" fmla="val -118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514600" y="3809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mparar los resultados obtenidos </a:t>
            </a:r>
            <a:br>
              <a:rPr sz="2000"/>
            </a:b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n los objetivos plant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ses de la gestión empresarial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ón de la Dirección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ón, Misión y Filosofía y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croentorno, Industria, Interno (FO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er objetivos y definir estrateg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, cultura, actividades, Control de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l Control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n instrumento de realimentación para el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ogro de los objetivo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tra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s de control: un 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348000" y="2924280"/>
            <a:ext cx="2087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rmos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419640" y="4724280"/>
            <a:ext cx="2016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n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5435640" y="3357720"/>
            <a:ext cx="187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6372360" y="335772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 flipH="1">
            <a:off x="5435640" y="51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1763640" y="3068640"/>
            <a:ext cx="609840" cy="60948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 flipH="1">
            <a:off x="2050920" y="5157720"/>
            <a:ext cx="13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 flipV="1">
            <a:off x="2050920" y="3716280"/>
            <a:ext cx="0" cy="144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2411280" y="33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826920" y="33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95088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5344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e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360360" y="22050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aración de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l con dese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11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 de Control: Esquema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539640" y="1484280"/>
            <a:ext cx="7777440" cy="4464000"/>
            <a:chOff x="539640" y="1484280"/>
            <a:chExt cx="7777440" cy="4464000"/>
          </a:xfrm>
        </p:grpSpPr>
        <p:sp>
          <p:nvSpPr>
            <p:cNvPr id="89" name="AutoShape 4"/>
            <p:cNvSpPr/>
            <p:nvPr/>
          </p:nvSpPr>
          <p:spPr>
            <a:xfrm>
              <a:off x="539640" y="1484280"/>
              <a:ext cx="7777440" cy="446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6373080" y="2424240"/>
              <a:ext cx="1456560" cy="140832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ntidad Control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2483640" y="2424240"/>
              <a:ext cx="1458720" cy="140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Instrumento de 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701640" y="2424240"/>
              <a:ext cx="1457640" cy="1408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valuador: comparación con un estánd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427640" y="2424240"/>
              <a:ext cx="1592280" cy="140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Ejecutor: alineación del 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4427640" y="4302720"/>
              <a:ext cx="1458720" cy="1410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Detector: información sobre lo que ocur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2159280" y="3129480"/>
              <a:ext cx="32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3942360" y="3129480"/>
              <a:ext cx="48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 flipV="1">
              <a:off x="6019920" y="3037680"/>
              <a:ext cx="381600" cy="45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>
              <a:off x="7020000" y="3832560"/>
              <a:ext cx="1080" cy="117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4"/>
            <p:cNvSpPr/>
            <p:nvPr/>
          </p:nvSpPr>
          <p:spPr>
            <a:xfrm flipH="1">
              <a:off x="5886720" y="5007960"/>
              <a:ext cx="113328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5"/>
            <p:cNvSpPr/>
            <p:nvPr/>
          </p:nvSpPr>
          <p:spPr>
            <a:xfrm flipH="1">
              <a:off x="3132000" y="5007960"/>
              <a:ext cx="129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6"/>
            <p:cNvSpPr/>
            <p:nvPr/>
          </p:nvSpPr>
          <p:spPr>
            <a:xfrm flipV="1">
              <a:off x="3132000" y="3832560"/>
              <a:ext cx="0" cy="117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control de gestión es el </a:t>
            </a:r>
            <a:r>
              <a:rPr b="0" lang="es-MX" sz="2000" spc="-1" strike="noStrike">
                <a:solidFill>
                  <a:srgbClr val="262673"/>
                </a:solidFill>
                <a:latin typeface="Arial"/>
              </a:rPr>
              <a:t>proceso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r el cuál los directivos de todos los niveles aseguran de que las personas a las que supervisan implantan sus estrategias formul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control utilizado por los directivos contiene los mismos elementos que los sistemas de control más si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detectore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n de lo que ocurre en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valuadore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aran esta información con el estado des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jecutores</a:t>
            </a:r>
            <a:r>
              <a:rPr b="0" lang="es-MX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man acciones correctoras una vez que perciben diferencias significativas entre el estado actual y el des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stemas de comunica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informan a los directivos sobre lo que está ocurriendo y de su comparación con el estado des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8580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n embargo existen diferencias entre el proces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trol de gestión y el proceso más simple descr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estándar no esta predeterminado, es plan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control de gestión no es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control de gestión requiere coordinación entre indivi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relación entre la percepción de la necesidad de actuar y la decisión sobre las medidas a tomar para obtener el resultado deseado puede no ser c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a gran parte del control de gestión es auto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éxito empresarial, exige desarrollar </a:t>
            </a:r>
            <a:r>
              <a:rPr b="0" lang="es-ES_tradnl" sz="2400" spc="-1" strike="noStrike">
                <a:solidFill>
                  <a:srgbClr val="0070c0"/>
                </a:solidFill>
                <a:latin typeface="Arial"/>
              </a:rPr>
              <a:t>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</a:t>
            </a:r>
            <a:r>
              <a:rPr b="0" lang="es-ES_tradnl" sz="2400" spc="-1" strike="noStrike">
                <a:solidFill>
                  <a:srgbClr val="0070c0"/>
                </a:solidFill>
                <a:latin typeface="Arial"/>
              </a:rPr>
              <a:t>estrategia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debe implementar, ejecutar y monitorear adecuadamente a fin de conseguir los resultados propue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mplementación de un </a:t>
            </a:r>
            <a:r>
              <a:rPr b="0" lang="es-ES_tradnl" sz="2400" spc="-1" strike="noStrike">
                <a:solidFill>
                  <a:srgbClr val="0070c0"/>
                </a:solidFill>
                <a:latin typeface="Arial"/>
              </a:rPr>
              <a:t>Sistema de Control de Gestió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porciona el apoyo necesario para tomar decisiones correctivas a nivel estratégico y operacional, con el fin de alcanzar los objetivos propue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Arial"/>
              </a:rPr>
              <a:t>Sistema de 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a herramienta gerencial y estratégica de información que, apoyada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u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vestig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índ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d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idos en forma sistemática, periódica y objetiva, que permite que la organización sea eficaz, eficiente, efectiva y produc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Un SCG es un instrumento de realimentación, para verificar que estamos cumpliendo lo que nos propus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ara qué contr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Todos hacemos gestión, aunque sea intuitiva, y controlamos el rumbo, aunque no usemos indic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l control de gestión busca sistematizar estos datos par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rdenar el aparente ca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efinir cursos de acción que potencien las fortalezas y neutralicen las de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n control, de nada vale planificar, programar y operar bien, porque nunca sabremos si fuimos efec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20"/>
          <p:cNvPicPr/>
          <p:nvPr/>
        </p:nvPicPr>
        <p:blipFill>
          <a:blip r:embed="rId1"/>
          <a:stretch/>
        </p:blipFill>
        <p:spPr>
          <a:xfrm>
            <a:off x="3924360" y="3933720"/>
            <a:ext cx="3168720" cy="2281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ecesitamos nuevas herrami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413000"/>
            <a:ext cx="8362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la única herramienta que se tiene es un martill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problemas empiezan a parecerse un clav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-Mas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34"/>
          <p:cNvPicPr/>
          <p:nvPr/>
        </p:nvPicPr>
        <p:blipFill>
          <a:blip r:embed="rId2"/>
          <a:stretch/>
        </p:blipFill>
        <p:spPr>
          <a:xfrm>
            <a:off x="1116000" y="4076640"/>
            <a:ext cx="21607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finalizar el curso el particip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oce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eptos fundamentales sobre Sistemas de Control de Ges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á capaz de analizar, diseñar, implementar y mejorar Sistemas de Control de Gestión orientados a la implementación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licará los enfoques e instrumentos específicos del Control de Gestión tales como, análisis de desviaciones, presupuestos flexibles, Balanced Scorec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ará con un marco conceptual actualizado para la toma de dec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ceptos y definiciones fund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erramientas contables de Planificación 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basada en procesos y gestión estratégica de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Corporativa y de Unidades Estratégicas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ción del desempeño corporativo y de las unidades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stema de control de Gestión integral, el Balanced Score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28600" y="1523880"/>
            <a:ext cx="86425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 hombre caminaba por la calle de un pequeño puebl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uando de pronto se da cuenta que encima de el h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 globo aerostático flotand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e ese globo cuelga una canasta, y en la canasta hay un hombre, que le hace señas desesperado. Con curiosidad, se aproxima lo mas que puede y escucha con atención al piloto del globo, quien le gri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isculpe ¿podría ayudarme?. Le prometí a un amigo que me encontraría con el a las 2 p.m., pero ya son las 2:30 p.m., y no se donde esto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transeúnte, con mucha cortesía le responde: claro que puedo ayudarle, usted se encuentra flotando a unos 20 metros encima de la Calle Principal. Esta a 40 grados de latitud Norte y 58 grados de longitud Oe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4000" y="495360"/>
            <a:ext cx="82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roducción: el ingeniero y el ge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images"/>
          <p:cNvPicPr/>
          <p:nvPr/>
        </p:nvPicPr>
        <p:blipFill>
          <a:blip r:embed="rId1"/>
          <a:stretch/>
        </p:blipFill>
        <p:spPr>
          <a:xfrm>
            <a:off x="7093080" y="260280"/>
            <a:ext cx="14922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80880" y="685800"/>
            <a:ext cx="8229600" cy="55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aeronauta escucha con atención, y después le pregunta con una sonri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¿Amigo, es usted ingenie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 señor, pero ¿como lo sup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orque todo lo que usted me ha dicho es técnicamente correcto, pero esa información no me sirve de nada, y sigo perd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Ingeniero se queda callado a su vez, y al final le pregunta al del glob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¿Y usted, es por casualidad, ger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, soy gerente de una empresa. ¿Como lo ha adivin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¡Ah! muy fácil: Mire, usted no sabe ni donde esta, ni para donde 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Hizo una promesa que no sabe como cumplir, y espera que otro 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resuelva el problema. Esta tan perdido como antes de preguntarme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además, por algún extraño motivo, resulta que ahora la culpa es m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lanificación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Necesitan un plan las empre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videncia empírica muestra que existe una alta correlación entre el grado de formalización de la planificación, y los buenos resultados ob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ción formal vs. Planificación em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 se fijan objetivos, no se corre el riesgo de no cumplirlos, pero tampoco se alcanza el éx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orno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Que ha pasado en las empre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90, reingeniería, reestructuracion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ev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apso de punto 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 de siglo XXI, Crisis de confianza en instituciones, Enron, World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ntorno Empresa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empresas de manufactura con producto tangible 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presas de servicio – reputación de l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estrategia basada en maximizar valor de accionista a estrategia basada en grupos de interés (stakehol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8T17:43:51Z</dcterms:created>
  <dc:creator>John M. Marshall</dc:creator>
  <dc:description/>
  <dc:language>en-US</dc:language>
  <cp:lastModifiedBy>ialvarez</cp:lastModifiedBy>
  <dcterms:modified xsi:type="dcterms:W3CDTF">2009-08-07T14:13:40Z</dcterms:modified>
  <cp:revision>35</cp:revision>
  <dc:subject/>
  <dc:title>No Slide Title</dc:title>
</cp:coreProperties>
</file>