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74C90-DF66-45BC-BB38-C40DED676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91A83-D16F-4F12-9F45-EE42473ED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B4590-9717-48B6-879F-074F9C619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31B90-293A-4898-9867-09B518416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4C843-24A2-4579-B329-ED50B9344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34E29-727D-4510-912E-A31FBA313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65D94-315E-4290-92D5-890766F48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131E3-BD94-453A-B1DC-20BB114D3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7B731-F993-4306-B356-2FB015CE7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5041E-815B-48ED-9D60-FBDABD553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CB7E1-9403-4734-BF55-B6247678A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3DE52-E869-4916-BF93-723A4107E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10A03-3F86-4868-9707-D81B3FF7D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65B32-D963-4720-9EA2-F1FC35F74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BB6DA-3E2A-41EE-AB9B-03BF08140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9EAFA-C6D1-4694-BE37-1DEC98620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5FB1A-792B-472F-A263-588142A5E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6F4C-7F95-4F0A-B7C9-23DDF9B56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9D5C4-3817-4B7C-8622-4D9E13B66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A3503-0D7A-45F0-8789-45A5582A2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CF4F3-08DE-437C-8F1E-399B62078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9EACC-4228-4951-BD13-5E453D4F2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C8ABB-96F0-45A9-8646-3C260425E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CF60C-61F6-45A5-9ED9-5BBEB7810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285B-CB6B-4334-9F66-864726FEDC3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AD78-BA29-4333-B6AB-EAA65D8682A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Rectangle 5"/>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Rectangle 5"/>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Line 8"/>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9"/>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1"/>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2"/>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4"/>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Text Box 15"/>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Text Box 16"/>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Rectangle 5"/>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Rectangle 7"/>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Text Box 9"/>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Text Box 10"/>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Text Box 11"/>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Rectangle 5"/>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Rectangle 5"/>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Rectangle 5"/>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ontrol de gestión </a:t>
            </a:r>
            <a:br>
              <a:rPr sz="2600"/>
            </a:br>
            <a:r>
              <a:rPr b="1" lang="es-E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Rectangle 5"/>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5" name="PlaceHolder 2"/>
          <p:cNvSpPr>
            <a:spLocks noGrp="1"/>
          </p:cNvSpPr>
          <p:nvPr>
            <p:ph/>
          </p:nvPr>
        </p:nvSpPr>
        <p:spPr>
          <a:xfrm>
            <a:off x="684360" y="1905120"/>
            <a:ext cx="785016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unidad organizativa en la cual, tanto los ingresos como los gastos se miden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n decidir sobre como imputar los ingresos y gast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cuando se recibe un orden de compra, cuando se despacha el producto o cuando se cob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diferentes criterios: imputar sólo gastos variables, gastos generales, impue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7"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asignación, no sólo se debe tener en cuenta consideraciones contables, sino que además, el comportamiento que esto podría traer del ejecutiv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ignar aquellos ingresos y gastos sobre los cuales el directivo puede influir, incluso aunque no pueda controlarlos tot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edición de la rentabilidad</a:t>
            </a:r>
            <a:endParaRPr b="1" lang="en-US" sz="3900" spc="-1" strike="noStrike">
              <a:solidFill>
                <a:srgbClr val="330066"/>
              </a:solidFill>
              <a:latin typeface="Arial"/>
            </a:endParaRPr>
          </a:p>
        </p:txBody>
      </p:sp>
      <p:sp>
        <p:nvSpPr>
          <p:cNvPr id="219"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litativas: la gestión de la dirección, para valorar al direc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ntitativas: resultados económicos, para valorar el desempeño del centro de beneficios como unidad econó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prevalecer la gestión de la dirección en el diseñ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1"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resultado económico de un centro de beneficios se puede valorar mediante cinco diferentes medi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gen de contribución</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directo</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controlable</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antes de impuestos</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n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Rectangle 5"/>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3"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gen de contribución: el margen de contribución refleja la diferencia entre los ingresos y los gastos variables. Gastos fijos fuera de contro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directo: refleja la contribución de un CB a los gastos generales y al beneficio global de la empres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controlable: los gastos de los servicios centrales se pueden dividir en controlables y no controlab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antes de impuest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n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5"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1.0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6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8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Margen de Contribución</a:t>
            </a:r>
            <a:r>
              <a:rPr b="1" lang="es-ES_tradnl" sz="2000" spc="-1" strike="noStrike">
                <a:solidFill>
                  <a:srgbClr val="000000"/>
                </a:solidFill>
                <a:latin typeface="Arial"/>
              </a:rPr>
              <a:t>	</a:t>
            </a:r>
            <a:r>
              <a:rPr b="0" lang="es-ES_tradnl" sz="2000" spc="-1" strike="noStrike">
                <a:solidFill>
                  <a:srgbClr val="000000"/>
                </a:solidFill>
                <a:latin typeface="Arial"/>
              </a:rPr>
              <a:t>                  2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jos incurridos en CB</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9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Directo</a:t>
            </a:r>
            <a:r>
              <a:rPr b="1" lang="es-ES_tradnl" sz="2000" spc="-1" strike="noStrike">
                <a:solidFill>
                  <a:srgbClr val="0000ff"/>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Arial"/>
              </a:rPr>
              <a:t>13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Corporativos Control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Controla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signaciones corporativ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2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s antes de 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4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Neto</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
        <p:nvSpPr>
          <p:cNvPr id="227" name="Rectangle 5"/>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9" name="Rectangle 5"/>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Rectangle 5"/>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Rectangle 5"/>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Rectangle 5"/>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Rectangle 5"/>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Rectangle 5"/>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87480" indent="-29376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Rectangle 6"/>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alvarez</cp:lastModifiedBy>
  <dcterms:modified xsi:type="dcterms:W3CDTF">2009-10-21T11:33:54Z</dcterms:modified>
  <cp:revision>41</cp:revision>
  <dc:subject/>
  <dc:title>El control de la gestión</dc:title>
</cp:coreProperties>
</file>