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33E471A-2105-455B-AED3-E17E41F40FF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F16B37F-3804-4280-A46C-CE434A9A1D7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67C7E7-0211-41B3-9862-6FD838C78F4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BCCB75E-FA2B-4640-8D95-555EE4D4731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A471587-1DD5-4321-8AE2-09C303F67CB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053FC39-2812-40C8-8EE2-8E8B75410E0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A67FA97-F333-47B0-801D-EF70CE71A87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94DC9F4-64F9-402E-B306-3F70F8A70D9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A82C0B4-4EA0-4404-97BC-E5F4C8BC4B6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514B1A8-A9E5-4D80-AF4F-4E604F0FD82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D71C8B4-68E9-408D-8550-5BB5C169056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2E3D1D4-3CAC-465B-B1C0-F6F030F47A7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25DDC0-7D46-42AF-B31F-5DA5E31F02B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AE28-DC0B-4EA9-90E7-23FAB5D1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6D57-62CA-4DCD-B3F8-D60CCB9E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0F99-6373-4B55-946F-C42159C7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EDDB-4CC6-4961-80C6-8B169C2D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DF7-7106-43E2-9452-A55745FA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4AB5-5584-4211-BE98-8EEC71FE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6E62-DDFB-4AC5-9CD8-28EBCF23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852-7EC6-476E-9F04-3FAD6A72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8805-6D0A-425C-986A-72187EBB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1DE-9F88-43AA-AF73-93DA16A1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449-F367-4A5A-A271-6411079C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74FB-B308-4C76-991F-96501A79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9B54-BB0F-42F5-82DF-C509E89AF9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000240" y="5500800"/>
            <a:ext cx="5356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níbal Morales Riv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ernando Pab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64304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6600"/>
                </a:solidFill>
                <a:latin typeface="Arial"/>
              </a:rPr>
              <a:t>Sistemas de Moneda Complement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4643280" y="857160"/>
            <a:ext cx="3457800" cy="157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4929120" y="3357720"/>
            <a:ext cx="3657600" cy="1596960"/>
          </a:xfrm>
          <a:prstGeom prst="rect">
            <a:avLst/>
          </a:prstGeom>
          <a:ln w="0">
            <a:noFill/>
          </a:ln>
        </p:spPr>
      </p:pic>
      <p:sp>
        <p:nvSpPr>
          <p:cNvPr id="108" name="8 Rectángulo"/>
          <p:cNvSpPr/>
          <p:nvPr/>
        </p:nvSpPr>
        <p:spPr>
          <a:xfrm>
            <a:off x="2428920" y="15717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c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9 Rectángulo"/>
          <p:cNvSpPr/>
          <p:nvPr/>
        </p:nvSpPr>
        <p:spPr>
          <a:xfrm>
            <a:off x="2428920" y="392904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nco del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5000760" y="500040"/>
            <a:ext cx="2143080" cy="2571840"/>
          </a:xfrm>
          <a:prstGeom prst="rect">
            <a:avLst/>
          </a:prstGeom>
          <a:ln w="0">
            <a:noFill/>
          </a:ln>
        </p:spPr>
      </p:pic>
      <p:sp>
        <p:nvSpPr>
          <p:cNvPr id="115" name="6 Rectángulo"/>
          <p:cNvSpPr/>
          <p:nvPr/>
        </p:nvSpPr>
        <p:spPr>
          <a:xfrm>
            <a:off x="2428920" y="15717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des de True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Pregunt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7 Imagen" descr="preguntas.jpg"/>
          <p:cNvPicPr/>
          <p:nvPr/>
        </p:nvPicPr>
        <p:blipFill>
          <a:blip r:embed="rId1"/>
          <a:stretch/>
        </p:blipFill>
        <p:spPr>
          <a:xfrm>
            <a:off x="5715000" y="1785960"/>
            <a:ext cx="317988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Título"/>
          <p:cNvSpPr/>
          <p:nvPr/>
        </p:nvSpPr>
        <p:spPr>
          <a:xfrm>
            <a:off x="785880" y="57168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Agend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3 Rectángulo"/>
          <p:cNvSpPr/>
          <p:nvPr/>
        </p:nvSpPr>
        <p:spPr>
          <a:xfrm>
            <a:off x="1000080" y="1285920"/>
            <a:ext cx="7072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Que es el dine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gunas 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ím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s Monedas Complemen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gunos Ej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 Imagen" descr="world-in-hands.jpg"/>
          <p:cNvPicPr/>
          <p:nvPr/>
        </p:nvPicPr>
        <p:blipFill>
          <a:blip r:embed="rId2"/>
          <a:stretch/>
        </p:blipFill>
        <p:spPr>
          <a:xfrm>
            <a:off x="5643720" y="3459240"/>
            <a:ext cx="3500280" cy="33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c000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¿Qué es el dinero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2342880" y="3362760"/>
            <a:ext cx="6189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ero es un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erdo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los integrantes de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dad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el fin de utilizar algo como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o de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3 Rectángulo"/>
          <p:cNvSpPr/>
          <p:nvPr/>
        </p:nvSpPr>
        <p:spPr>
          <a:xfrm>
            <a:off x="1857240" y="1717560"/>
            <a:ext cx="7072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inero Normal o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ara qué si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Característic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 Rectángulo"/>
          <p:cNvSpPr/>
          <p:nvPr/>
        </p:nvSpPr>
        <p:spPr>
          <a:xfrm>
            <a:off x="1857240" y="1717560"/>
            <a:ext cx="7072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der de compra Gener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e crea por deuda banc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Moneda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n nacionales o de agrupaciones de paí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Benefici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3 Rectángulo"/>
          <p:cNvSpPr/>
          <p:nvPr/>
        </p:nvSpPr>
        <p:spPr>
          <a:xfrm>
            <a:off x="1857240" y="1717560"/>
            <a:ext cx="7072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etencia Global y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ciencia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timula proyectos a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timula crecimient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Lími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 Rectángulo"/>
          <p:cNvSpPr/>
          <p:nvPr/>
        </p:nvSpPr>
        <p:spPr>
          <a:xfrm>
            <a:off x="1857240" y="1717560"/>
            <a:ext cx="707256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eten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cien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rgo plazo? Sustentabilid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sarrollo capital so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centración de la Riquez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Monedas Complementari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6 Rectángulo"/>
          <p:cNvSpPr/>
          <p:nvPr/>
        </p:nvSpPr>
        <p:spPr>
          <a:xfrm>
            <a:off x="2143080" y="307188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ue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9 Rectángulo"/>
          <p:cNvSpPr/>
          <p:nvPr/>
        </p:nvSpPr>
        <p:spPr>
          <a:xfrm>
            <a:off x="6786720" y="31431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on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0 Rectángulo"/>
          <p:cNvSpPr/>
          <p:nvPr/>
        </p:nvSpPr>
        <p:spPr>
          <a:xfrm>
            <a:off x="3000240" y="414324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iebre part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1 Rectángulo"/>
          <p:cNvSpPr/>
          <p:nvPr/>
        </p:nvSpPr>
        <p:spPr>
          <a:xfrm>
            <a:off x="5286240" y="4214880"/>
            <a:ext cx="20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unción disti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2 Rectángulo"/>
          <p:cNvSpPr/>
          <p:nvPr/>
        </p:nvSpPr>
        <p:spPr>
          <a:xfrm>
            <a:off x="2000160" y="5357880"/>
            <a:ext cx="1571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nero no pu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13 Conector recto de flecha"/>
          <p:cNvCxnSpPr>
            <a:stCxn id="82" idx="3"/>
            <a:endCxn id="84" idx="1"/>
          </p:cNvCxnSpPr>
          <p:nvPr/>
        </p:nvCxnSpPr>
        <p:spPr>
          <a:xfrm flipV="1">
            <a:off x="3571920" y="5250600"/>
            <a:ext cx="714960" cy="42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5" name="14 Conector recto de flecha"/>
          <p:cNvCxnSpPr>
            <a:stCxn id="82" idx="3"/>
            <a:endCxn id="86" idx="1"/>
          </p:cNvCxnSpPr>
          <p:nvPr/>
        </p:nvCxnSpPr>
        <p:spPr>
          <a:xfrm>
            <a:off x="3571560" y="5679720"/>
            <a:ext cx="1429560" cy="214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4" name="15 Rectángulo"/>
          <p:cNvSpPr/>
          <p:nvPr/>
        </p:nvSpPr>
        <p:spPr>
          <a:xfrm>
            <a:off x="4286160" y="492912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cas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6 Rectángulo"/>
          <p:cNvSpPr/>
          <p:nvPr/>
        </p:nvSpPr>
        <p:spPr>
          <a:xfrm>
            <a:off x="5000760" y="5572080"/>
            <a:ext cx="1928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de oport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17 Conector recto de flecha"/>
          <p:cNvCxnSpPr>
            <a:stCxn id="82" idx="3"/>
          </p:cNvCxnSpPr>
          <p:nvPr/>
        </p:nvCxnSpPr>
        <p:spPr>
          <a:xfrm>
            <a:off x="3571920" y="5680080"/>
            <a:ext cx="1000800" cy="8928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8" name="18 Rectángulo"/>
          <p:cNvSpPr/>
          <p:nvPr/>
        </p:nvSpPr>
        <p:spPr>
          <a:xfrm>
            <a:off x="4214880" y="28576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24 Rectángulo"/>
          <p:cNvSpPr/>
          <p:nvPr/>
        </p:nvSpPr>
        <p:spPr>
          <a:xfrm>
            <a:off x="4714920" y="6429240"/>
            <a:ext cx="107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5572080" y="428760"/>
            <a:ext cx="2543400" cy="254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5143680" y="3571920"/>
            <a:ext cx="3381120" cy="2705040"/>
          </a:xfrm>
          <a:prstGeom prst="rect">
            <a:avLst/>
          </a:prstGeom>
          <a:ln w="0">
            <a:noFill/>
          </a:ln>
        </p:spPr>
      </p:pic>
      <p:sp>
        <p:nvSpPr>
          <p:cNvPr id="94" name="22 Rectángulo"/>
          <p:cNvSpPr/>
          <p:nvPr/>
        </p:nvSpPr>
        <p:spPr>
          <a:xfrm>
            <a:off x="2428920" y="15717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llas en Aerolí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3 Rectángulo"/>
          <p:cNvSpPr/>
          <p:nvPr/>
        </p:nvSpPr>
        <p:spPr>
          <a:xfrm>
            <a:off x="2500200" y="435780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heque de Sodex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4857840" y="3500280"/>
            <a:ext cx="2876400" cy="2876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4714920" y="928800"/>
            <a:ext cx="3840120" cy="2350800"/>
          </a:xfrm>
          <a:prstGeom prst="rect">
            <a:avLst/>
          </a:prstGeom>
          <a:ln w="0">
            <a:noFill/>
          </a:ln>
        </p:spPr>
      </p:pic>
      <p:sp>
        <p:nvSpPr>
          <p:cNvPr id="101" name="8 Rectángulo"/>
          <p:cNvSpPr/>
          <p:nvPr/>
        </p:nvSpPr>
        <p:spPr>
          <a:xfrm>
            <a:off x="2428920" y="15717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nto trans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9 Rectángulo"/>
          <p:cNvSpPr/>
          <p:nvPr/>
        </p:nvSpPr>
        <p:spPr>
          <a:xfrm>
            <a:off x="2428920" y="464328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5:48:32Z</dcterms:created>
  <dc:creator>alumnodii</dc:creator>
  <dc:description/>
  <dc:language>en-US</dc:language>
  <cp:lastModifiedBy>Fernando Pablos</cp:lastModifiedBy>
  <dcterms:modified xsi:type="dcterms:W3CDTF">2009-10-21T12:24:30Z</dcterms:modified>
  <cp:revision>57</cp:revision>
  <dc:subject/>
  <dc:title>Diapositiva 1</dc:title>
</cp:coreProperties>
</file>