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EDE7-6B13-4F9B-8999-6AC2C746354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088C-D130-4A79-B0A1-A4D83F9B246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7B51-2C2B-4A1D-B7A5-2CCBAA28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783A-0EEC-42B3-88FA-3219CED1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5D46-43EF-480A-87FC-E6990149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2B77-E667-410B-BCE5-773AC525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70DC-B315-4F08-8EE2-7FDD4127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C9E6-DB45-429D-9D82-84F14A07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1292-40FC-4DB0-9E8E-3D0C23BF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AC00-76A5-43FD-97B9-C3275B02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7AC8-EF44-48D2-B963-633A87A9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F277-6C44-4134-93B7-4431087E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7C5C-BE31-45E2-9A92-DFCC1EE2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B2CE-BE18-4975-BFB2-B711BB4C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8E2E-CF46-4D21-B789-DB56EB44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09E8-99CC-473C-941A-5E66FA3E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194B-7E84-4D86-85A1-B0D797C3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4888-760D-4607-B006-06B6A1D6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B1E2-916C-4528-A36E-8CDDD336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49026-D5A6-4646-9ED1-E58AE8A6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5DADB-29A5-41C1-937E-21B0FEE9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C8E13-3FB0-4321-86A9-0B643EE8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DF22E-9758-4E72-BF0E-BAC987FB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08EE9-C7B1-43F2-9A21-71AEFB29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5BC9-3052-4657-9698-29A39016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326B4-31E8-4E7E-B818-5D708FCB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601A8-EDA5-4CBE-9466-97033E3F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3630C-5428-4FD2-AD00-9C69CDA6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0DC38-BF8E-4F45-9480-A71BD58D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144BE-BC67-436A-8D7B-616915E5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4DA34-CA0C-483F-BDCB-F6708857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718E6-D66E-4D99-BC5B-42C4880A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B2951-2D18-4A2C-859F-55C08843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09C0C-869B-4EA8-A4CE-15DDEF52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F0D27-0438-4A05-8E03-F6D18002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3D7D-8C0D-43BA-873D-76D25B7D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27201-1A81-408A-BE3A-043CBCDB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2F9D2-B7C9-432E-8ACE-170C9434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90A9C-2281-4691-85F6-BFA6558B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8AB8D-2C46-4584-8591-61978343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EFC07-1E52-4AB7-B7E9-CFA15347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638FB-CFD5-4B9A-911F-5DE85E0B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7E9A0-AE2E-4917-B1A2-85B414E9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C3396-2039-4A43-9E26-DC308652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94D61-B948-4EBD-946B-23763541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A4851-6F35-4622-A4A3-273F524F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E61E-7735-4E3E-96E0-BF89D6BC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AF11E-9FB0-43DB-A96F-E9EA785E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321B9-FA71-401B-AD5E-3B570D79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6720F-CDD3-4BEF-BFA3-23953706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0A634-E4D7-4B92-A471-A32590DC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BFEEB-52F5-4CBA-86B6-9E495E53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0D314-1012-46C4-BDC2-2CA1DB0C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CFD6D-0B25-4D46-948B-F6748F53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077A3-7F75-4BA4-B739-07D3B064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1B2D4-D8F6-4514-8668-48376BE9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62F44-8AD0-4AF0-BB2D-82031120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0F4F-9A42-4032-AB02-B875DFDF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38C37-5E6F-4FFD-BAF8-68B24DC2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19FAD-BF4A-4B34-ACB0-638EA52A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3CEF9-82EF-4DB7-BE22-A2FAFB0D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DF612-7F18-4140-A212-504189AF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0CD4E-25C4-43BC-AD14-FC383A72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83F88-AB26-4358-B08E-B3CFAAD3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6346B-97B9-47C2-9DA2-0DF2CCC4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4E1CA-81FA-41B8-836D-0DF47EA7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2572E-C09B-42E1-8AA0-6DC208F4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98C4D-1407-474D-96FB-3B1E6DEC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0C87-C617-4C57-BF5C-075C5C8E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41B61-6199-4031-BB4E-828E0443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47CC8-A4DF-4BDB-A022-7F5F071F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052AD-80C8-4E84-8031-D3681FBB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FEDED-F073-453C-8F71-BB966EAF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9B4A8-D1BE-4EC9-994D-15081BC8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03CB4-4EF1-4330-AD40-FC52088F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3194C-3AE8-4D2E-9479-24727B29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FCCC4-4A6C-40A7-BFB6-E9FC687C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AC7F2-CE28-46BE-BB37-5CD25E93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C1173-DB3C-4CC8-BD7A-C58ED9F7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2639-704F-4C57-8FFC-7615C1AA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413D3-5432-48D1-BD93-95BC8470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090DE-1C78-46C0-BA06-3B15B721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31A1E-D5D3-48D7-AD33-F333FEE1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F1156-EC19-40EC-B0EB-248A4275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A8E48-DE9C-45E4-88C5-59A072B8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197C-6F45-4756-8488-D12270A8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9D3D-0109-40D1-BD2A-65F3A617C72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9C5A-823E-4E04-B7A9-5AD00E094E6B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5B42-1761-48DB-9B86-C104EFA4EE3D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DDEE-467F-4DE6-B539-6D367C06429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C979-6F87-49B0-A6DF-49E9C8F4B4BE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0085-804B-4957-9391-02BDE3DD85AB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9AAB-0E1D-4B13-B23B-4A70FE8EB87D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572314"/>
                </a:solidFill>
                <a:latin typeface="Calibri"/>
                <a:ea typeface="Arial"/>
              </a:rPr>
              <a:t>Taller I CI43A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ercados Puntua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644480" y="1213920"/>
            <a:ext cx="749952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xisten dos islas en cuyas costas abunda el abalone, un molusco difícil de extraer y procesar, pero que finalmente es un alimento muy apreciado.  En ambas islas se produce y se consume este molusco, y las funciones de oferta y demanda por este en cada una de las islas s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Isla 1</a:t>
            </a:r>
            <a:r>
              <a:rPr b="0" lang="es-MX" sz="16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3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- 90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D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= 500 -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Isla 2</a:t>
            </a:r>
            <a:r>
              <a:rPr b="0" lang="es-MX" sz="16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/2 - 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100 -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Resolver y graficar el equilibrio en ambos mercad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Graficar las curvas de exceso de demanda y exceso de oferta según correspond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Encontrar la ecuación de demanda de transporte y graficar su curv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33480" indent="-4762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f271c"/>
                </a:solidFill>
                <a:latin typeface="Gill Sans MT"/>
              </a:rPr>
              <a:t>¿</a:t>
            </a:r>
            <a:r>
              <a:rPr b="0" lang="es-CL" sz="20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Cuál es la máxima cantidad a transportar si el transporte fuese gratuito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933480" indent="-4762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f271c"/>
                </a:solidFill>
                <a:latin typeface="Gill Sans MT"/>
              </a:rPr>
              <a:t>¿</a:t>
            </a:r>
            <a:r>
              <a:rPr b="0" lang="es-CL" sz="20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Cuál es la máxima tarifa a cobrar para que exista transporte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4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Dibujar la curva de oferta de transporte t=30+Q/8 y encontrar el punto de equilibrio de este mercad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ill Sans MT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5 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Utilizando el resultado de la pregunta 4, indique cuáles serían los precios y las cantidades demandadas y consumidas en las isl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ill Sans MT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6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Analice quienes ganan y quienes pierden en el nuevo escenario.</a:t>
            </a:r>
            <a:r>
              <a:rPr b="0" lang="es-CL" sz="2400" spc="-1" strike="noStrike">
                <a:solidFill>
                  <a:srgbClr val="8dc765"/>
                </a:solidFill>
                <a:latin typeface="Gill Sans MT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 deben entregar los archivos con el siguiente formato: apellido1_apellido2.do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unto: Taller n°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cluir archivo .doc con el desarrollo del taller y el archivo .xls con los cálcul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alumno</cp:lastModifiedBy>
  <dcterms:modified xsi:type="dcterms:W3CDTF">2009-08-05T18:28:02Z</dcterms:modified>
  <cp:revision>15</cp:revision>
  <dc:subject/>
  <dc:title>Taller I CI43A </dc:title>
</cp:coreProperties>
</file>