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F38B-F13E-499E-9949-3E123F4F7E7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24D-8F59-4940-BB87-ACBC640F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6C9-2BA2-4E24-88F9-4674B074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FC9-2C1A-49A3-9653-3E2C6C2A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479-84F3-4A86-A6B4-CD5BA505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951-8E92-4032-8BAB-639B75FE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CCC-F87F-47ED-82E9-36480ACC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754-2CF5-40B1-A09E-DBE8FDFA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2C4-2B04-4903-BBC7-B6A71ECE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1F7-AF86-40BB-8507-5D25A93E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B91-8AB4-4572-9351-A749138E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C63-C611-4B11-9204-8D3E248E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187-346D-4BAE-A618-8BF64E37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9986-57D8-4DDA-936A-3865B730232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rc 7"/>
          <p:cNvSpPr/>
          <p:nvPr/>
        </p:nvSpPr>
        <p:spPr>
          <a:xfrm rot="60000">
            <a:off x="16380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rc 14"/>
          <p:cNvSpPr/>
          <p:nvPr/>
        </p:nvSpPr>
        <p:spPr>
          <a:xfrm rot="60000">
            <a:off x="17906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7" name="Line 16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9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2133720" y="2895480"/>
              <a:ext cx="4267080" cy="2133720"/>
            </a:xfrm>
            <a:prstGeom prst="pie">
              <a:avLst/>
            </a:pr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22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3"/>
          <p:cNvGrpSpPr/>
          <p:nvPr/>
        </p:nvGrpSpPr>
        <p:grpSpPr>
          <a:xfrm>
            <a:off x="1503360" y="3306240"/>
            <a:ext cx="6339600" cy="2687040"/>
            <a:chOff x="1503360" y="3306240"/>
            <a:chExt cx="6339600" cy="2687040"/>
          </a:xfrm>
        </p:grpSpPr>
        <p:sp>
          <p:nvSpPr>
            <p:cNvPr id="165" name="Arc 24"/>
            <p:cNvSpPr/>
            <p:nvPr/>
          </p:nvSpPr>
          <p:spPr>
            <a:xfrm rot="60000">
              <a:off x="1523880" y="3352320"/>
              <a:ext cx="5329440" cy="2408400"/>
            </a:xfrm>
            <a:prstGeom prst="pie">
              <a:avLst/>
            </a:pr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26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2"/>
          <p:cNvSpPr/>
          <p:nvPr/>
        </p:nvSpPr>
        <p:spPr>
          <a:xfrm>
            <a:off x="0" y="2514600"/>
            <a:ext cx="4327560" cy="244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3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6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17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 Box 5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26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27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8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29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1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3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35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036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037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038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039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40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Text Box 5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Text Box 8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5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6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3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024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27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28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29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0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031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32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33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3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3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03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3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4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4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4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4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4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4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046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047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Object 3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4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Object 2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Object 2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0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4" name="AutoShape 4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7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7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8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7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8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9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0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1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5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9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23" name="Freeform 4"/>
            <p:cNvSpPr/>
            <p:nvPr/>
          </p:nvSpPr>
          <p:spPr>
            <a:xfrm>
              <a:off x="1763640" y="2879640"/>
              <a:ext cx="5329440" cy="3240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5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26" name="Freeform 7"/>
            <p:cNvSpPr/>
            <p:nvPr/>
          </p:nvSpPr>
          <p:spPr>
            <a:xfrm>
              <a:off x="1692360" y="2879640"/>
              <a:ext cx="5510160" cy="2635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Object 9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" name="Group 10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31" name="Line 11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Object 13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4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5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7" name="Line 16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8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Object 20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3:42:46Z</dcterms:modified>
  <cp:revision>65</cp:revision>
  <dc:subject/>
  <dc:title>Sin título de diapositiva</dc:title>
</cp:coreProperties>
</file>