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A548-8ED8-41AC-9458-C79304202F2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DEDD-C01F-43FA-A28A-A8887D0A87E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53F-3017-4E08-8560-FC08D82F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C1D-56CE-4816-A067-FF5A01A6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9A4-C213-41E2-B7DC-3B4F79FE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E03-A646-451F-BC2A-64EA30E8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D41D-98DB-413E-B75D-AE5307CA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F128-C4C0-4427-9D84-10C72725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D2AF-A95F-445A-BE88-E577D40A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FC21-5911-4740-9837-E53A87C3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9C67-BD3A-484C-8366-F9981CA6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1486-ECD7-4CB0-A8B5-345290D8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7EC4-2D87-478D-BF8B-AD4EB6FE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B44-6E53-480C-8E6E-79FEED31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54BC-292D-44AD-90F9-E06C6043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3E8C-EFF7-4526-B54F-4B79A758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8ECA-FF8A-4555-BD94-D80DB4DE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E4A9-BC9A-4589-B090-E0A1EB9E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0276-6E3F-4E73-B1C2-1438EB3D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F26F-FE18-4EAF-B8D8-6D2D02CA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4580-5B73-4F5A-A413-54DFAA48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D1AA8-CAD8-48CC-ADF0-E305A407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9FE25-3A9C-4C88-9F16-6B305483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306C8-FC32-4DA1-B38D-3C1BD03A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A19-E48C-4D50-98E5-6F6118FD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399F6-70FE-48E4-8112-16EABCB1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C4E0-AF08-4061-AF46-2ED522C7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8CF89-911E-4298-8719-E81BC860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3A132-8828-4ABD-BC77-E8AEA937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7B990-B54E-4320-9FE9-F482FC91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602F1-D00E-4E1B-A55B-2EFA28CF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2510A-EABA-4D7C-B6BB-8DA1B542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81748-71E3-4AA1-81A8-F8FBE845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9D5F1-6521-4B5C-B8B6-C2F048B1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A67FE-CFCA-4B85-BCC1-7996953D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7CB-FC80-4A50-A346-22FCA452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31304-833B-4655-9933-EDEFEF02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6BD61-96C0-4880-A64A-0CBD6156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E7F18-0229-4326-996B-52A24DC6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269AB-D000-43D6-B94B-4AD8DE29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2364E-BA2A-479F-9DCE-23A84633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0CC71-C5C1-49EF-9032-96F7EF13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B343A-74B3-47AE-A28D-DA721968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DA9C2-DE4F-4290-A3CF-05F83B6D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A3BB7-EAB6-4833-9885-E9CFDA34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E5A66-77E4-4114-A0C8-473ED566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E47-7518-45C1-9CE2-6F9B7004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B5A21-1C64-4678-9244-BE40AD0A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A7B5F-2F74-4C3D-8759-1A7AABD2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A4418-9FC3-4140-AA1C-BC820586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341D8-83D7-44D0-BE5B-3C04FF10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DE828-125D-4376-BF76-7BADEBF5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8DA2C-27A1-464F-9EB6-DDFC2717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961AB-008E-44F0-9D75-13107676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DBB1B-042C-4542-9566-B52EE38C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18C16-4AD6-472C-A3BA-1478FC72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109E1-6A66-412F-BA1F-91988762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B17-96F9-4E98-93DC-E9C47347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9FC4D-E1E9-4B92-9CB1-2AD7438B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4F123-6D2F-4AC8-89EA-13465785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8B3CE-EA16-4390-AE68-6E3C95D0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57A8D-E21B-4813-ADF7-67D7FCCB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0F691-6606-420C-B8B5-10086C66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72E45-326A-4E8E-9F20-64C726C2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8E980-0142-48DD-BF71-8AFE4025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EEF1D-9C97-49A3-A27B-4ECC7D9D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C18FD-C191-413F-81BD-915451F6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42A44-A7F5-4B31-B086-A4F445E2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A38-D4C3-4567-871C-F2AC18BC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C5EC0-2E0B-44B4-BAB8-C368263C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29996-A44E-4C6A-85A8-32ECF0D3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2FA2E-4CB0-481C-A3A5-F95369DF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189DA-6FF2-4174-A7E5-D0B543D9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F0ADD-04F5-43B5-B191-48D743A3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8B1A9-4C5E-44AC-9D5D-1B4461BA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74D30-3EA4-46A4-8A0F-9C762195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41FAD-7810-40A5-BDC0-20B06460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2BC92-271C-4805-BADF-512B7C37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8009C-FE26-4204-B658-066E5FDB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049-2A2A-48A9-8CB5-01B637A3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E28BE-7D5F-4D90-9A1A-186A248E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62FF4-119C-4B27-A796-6158EE45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C89C7-5E58-48F0-B474-0663FAEE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0F2EB-8E02-4EB2-AAD7-F48A0A0B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32281-E3D6-4319-B67A-D35C0662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3121-F624-4828-9575-C17EA4F8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4AB3-A3E7-47CA-84AB-62E3D6D09AA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F562-9E50-4A43-B41C-F7A4ED946D1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A323-DC4D-4ABC-8580-66DFEE9F011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B902-21F3-4463-BC48-F917182AEED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EE0B-6ADF-422B-A104-70B4003130E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AF63-4B94-4E63-973C-6A46D21C7B4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0FC1-7B94-4BF0-8088-280F799602C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4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Furness y Método Gravita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 los modelos y realizar estimaciones futuras de la matriz origen-desti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mediante el método de Furness la matriz origen-destino fu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que se obtiene utilizando el método gravitacional, co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alice un análisis de sensibilidad para el parámetro beta, es decir,  calcule la matriz con el método gravitacional para diferentes valores de be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e interprete los resultados obtenidos en los puntos anteriores. Desarrolle y redacte bien sus idea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1T19:33:28Z</dcterms:modified>
  <cp:revision>46</cp:revision>
  <dc:subject/>
  <dc:title>Taller I CI43A</dc:title>
</cp:coreProperties>
</file>