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80C1-DA93-4AAF-9347-B11FE1E6B31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0B9-628D-4393-A78D-794D87C7A8B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ABE-20A5-4137-AC05-62462104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2EC-D677-4FF3-874C-4F1BB570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8D1-9980-4967-A1FB-3D8CB91F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9E2-CC5E-4D48-88B3-0FAE5CDE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9227-EAD5-4009-AED9-8B443CCA3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5E49-2A4A-4926-A198-904BCBD9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CD41-00B1-40AF-8852-82BBBBD8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02AC-50A2-4C16-A828-777EFA77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12D7-5AE5-4A11-8E82-2200157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75C9-A8FD-43CB-8C04-1B550259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18D8-7806-43D5-BACE-4B1894D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908-B76D-4DF6-9354-D4E5CDF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E039-4C6F-4BBE-AA34-DC683506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4ABD-5E4D-4255-8D1D-6C6C1786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E4B9-B9CC-40A5-B4AC-53DD5F6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0EF1-E978-4305-BDD7-CEFE87EC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4F39-29F1-4429-BCAD-333C422D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54F5-7169-499F-9C02-E99F9C10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1810-451E-4420-9D2E-D2837143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390F-0013-410E-8097-85EBA315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32732-82CC-428C-8411-2857D0FC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F2D1-A414-46CE-A7C8-0206273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B1B-C4C5-43AB-A190-1DA56415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B98D-F86E-40D7-8A5F-B36EB07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77FE-8790-4222-95F7-63CDBDA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79E3-1177-4579-B3CA-D9BFE51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0210A-0796-45ED-B0C3-0A3C083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29EF-9F54-4AA6-BF16-BE03EAA9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CE191-C8FF-42A1-8786-8757D62C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6A22-EDEC-43DF-8A77-777215D5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A4C9-C4BB-4108-BCAB-8DF24405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8B59-B296-4DA2-81C7-49531051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3775-458C-4A1A-95A9-159906D5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8E04-3F76-4974-9594-AADD7915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12E2-BD10-432B-935C-3EAE3612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E427-C311-4D77-B17A-37C04482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8612-2B39-4B6E-B6A3-36AA8D2E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5C3B-1365-4F65-8B4C-E201931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ACDF-32E3-4B38-BA25-8FD1FFFC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6BAA5-A0AF-4FAC-BA85-4A01ACFE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C687-C0F3-47DD-9DCF-95891862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6A7D-6699-46EA-BC82-EB2C406B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A0F5-03D1-4DD7-AB0A-F95FC9C4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2B989-D21A-4024-8ED6-09D108E4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0D7-00FA-4F70-858E-799B7377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DFB5-E23E-4E2C-9ECC-FF83077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7699-FC04-4046-8282-2894A20F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9C54-F766-4179-B386-5766C993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1E11-4B6D-4A94-AA2C-FDE32CFD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CD8F7-11B1-4470-9C8D-A40F5327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DD1C7-3BC5-4195-90E3-B17D1EA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2E0E6-BC2D-4426-811F-BD00BAE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94EB5-4C0D-4B89-BAEC-BCF1054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5E75-1351-4B0B-ACA3-6CC80F2E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62A7-4A33-43E6-A5E2-5F5A5823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1D1-F032-43E3-B3DC-B0D900E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DEA0-BDA2-4932-B5C2-B779574C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036C-86BF-4A56-BAFA-AB59CBDA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3094-2004-4DBD-B766-74053B90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2110B-CF0B-41EF-8ADB-247DC771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5723C-2DD5-4729-A50A-0ED3085D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F2E1-81DB-4A5F-B53F-6CCE3C7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575D5-715E-4672-9555-04549B2F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4D9DA-AD41-4DD4-B32C-22CBCD81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9CB4-99F6-46D9-838F-A904473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85DA-EDAD-45F5-89A5-4FC47BF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30B-2051-4556-B9E9-E19FF34C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4544-FB2B-467E-8234-7B204BD0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5A778-9852-464B-B10E-96C02652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8F5A1-20A8-4B60-9B95-68AA124C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4B676-85EE-41FF-94BE-B0246059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54AC7-51BE-4B58-9309-40AB291A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19A82-DE30-434A-A26A-4C3D08A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87CC3-D6AB-4A75-82B0-15E113C4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490E6-BCFD-4CF1-9905-11418B7F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63013-EBAA-4A7B-A1B8-F4977346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B35EE-C0DF-4218-A800-775F76A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57F-6D24-4040-A196-0EC204F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73789-B025-4F7D-87A3-12D5ACD8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EA2EB-BA43-4593-A92B-0B630C35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CA16-6844-44E7-907C-13C3D063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A5943-1E99-4B89-A14D-547349D5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1B52-19CE-4595-A1C5-E39B23B6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8BC-817C-4DB3-8C09-65ABEFE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25A6-7FEF-4A03-9FB6-C15162D007E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6011-384C-418F-93F5-043381EF006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6A5-7354-4814-91EC-93B7F57A885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EEE4-7CF8-4957-ACA3-CEFAF8E3104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0F92-1883-430F-BC60-ED82871691D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261E-C090-4757-B89D-C97A00D59EC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7226-8DAA-46D1-93F6-57BF608949C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5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Máxima Entrop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l modelo y realizar estimaciones futuras de la matriz origen-destino utilizando una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lantee el problema de maximización correspondiente a máxima entropía doblemente acotado con restricción de costos y con matriz a prior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suelva y encuentre las ecuaciones para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j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y las ecuaciones de punto fijo que permiten calcular los parámetros A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y B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sta actividad puede ser desarrollada en papel siempre y cuando esté bien ordenado el desarrollo y se anote el los nombres de todos los integrant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futura que resulta de aplicar el método de entropía con matriz a priori desarrollado en la actividad anterior utilizando los datos que se adjunta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los resultados obtenidos en la actividad anterior con los resultados obtenidos en el taller 4 con el método de furness y gravitacional. Realice un análisis e interpretación basado en esta comparación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Recuerde que el modelo gravitacional usado en el taller anterior es equivalente al de máxima entropía doblemente acotado con restricción de cos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5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9T15:57:53Z</dcterms:modified>
  <cp:revision>47</cp:revision>
  <dc:subject/>
  <dc:title>Taller I CI43A</dc:title>
</cp:coreProperties>
</file>