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1B6E-B75C-471D-A497-44026216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826-A897-43B5-998B-530BAB84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BDBB-B11D-46E8-95E6-60045432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D10-6DAA-41DF-9F92-CBD9A3D9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5508-2844-4B9F-9418-7A71CFE9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CEEA-F6E2-4E79-9F55-17362697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36A-8FB6-45D1-A060-B7E43623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672-25C5-4C09-8CB3-9FAA9509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4EBC-20F5-4A81-9418-96F268F3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EB5-E322-4333-A21B-D40605E3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4A33-F55E-441F-93E1-24FE9A33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9B7A-AE44-47FC-9E22-E5BC5B74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753A-FC83-4031-8C77-2624DD60801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5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6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7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8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9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30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31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32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33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4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5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6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1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54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5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6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7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8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0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1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2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Text Box 5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1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Text Box 12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Line 5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7"/>
          <p:cNvSpPr/>
          <p:nvPr/>
        </p:nvSpPr>
        <p:spPr>
          <a:xfrm>
            <a:off x="3505320" y="2514600"/>
            <a:ext cx="4343400" cy="3225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8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1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4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7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0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Text Box 5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6" name="Text Box 7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Text Box 9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3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7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Text Box 9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7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8" name="Text Box 10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Text Box 11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Impacto de la partición modal en el desarrollo de la ciu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9640" y="2276640"/>
            <a:ext cx="8425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qué tipo de ciudad querem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para qué queremos la ciud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hacia qué tipo de ciudad nos estamos movien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se puede hacer algo distin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729560" cy="234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4751280" cy="2496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2627280" y="285264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Informe Ejecutivo EOD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305193596_5e0105ba07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58327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rId2" action="ppaction://hlinksldjump"/>
          </p:cNvPr>
          <p:cNvSpPr/>
          <p:nvPr/>
        </p:nvSpPr>
        <p:spPr>
          <a:xfrm>
            <a:off x="8317080" y="638172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21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9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1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AutoShape 12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3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1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3" name="Text Box 12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8" name="Text Box 9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2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Text Box 13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Text Box 9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2" name="AutoShape 11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 Marcela Munizaga</cp:lastModifiedBy>
  <dcterms:modified xsi:type="dcterms:W3CDTF">2009-09-11T15:12:03Z</dcterms:modified>
  <cp:revision>74</cp:revision>
  <dc:subject/>
  <dc:title>Sin título de diapositiva</dc:title>
</cp:coreProperties>
</file>