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421C-446B-4E8D-BC56-622B78F41DA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B9C8-1995-4990-86BF-FE31ADCE00A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B5D7-CD6C-4BA6-93BA-564692518DC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B4C-A875-4EF8-B5EB-8E6E38D6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9FA-32EB-46E4-B058-DEAD5D7D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184-9D43-4C15-BCDD-6078FDA8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2C8-697E-45D2-898C-80C37F26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2FA9-BF14-4541-B060-F796098D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AF10-9FFF-4B38-AACE-5B6D7391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C473-0C15-4699-9DE9-D60F2A96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4A9B-41EA-4EE3-8C5B-9025A180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0549-942C-405E-9802-C97C00AB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FE2D-08F9-4E8A-935C-CEC7F465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83CF-FD27-47A1-A0D0-168EC900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871-379E-41F0-B1F5-CA789E01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31B9-3AAF-4412-A6A6-C11CA0F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E47B-6D90-4002-8B56-3B86DC12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10B7-9879-49C3-ADE3-B12D9C63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8C41-9B59-4D5E-98AE-2026E5C8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3909-383F-452E-A387-E78730CC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5EB9C-6D7E-4F97-B696-39D11D47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83199-31B9-466E-BF91-8EC6CDFB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22A02-D502-4150-B2FD-9C7EAEBC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63F3-A71D-404B-BE3F-94112B11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07BC-445F-432B-83C7-FBEB00D1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5DF-8DBC-4F9D-B178-8C3EF196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7A53-36CC-4535-80C4-773AF0DB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2E6D-14E4-4C89-AD2B-2A10F70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306F-7E12-4678-8BA1-8A57022D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472C-348A-46A4-A8DC-B3F68C97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B57C-5931-4E1C-BCA0-003846F0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0B88-E542-4B39-B79C-9FA5AFC9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2EE7-BF98-4B17-9360-670DD86E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629F1-45FA-45F8-A48D-97ACC776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E963-959C-4F47-A9DD-51599143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3F1A8-3FEA-4129-BBD3-5C19B5F2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B29-F024-4EC5-8FFF-98ECF6ED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2344-AAB3-480B-AD52-625BC3FB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9A003-B2F1-45A7-B946-638595A4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6B0E-F812-45C6-A67D-CC11AAAF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F129-9219-43A3-863F-A337E4C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C6E30-1A1C-49C7-873E-CCF25EAC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E2A1E-2F89-4A2F-907A-E29F9D4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A92C-BDA4-4469-8B98-6922066C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49D40-98A4-4259-A288-65C2DAB0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DAD6-61A0-40F2-97A3-AD236B17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CA69-0EA6-4096-A097-C0549F99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A75-5082-46CE-A2CF-3CB3E070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3291C-2027-40EE-80DF-693A0684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DE4D-BC34-45F9-B113-6EB1235F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68FAE-9211-49FF-9E7D-101633B7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761D4-B3A7-4727-8A7F-C361C269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C4B7F-E12F-4909-8102-51025F56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6E822-5DDD-46FB-8B8B-2B50E188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70028-9F25-495F-9B14-B8FEA048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11EE-A812-41CC-A201-CF7F36EE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9138E-57CE-4BB1-8589-5EA25FD9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AD746-4B39-4B2E-8B80-E8329D53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052-819A-4002-968E-B0B74A58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E6A4F-C548-40D8-9EEE-056D29E7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497EA-E84B-43EB-955F-C9C95226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153F3-4BD7-4189-8674-04787524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4F2A8-083C-44C9-8D41-34CD2F46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28CCF-F77D-4690-8902-DC57575F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D3A72-8F62-45FA-A56C-B34D3858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6B4A4-A2A5-4B0F-AC20-D634A165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8EBA4-AB32-4730-813A-04F56981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FD8D6-9454-4ABE-925E-D4B16301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903E1-2DE3-4309-8F1B-212B1546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C53-C438-4318-92C3-27A9273A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E8766-E707-4CDE-87A5-228BF341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07E16-5C95-4DE7-ABCB-E48ED1ED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37F26-5096-4118-97AC-B61579C9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DCAA7-66A8-41E6-8D20-8F83D9AD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4AB73-28D5-4121-BB6E-18A37192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D2210-225A-401B-811C-E72E748B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C32F2-CE4F-4D02-8307-A88A6C39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4BDF-8863-4E34-BD2D-B4A5BF4F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24229-78E2-4122-9379-3722EFD4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96002-8565-4FDA-BE17-490F5225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41E-F22C-4CF1-85FE-69580355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F155-7936-4550-A5E1-04CAB5A0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F42B9-1BF8-4703-BE06-24C27F99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2B068-6E0E-4B1F-9572-28DFFA11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DE55D-EAA4-429E-B132-868BEF6B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B3444-7CB9-4DE9-A7F7-B0960953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A58-0823-4B86-85C0-232B0E61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E8B3-A2E7-4924-A69F-4A0BC2E65E3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904C-57C0-4D00-B39C-31CB0A72ABA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62A2-D1E5-448D-9ED5-19A23C64132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E6F1-452D-4CED-8948-DA0FAC11EB3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76AA-036E-45B1-AC86-6AD593B4D0A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6758-95E9-4D90-B0B0-65D967EA5B0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15A8-23CE-4DAF-B239-E3DA01658F8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6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1285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sidere que existen tres modos de transporte: auto, bus y metro.  Además se tienen las siguiente funciones de utilidad para cada mod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aut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1,579 - 0,0113 *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bu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-0,0482 * TCAM – 0,0274 * TESP - 0,0113 * 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0,2542 -0,0482 * TCAM – 0,0274 * TESP - 0,0113 * TV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2 Marcador de contenido"/>
          <p:cNvSpPr/>
          <p:nvPr/>
        </p:nvSpPr>
        <p:spPr>
          <a:xfrm>
            <a:off x="1214280" y="507204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ce como valores de las variables las que observa diariamente en un viaje a la universidad en un mismo período de tiempo para cada uno de los integrant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3920" y="128556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las probabilidades para cada individuo de elegir cada una de las alternativ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Modificando las observaciones responda las siguientes pregunt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do se alcanzan los valores límite de la probabilidad    (0 y 1)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l es el efecto de la componente aleatoria representada p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? Evalúe en caso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 grande, muy pequeño e intermedi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De qué depende la razón entre las probabilidades de dos alternativ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omente acerca de los valores de las constantes modales de las funciones de utilidad especificadas. ¿Qué significa que la constante de un modo sea mayor o menor que la de otro mod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lcule las proporciones entre los valor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de los tiempos. Interprete los result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23T16:29:33Z</dcterms:modified>
  <cp:revision>61</cp:revision>
  <dc:subject/>
  <dc:title>Taller I CI43A</dc:title>
</cp:coreProperties>
</file>