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57E8-1784-4460-9689-85930F6112A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DEA4-88CF-447B-B9CD-526E29BA664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E559-BC29-4EBC-9623-B8862E783CD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5F7A-D5A8-4A56-BB69-D365070A1A6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ED85-F873-4395-A315-F551779C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CB85-7A67-4BC6-BEFE-C711BC3F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E59-9CCB-486F-971F-A1E14CBE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9AB-D7CC-4E38-90FB-94DFC1CE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11C8-02EB-486C-88FE-B83C4E91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B1F5-2DAB-4766-9CD4-36EED571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77DB-04AD-4DBF-A757-58E29F66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F76B-E237-45C9-B843-B2D74D79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87D2-F8FC-420E-9D93-524CE773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8636-FFF6-49EB-87B3-1A098157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F879-B6A2-4937-B482-4742BD45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C435-4D65-447C-8D5E-F6B1E7C1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18E3-5FB8-4E16-BC26-D0935953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6F13-1F0F-4FE4-8000-34147D3C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DA2C-A221-4A8F-ABDD-1BC5A534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607F-4841-4D0F-9847-5E9C3E00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C34E-BBE0-4D80-86C4-B5B23FD8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89C9B-B338-472B-B614-29C93FD9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40279-81A7-4788-B6E8-ED53547B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3DEA7-8A0B-4024-BD50-A1D8E6FD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451C8-7238-4428-BA94-34603423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C3FC6-F44A-4F2B-A039-7D8129C6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02CE-88AD-4B1C-915D-4B35AB1D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DA559-A147-4DCB-8467-CBDCE695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99BD2-02F0-4543-88EC-47A6BB47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AD8BE-2A98-482E-90BE-9D79748F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53691-838D-4481-8606-F048F5F3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A4C37-C259-46D4-A0EE-3E5EEE30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F9606-0981-4021-B052-CA0D233A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4984D-6754-429F-9A2A-5D89CE59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EAE6A-E226-4C0D-A715-ECD0CE0A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D37D6-6741-444C-9763-AD21B52D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70D80-8B16-4FE3-B48E-2F6D786E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DBC2-F5F3-455B-8531-23A12E78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475DD-7BA7-44D6-9FA3-399791C5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A9F1C-1EB4-4440-8771-2939E7E3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E4486-22B4-4BB8-B01E-9A8F9924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CEAA8-21AD-47CE-A18F-0E23CF99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A0120-12A3-4DB8-A08E-7F41ABC6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E97BF-3D18-4475-A889-C6464356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4124A-950F-4A62-BC9B-60724FF8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75C7C-C5A8-4BA8-AE17-F752639D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0F248-D79D-4D9F-8168-918DF9F8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7C3F0-A229-45F1-B8F4-63F6DF25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1B81-6A78-4862-A9B8-00C49426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4C6F2-19CD-421D-8B90-E9DB4983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E4CC2-26F9-44A2-BBA7-07F7B88D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0823D-9451-4D0C-9E8F-D143F095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CE0B0-CB1C-467C-BB95-704A26EF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426C4-9157-4196-B728-DD3F52A5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1A068-7952-45C5-AF46-BF3B5701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A5D3F-DEF2-4BB5-99C4-587A9A60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D25F7-8F0F-47F2-A090-4FA3EA38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AB4C7-3EC0-4B33-BED7-75E6093E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10E88-99B4-4581-A5CA-D89DC337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B663-2641-4365-8879-5E5DDDB3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43470-393E-4FB1-88D9-CBC254C0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58F9F-ED98-4581-9350-3C74F9FD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E82E0-A2CB-4E95-87C2-5F9E76D2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32F66-4E70-44FE-975A-C31BD8F7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113F5-C2EB-485D-AD8F-5CC04332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E854A-E9CD-4DB7-8DDD-D35D1785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C7144-0B71-486B-BD8F-5DC43963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F3D21-A819-47EA-B7B5-AF9AF993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AF201-ABC3-4DA0-84ED-1A24C543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AD77A-C2AE-4609-8DC8-96233FF7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EE23-2CBF-4E4C-AAD5-AA626C99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4C05E-EAB9-4B8F-91A8-C151A2E0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76E3C-F77E-410C-93FF-A30506BB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EF76F-A9CF-4F87-B8F9-7B7D5DB1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4E14F-4547-4BF2-AD2B-17BA59AE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456F5-A2BE-4B17-A83E-7247C0A9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90120-B6F4-4327-9A6B-061B949D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7CEE5-49A1-48C6-ADC9-FE1D15D4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814CA-E895-4467-BF1E-1F37A69D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67A2D-988D-4D05-952A-60FAD0C9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EA7EA-E28B-4D37-9DF4-446796A3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073B-9172-4E04-907A-A8A6EB98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D8575-8B44-44EE-840F-F610136A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A8C94-0482-4E9C-B388-1B5C534F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D4600-2C42-4C02-95FA-8CA11EA7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710BE-A502-4008-9569-0E9AA26D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FFBB0-E66A-4716-98DA-49C2CA7E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D8C1-0562-44C4-8D96-9D5EFC1E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5075-48C3-421D-A110-7B95B162DCC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BFDF-8A2D-4F2D-8F07-F5565418D82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7D47-72C2-4D10-BA63-81D3BA71BCE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09A8-A8CE-4022-BDD8-AB481863224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23A9-7569-4545-8708-DFBC4394DA9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3BB5-BEDE-41F1-8514-77FA5599B64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273C-5134-4100-9D6D-E417A3465F0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7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35720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artición Modal: Modelo Logit Multinomi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 Explorar propiedades del modelo.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Calcular elasticidades, hacer un análisis de resultados e interpreta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alcular la elasticidad cruzada de la probabilidad de elegir auto chofer con respecto al tiempo generalizado del bu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Realice el mismo cálculo pero con respecto al costo del bus y con respecto al costo del metr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ara evaluar las elasticidades utilice una estimación de los valores promedio para las distintas variabl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Tenga en consideración que los modelos están calibrados para el año 2001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i es necesario haga los cálculos para los cinco estratos existent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Haga un análisis detallado de los resultados de las elasticidades y de las elasticidades cruzad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Interprete y saque conclusiones de acuerdo al análisis realizad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ara desarrollar estas actividades es fundamental hacer una buena comparación de las elasticidad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16000" y="1628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7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cálcul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 la nota del taller se considera puntaje por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 partir de los datos obtenidos de la encuesta Origen-Destino 2001 se calibraron modelos de partición modal para la ciudad de Santiag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a población fue estratificada en 5 categorías de ingreso cuya segmentación es la siguient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1"/>
          <a:stretch/>
        </p:blipFill>
        <p:spPr>
          <a:xfrm>
            <a:off x="1268280" y="3857760"/>
            <a:ext cx="76042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A continuación se detalla el modelo correspondiente al propósito trabajo y período punta mañana y también se muestra la partición modal observada de la encuest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La notación utilizada 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M: punta maña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FP: fuera de pun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Las variables son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1928880" y="2214720"/>
            <a:ext cx="61675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1714680" y="1214280"/>
            <a:ext cx="55004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2 Marcador de contenido"/>
          <p:cNvSpPr/>
          <p:nvPr/>
        </p:nvSpPr>
        <p:spPr>
          <a:xfrm>
            <a:off x="1285920" y="4786200"/>
            <a:ext cx="7358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143000" y="1500120"/>
            <a:ext cx="75009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2714760" y="1071720"/>
            <a:ext cx="52038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2000160" y="1176480"/>
            <a:ext cx="686268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alcular la elasticidad de la probabilidad de elegir un modo con respecto a la variable costo del mismo modo y la variable tiempo generalizado del mismo modo. Esto debe realizarse para todos los modos posibl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alcular la elasticidad cruzada de la probabilidad de elegir bus con respecto al costo del metro y con respecto al tiempo generalizado del metro y del automóvil (auto chofer y auto acompañant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10-02T17:43:26Z</dcterms:modified>
  <cp:revision>80</cp:revision>
  <dc:subject/>
  <dc:title>Taller I CI43A</dc:title>
</cp:coreProperties>
</file>